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211-71DB-49F3-89D1-AD6F1CF5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444-75F1-4513-B4AF-CC849509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FF0-0CD3-4F41-8D38-177D5A26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026-D556-487A-BD0D-65CE6C85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F1B-B8F4-4783-9B0F-5506891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49E-F818-48AE-B14E-6F27387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2C5-B845-49C6-A3ED-F4626170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00B-85CE-48C6-A7CC-EA14971A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E6F-1192-476E-AD16-593E9215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721-4F62-415E-959B-48F79872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2CF-44F2-4A9C-85EC-34FC30D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16E-3B3C-4F4E-8585-11654F61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6AF0-3E8A-432E-BEC6-4D8262D6C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Warm-up:  Write each number below in 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standard</a:t>
            </a: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exponential</a:t>
            </a: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) 7,000 + 300 + 20 +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) 40,000 + 800 + 6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) 90,000 + 700 + 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2089080"/>
            <a:ext cx="608040" cy="393840"/>
          </a:xfrm>
          <a:custGeom>
            <a:avLst/>
            <a:gdLst/>
            <a:ahLst/>
            <a:rect l="l" t="t" r="r" b="b"/>
            <a:pathLst>
              <a:path w="1687" h="1093">
                <a:moveTo>
                  <a:pt x="5035" y="6201"/>
                </a:moveTo>
                <a:cubicBezTo>
                  <a:pt x="5023" y="6417"/>
                  <a:pt x="5003" y="6621"/>
                  <a:pt x="4911" y="6821"/>
                </a:cubicBezTo>
                <a:cubicBezTo>
                  <a:pt x="4903" y="6829"/>
                  <a:pt x="4895" y="6838"/>
                  <a:pt x="4887" y="6846"/>
                </a:cubicBezTo>
              </a:path>
              <a:path w="1687" h="1093">
                <a:moveTo>
                  <a:pt x="6375" y="5804"/>
                </a:moveTo>
                <a:cubicBezTo>
                  <a:pt x="6536" y="6067"/>
                  <a:pt x="6697" y="6391"/>
                  <a:pt x="6499" y="6697"/>
                </a:cubicBezTo>
                <a:cubicBezTo>
                  <a:pt x="6396" y="6856"/>
                  <a:pt x="6256" y="6883"/>
                  <a:pt x="6102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60640" y="2125800"/>
            <a:ext cx="1081080" cy="455400"/>
          </a:xfrm>
          <a:custGeom>
            <a:avLst/>
            <a:gdLst/>
            <a:ahLst/>
            <a:rect l="l" t="t" r="r" b="b"/>
            <a:pathLst>
              <a:path w="3002" h="1266">
                <a:moveTo>
                  <a:pt x="3621" y="5928"/>
                </a:moveTo>
                <a:cubicBezTo>
                  <a:pt x="3619" y="5930"/>
                  <a:pt x="3375" y="6249"/>
                  <a:pt x="3349" y="6300"/>
                </a:cubicBezTo>
                <a:cubicBezTo>
                  <a:pt x="3201" y="6591"/>
                  <a:pt x="3214" y="6782"/>
                  <a:pt x="3324" y="7069"/>
                </a:cubicBezTo>
                <a:cubicBezTo>
                  <a:pt x="3350" y="7137"/>
                  <a:pt x="3352" y="7154"/>
                  <a:pt x="3398" y="7169"/>
                </a:cubicBezTo>
              </a:path>
              <a:path w="3002" h="1266">
                <a:moveTo>
                  <a:pt x="3770" y="6152"/>
                </a:moveTo>
                <a:cubicBezTo>
                  <a:pt x="3915" y="6152"/>
                  <a:pt x="4047" y="6160"/>
                  <a:pt x="4192" y="6152"/>
                </a:cubicBezTo>
                <a:cubicBezTo>
                  <a:pt x="4209" y="6152"/>
                  <a:pt x="4225" y="6152"/>
                  <a:pt x="4242" y="6152"/>
                </a:cubicBezTo>
                <a:cubicBezTo>
                  <a:pt x="4149" y="6338"/>
                  <a:pt x="4054" y="6520"/>
                  <a:pt x="3944" y="6697"/>
                </a:cubicBezTo>
                <a:cubicBezTo>
                  <a:pt x="3927" y="6722"/>
                  <a:pt x="3911" y="6747"/>
                  <a:pt x="3894" y="6772"/>
                </a:cubicBezTo>
              </a:path>
              <a:path w="3002" h="1266">
                <a:moveTo>
                  <a:pt x="4490" y="6300"/>
                </a:moveTo>
                <a:cubicBezTo>
                  <a:pt x="4513" y="6446"/>
                  <a:pt x="4592" y="6563"/>
                  <a:pt x="4638" y="6697"/>
                </a:cubicBezTo>
                <a:cubicBezTo>
                  <a:pt x="4660" y="6762"/>
                  <a:pt x="4628" y="6797"/>
                  <a:pt x="4688" y="6722"/>
                </a:cubicBezTo>
              </a:path>
              <a:path w="3002" h="1266">
                <a:moveTo>
                  <a:pt x="4812" y="6176"/>
                </a:moveTo>
                <a:cubicBezTo>
                  <a:pt x="4649" y="6393"/>
                  <a:pt x="4516" y="6660"/>
                  <a:pt x="4316" y="6846"/>
                </a:cubicBezTo>
                <a:cubicBezTo>
                  <a:pt x="4316" y="6838"/>
                  <a:pt x="4316" y="6829"/>
                  <a:pt x="4316" y="6821"/>
                </a:cubicBezTo>
              </a:path>
              <a:path w="3002" h="1266">
                <a:moveTo>
                  <a:pt x="5457" y="6226"/>
                </a:moveTo>
                <a:cubicBezTo>
                  <a:pt x="5342" y="6255"/>
                  <a:pt x="5240" y="6478"/>
                  <a:pt x="5209" y="6573"/>
                </a:cubicBezTo>
                <a:cubicBezTo>
                  <a:pt x="5187" y="6726"/>
                  <a:pt x="5169" y="6764"/>
                  <a:pt x="5234" y="6846"/>
                </a:cubicBezTo>
                <a:cubicBezTo>
                  <a:pt x="5467" y="6818"/>
                  <a:pt x="5699" y="6778"/>
                  <a:pt x="5680" y="6474"/>
                </a:cubicBezTo>
                <a:cubicBezTo>
                  <a:pt x="5674" y="6370"/>
                  <a:pt x="5580" y="6325"/>
                  <a:pt x="5507" y="6300"/>
                </a:cubicBezTo>
              </a:path>
              <a:path w="3002" h="1266">
                <a:moveTo>
                  <a:pt x="5978" y="6003"/>
                </a:moveTo>
                <a:cubicBezTo>
                  <a:pt x="6030" y="5985"/>
                  <a:pt x="6204" y="5900"/>
                  <a:pt x="6127" y="6052"/>
                </a:cubicBezTo>
                <a:cubicBezTo>
                  <a:pt x="6081" y="6098"/>
                  <a:pt x="6069" y="6113"/>
                  <a:pt x="6028" y="6127"/>
                </a:cubicBezTo>
                <a:cubicBezTo>
                  <a:pt x="6170" y="6138"/>
                  <a:pt x="6291" y="6164"/>
                  <a:pt x="6176" y="6325"/>
                </a:cubicBezTo>
                <a:cubicBezTo>
                  <a:pt x="6084" y="6454"/>
                  <a:pt x="6021" y="6395"/>
                  <a:pt x="5904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27200" y="2276640"/>
            <a:ext cx="9720" cy="161640"/>
          </a:xfrm>
          <a:custGeom>
            <a:avLst/>
            <a:gdLst/>
            <a:ahLst/>
            <a:rect l="l" t="t" r="r" b="b"/>
            <a:pathLst>
              <a:path w="26" h="448">
                <a:moveTo>
                  <a:pt x="7045" y="6325"/>
                </a:moveTo>
                <a:cubicBezTo>
                  <a:pt x="7033" y="6482"/>
                  <a:pt x="7025" y="6615"/>
                  <a:pt x="7045" y="6772"/>
                </a:cubicBezTo>
                <a:cubicBezTo>
                  <a:pt x="7045" y="6764"/>
                  <a:pt x="7045" y="6755"/>
                  <a:pt x="7045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03720" y="1731960"/>
            <a:ext cx="1090440" cy="430200"/>
          </a:xfrm>
          <a:custGeom>
            <a:avLst/>
            <a:gdLst/>
            <a:ahLst/>
            <a:rect l="l" t="t" r="r" b="b"/>
            <a:pathLst>
              <a:path w="3027" h="1192">
                <a:moveTo>
                  <a:pt x="9178" y="4986"/>
                </a:moveTo>
                <a:cubicBezTo>
                  <a:pt x="9186" y="5011"/>
                  <a:pt x="9195" y="5035"/>
                  <a:pt x="9203" y="5060"/>
                </a:cubicBezTo>
                <a:cubicBezTo>
                  <a:pt x="9203" y="4997"/>
                  <a:pt x="9180" y="4886"/>
                  <a:pt x="9227" y="4862"/>
                </a:cubicBezTo>
                <a:cubicBezTo>
                  <a:pt x="9290" y="4830"/>
                  <a:pt x="9573" y="4839"/>
                  <a:pt x="9674" y="4812"/>
                </a:cubicBezTo>
                <a:cubicBezTo>
                  <a:pt x="9682" y="4812"/>
                  <a:pt x="9691" y="4812"/>
                  <a:pt x="9699" y="4812"/>
                </a:cubicBezTo>
                <a:cubicBezTo>
                  <a:pt x="9659" y="5101"/>
                  <a:pt x="9541" y="5370"/>
                  <a:pt x="9475" y="5655"/>
                </a:cubicBezTo>
                <a:cubicBezTo>
                  <a:pt x="9458" y="5779"/>
                  <a:pt x="9450" y="5787"/>
                  <a:pt x="9451" y="5854"/>
                </a:cubicBezTo>
              </a:path>
              <a:path w="3027" h="1192">
                <a:moveTo>
                  <a:pt x="9748" y="5680"/>
                </a:moveTo>
                <a:cubicBezTo>
                  <a:pt x="9748" y="5788"/>
                  <a:pt x="9748" y="5895"/>
                  <a:pt x="9748" y="6003"/>
                </a:cubicBezTo>
              </a:path>
              <a:path w="3027" h="1192">
                <a:moveTo>
                  <a:pt x="10145" y="4887"/>
                </a:moveTo>
                <a:cubicBezTo>
                  <a:pt x="10213" y="4819"/>
                  <a:pt x="10426" y="4788"/>
                  <a:pt x="10517" y="4887"/>
                </a:cubicBezTo>
                <a:cubicBezTo>
                  <a:pt x="10629" y="5008"/>
                  <a:pt x="10434" y="5123"/>
                  <a:pt x="10368" y="5184"/>
                </a:cubicBezTo>
                <a:cubicBezTo>
                  <a:pt x="10501" y="5134"/>
                  <a:pt x="10496" y="5170"/>
                  <a:pt x="10616" y="5234"/>
                </a:cubicBezTo>
                <a:cubicBezTo>
                  <a:pt x="10582" y="5462"/>
                  <a:pt x="10496" y="5630"/>
                  <a:pt x="10220" y="5556"/>
                </a:cubicBezTo>
                <a:cubicBezTo>
                  <a:pt x="10179" y="5531"/>
                  <a:pt x="10137" y="5507"/>
                  <a:pt x="10096" y="5482"/>
                </a:cubicBezTo>
              </a:path>
              <a:path w="3027" h="1192">
                <a:moveTo>
                  <a:pt x="11013" y="4887"/>
                </a:moveTo>
                <a:cubicBezTo>
                  <a:pt x="11199" y="4794"/>
                  <a:pt x="11373" y="4842"/>
                  <a:pt x="11385" y="5110"/>
                </a:cubicBezTo>
                <a:cubicBezTo>
                  <a:pt x="11396" y="5348"/>
                  <a:pt x="11135" y="5611"/>
                  <a:pt x="10889" y="5531"/>
                </a:cubicBezTo>
                <a:cubicBezTo>
                  <a:pt x="10873" y="5506"/>
                  <a:pt x="10856" y="5482"/>
                  <a:pt x="10840" y="5457"/>
                </a:cubicBezTo>
                <a:cubicBezTo>
                  <a:pt x="10966" y="5299"/>
                  <a:pt x="11100" y="5358"/>
                  <a:pt x="11261" y="5482"/>
                </a:cubicBezTo>
                <a:cubicBezTo>
                  <a:pt x="11315" y="5524"/>
                  <a:pt x="11361" y="5659"/>
                  <a:pt x="11361" y="5631"/>
                </a:cubicBezTo>
              </a:path>
              <a:path w="3027" h="1192">
                <a:moveTo>
                  <a:pt x="12105" y="4837"/>
                </a:moveTo>
                <a:cubicBezTo>
                  <a:pt x="11986" y="4871"/>
                  <a:pt x="11951" y="4886"/>
                  <a:pt x="11832" y="4862"/>
                </a:cubicBezTo>
                <a:cubicBezTo>
                  <a:pt x="11785" y="4853"/>
                  <a:pt x="11704" y="5038"/>
                  <a:pt x="11683" y="5085"/>
                </a:cubicBezTo>
                <a:cubicBezTo>
                  <a:pt x="11675" y="5110"/>
                  <a:pt x="11666" y="5134"/>
                  <a:pt x="11658" y="5159"/>
                </a:cubicBezTo>
                <a:cubicBezTo>
                  <a:pt x="11795" y="5146"/>
                  <a:pt x="11917" y="5092"/>
                  <a:pt x="12055" y="5135"/>
                </a:cubicBezTo>
                <a:cubicBezTo>
                  <a:pt x="12278" y="5205"/>
                  <a:pt x="12200" y="5384"/>
                  <a:pt x="12055" y="5482"/>
                </a:cubicBezTo>
                <a:cubicBezTo>
                  <a:pt x="11917" y="5575"/>
                  <a:pt x="11821" y="5509"/>
                  <a:pt x="11683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963800"/>
            <a:ext cx="5216400" cy="546120"/>
          </a:xfrm>
          <a:custGeom>
            <a:avLst/>
            <a:gdLst/>
            <a:ahLst/>
            <a:rect l="l" t="t" r="r" b="b"/>
            <a:pathLst>
              <a:path w="14487" h="1514">
                <a:moveTo>
                  <a:pt x="6846" y="6524"/>
                </a:moveTo>
                <a:cubicBezTo>
                  <a:pt x="6988" y="6556"/>
                  <a:pt x="7096" y="6539"/>
                  <a:pt x="7243" y="6524"/>
                </a:cubicBezTo>
              </a:path>
              <a:path w="14487" h="1514">
                <a:moveTo>
                  <a:pt x="7962" y="6028"/>
                </a:moveTo>
                <a:cubicBezTo>
                  <a:pt x="7858" y="6236"/>
                  <a:pt x="7539" y="6710"/>
                  <a:pt x="7739" y="6945"/>
                </a:cubicBezTo>
                <a:cubicBezTo>
                  <a:pt x="7780" y="6953"/>
                  <a:pt x="7822" y="6962"/>
                  <a:pt x="7863" y="6970"/>
                </a:cubicBezTo>
              </a:path>
              <a:path w="14487" h="1514">
                <a:moveTo>
                  <a:pt x="9079" y="6251"/>
                </a:moveTo>
                <a:cubicBezTo>
                  <a:pt x="8961" y="6428"/>
                  <a:pt x="8887" y="6599"/>
                  <a:pt x="8806" y="6796"/>
                </a:cubicBezTo>
              </a:path>
              <a:path w="14487" h="1514">
                <a:moveTo>
                  <a:pt x="9426" y="6276"/>
                </a:moveTo>
                <a:cubicBezTo>
                  <a:pt x="9410" y="6494"/>
                  <a:pt x="9381" y="6691"/>
                  <a:pt x="9302" y="6896"/>
                </a:cubicBezTo>
              </a:path>
              <a:path w="14487" h="1514">
                <a:moveTo>
                  <a:pt x="10765" y="5730"/>
                </a:moveTo>
                <a:cubicBezTo>
                  <a:pt x="11038" y="5928"/>
                  <a:pt x="11278" y="6267"/>
                  <a:pt x="11187" y="6648"/>
                </a:cubicBezTo>
                <a:cubicBezTo>
                  <a:pt x="11064" y="6819"/>
                  <a:pt x="11026" y="6876"/>
                  <a:pt x="10864" y="6871"/>
                </a:cubicBezTo>
              </a:path>
              <a:path w="14487" h="1514">
                <a:moveTo>
                  <a:pt x="12626" y="5953"/>
                </a:moveTo>
                <a:cubicBezTo>
                  <a:pt x="12574" y="6077"/>
                  <a:pt x="12202" y="6782"/>
                  <a:pt x="12551" y="6846"/>
                </a:cubicBezTo>
                <a:cubicBezTo>
                  <a:pt x="12601" y="6829"/>
                  <a:pt x="12650" y="6813"/>
                  <a:pt x="12700" y="6796"/>
                </a:cubicBezTo>
              </a:path>
              <a:path w="14487" h="1514">
                <a:moveTo>
                  <a:pt x="13519" y="6300"/>
                </a:moveTo>
                <a:cubicBezTo>
                  <a:pt x="13594" y="6471"/>
                  <a:pt x="13632" y="6702"/>
                  <a:pt x="13816" y="6648"/>
                </a:cubicBezTo>
              </a:path>
              <a:path w="14487" h="1514">
                <a:moveTo>
                  <a:pt x="13816" y="6127"/>
                </a:moveTo>
                <a:cubicBezTo>
                  <a:pt x="13701" y="6301"/>
                  <a:pt x="13588" y="6477"/>
                  <a:pt x="13469" y="6648"/>
                </a:cubicBezTo>
              </a:path>
              <a:path w="14487" h="1514">
                <a:moveTo>
                  <a:pt x="15503" y="5680"/>
                </a:moveTo>
                <a:cubicBezTo>
                  <a:pt x="15614" y="5989"/>
                  <a:pt x="15804" y="6326"/>
                  <a:pt x="15627" y="6648"/>
                </a:cubicBezTo>
                <a:cubicBezTo>
                  <a:pt x="15526" y="6749"/>
                  <a:pt x="15516" y="6780"/>
                  <a:pt x="15429" y="6796"/>
                </a:cubicBezTo>
              </a:path>
              <a:path w="14487" h="1514">
                <a:moveTo>
                  <a:pt x="16371" y="6350"/>
                </a:moveTo>
                <a:cubicBezTo>
                  <a:pt x="16519" y="6375"/>
                  <a:pt x="16568" y="6383"/>
                  <a:pt x="16669" y="6375"/>
                </a:cubicBezTo>
              </a:path>
              <a:path w="14487" h="1514">
                <a:moveTo>
                  <a:pt x="16669" y="6375"/>
                </a:moveTo>
                <a:lnTo>
                  <a:pt x="16669" y="6375"/>
                </a:lnTo>
              </a:path>
              <a:path w="14487" h="1514">
                <a:moveTo>
                  <a:pt x="17487" y="5953"/>
                </a:moveTo>
                <a:cubicBezTo>
                  <a:pt x="17442" y="6042"/>
                  <a:pt x="17001" y="6748"/>
                  <a:pt x="17363" y="6796"/>
                </a:cubicBezTo>
                <a:cubicBezTo>
                  <a:pt x="17396" y="6780"/>
                  <a:pt x="17429" y="6763"/>
                  <a:pt x="17462" y="6747"/>
                </a:cubicBezTo>
              </a:path>
              <a:path w="14487" h="1514">
                <a:moveTo>
                  <a:pt x="18678" y="6127"/>
                </a:moveTo>
                <a:cubicBezTo>
                  <a:pt x="18704" y="6290"/>
                  <a:pt x="18730" y="6439"/>
                  <a:pt x="18777" y="6598"/>
                </a:cubicBezTo>
              </a:path>
              <a:path w="14487" h="1514">
                <a:moveTo>
                  <a:pt x="18976" y="6152"/>
                </a:moveTo>
                <a:cubicBezTo>
                  <a:pt x="18802" y="6287"/>
                  <a:pt x="18639" y="6422"/>
                  <a:pt x="18479" y="6573"/>
                </a:cubicBezTo>
              </a:path>
              <a:path w="14487" h="1514">
                <a:moveTo>
                  <a:pt x="20985" y="5457"/>
                </a:moveTo>
                <a:cubicBezTo>
                  <a:pt x="21227" y="5784"/>
                  <a:pt x="21429" y="6196"/>
                  <a:pt x="21282" y="6623"/>
                </a:cubicBezTo>
                <a:cubicBezTo>
                  <a:pt x="21232" y="6769"/>
                  <a:pt x="21085" y="6837"/>
                  <a:pt x="20960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1320" y="2268360"/>
            <a:ext cx="330480" cy="196920"/>
          </a:xfrm>
          <a:custGeom>
            <a:avLst/>
            <a:gdLst/>
            <a:ahLst/>
            <a:rect l="l" t="t" r="r" b="b"/>
            <a:pathLst>
              <a:path w="919" h="547">
                <a:moveTo>
                  <a:pt x="8086" y="6300"/>
                </a:moveTo>
                <a:cubicBezTo>
                  <a:pt x="8148" y="6305"/>
                  <a:pt x="8613" y="6308"/>
                  <a:pt x="8434" y="6474"/>
                </a:cubicBezTo>
                <a:cubicBezTo>
                  <a:pt x="8360" y="6542"/>
                  <a:pt x="8076" y="6548"/>
                  <a:pt x="8235" y="6548"/>
                </a:cubicBezTo>
                <a:cubicBezTo>
                  <a:pt x="8400" y="6610"/>
                  <a:pt x="8441" y="6610"/>
                  <a:pt x="8508" y="6697"/>
                </a:cubicBezTo>
                <a:cubicBezTo>
                  <a:pt x="8356" y="6874"/>
                  <a:pt x="8251" y="6913"/>
                  <a:pt x="8136" y="6722"/>
                </a:cubicBezTo>
              </a:path>
              <a:path w="919" h="547">
                <a:moveTo>
                  <a:pt x="8830" y="6325"/>
                </a:moveTo>
                <a:cubicBezTo>
                  <a:pt x="8882" y="6462"/>
                  <a:pt x="8959" y="6601"/>
                  <a:pt x="9004" y="6747"/>
                </a:cubicBezTo>
                <a:cubicBezTo>
                  <a:pt x="9004" y="6772"/>
                  <a:pt x="9004" y="6780"/>
                  <a:pt x="9004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83000" y="2205000"/>
            <a:ext cx="401760" cy="304920"/>
          </a:xfrm>
          <a:custGeom>
            <a:avLst/>
            <a:gdLst/>
            <a:ahLst/>
            <a:rect l="l" t="t" r="r" b="b"/>
            <a:pathLst>
              <a:path w="1117" h="844">
                <a:moveTo>
                  <a:pt x="9897" y="6449"/>
                </a:moveTo>
                <a:cubicBezTo>
                  <a:pt x="9805" y="6610"/>
                  <a:pt x="9729" y="6747"/>
                  <a:pt x="9674" y="6921"/>
                </a:cubicBezTo>
                <a:cubicBezTo>
                  <a:pt x="9850" y="6958"/>
                  <a:pt x="10171" y="6927"/>
                  <a:pt x="10220" y="6672"/>
                </a:cubicBezTo>
                <a:cubicBezTo>
                  <a:pt x="10248" y="6523"/>
                  <a:pt x="10048" y="6460"/>
                  <a:pt x="9947" y="6449"/>
                </a:cubicBezTo>
              </a:path>
              <a:path w="1117" h="844">
                <a:moveTo>
                  <a:pt x="10542" y="6152"/>
                </a:moveTo>
                <a:cubicBezTo>
                  <a:pt x="10571" y="6152"/>
                  <a:pt x="10788" y="6270"/>
                  <a:pt x="10716" y="6400"/>
                </a:cubicBezTo>
                <a:cubicBezTo>
                  <a:pt x="10633" y="6549"/>
                  <a:pt x="10474" y="6460"/>
                  <a:pt x="10368" y="6424"/>
                </a:cubicBezTo>
                <a:cubicBezTo>
                  <a:pt x="10409" y="6365"/>
                  <a:pt x="10559" y="6466"/>
                  <a:pt x="10641" y="6474"/>
                </a:cubicBezTo>
                <a:cubicBezTo>
                  <a:pt x="10691" y="6474"/>
                  <a:pt x="10740" y="6474"/>
                  <a:pt x="10790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05160" y="2232000"/>
            <a:ext cx="250920" cy="162000"/>
          </a:xfrm>
          <a:custGeom>
            <a:avLst/>
            <a:gdLst/>
            <a:ahLst/>
            <a:rect l="l" t="t" r="r" b="b"/>
            <a:pathLst>
              <a:path w="696" h="448">
                <a:moveTo>
                  <a:pt x="11782" y="6201"/>
                </a:moveTo>
                <a:cubicBezTo>
                  <a:pt x="11782" y="6339"/>
                  <a:pt x="11840" y="6492"/>
                  <a:pt x="11782" y="6623"/>
                </a:cubicBezTo>
                <a:cubicBezTo>
                  <a:pt x="11766" y="6631"/>
                  <a:pt x="11749" y="6640"/>
                  <a:pt x="11733" y="6648"/>
                </a:cubicBezTo>
              </a:path>
              <a:path w="696" h="448">
                <a:moveTo>
                  <a:pt x="11683" y="6400"/>
                </a:moveTo>
                <a:cubicBezTo>
                  <a:pt x="11926" y="6400"/>
                  <a:pt x="12138" y="6387"/>
                  <a:pt x="12378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6000" y="2197080"/>
            <a:ext cx="169920" cy="2142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12923" y="6102"/>
                </a:moveTo>
                <a:cubicBezTo>
                  <a:pt x="13092" y="6187"/>
                  <a:pt x="13325" y="6378"/>
                  <a:pt x="13196" y="6623"/>
                </a:cubicBezTo>
                <a:cubicBezTo>
                  <a:pt x="13083" y="6838"/>
                  <a:pt x="12902" y="6597"/>
                  <a:pt x="12849" y="6499"/>
                </a:cubicBezTo>
                <a:cubicBezTo>
                  <a:pt x="13037" y="6609"/>
                  <a:pt x="13100" y="6669"/>
                  <a:pt x="13320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6960" y="2197080"/>
            <a:ext cx="403200" cy="249120"/>
          </a:xfrm>
          <a:custGeom>
            <a:avLst/>
            <a:gdLst/>
            <a:ahLst/>
            <a:rect l="l" t="t" r="r" b="b"/>
            <a:pathLst>
              <a:path w="1117" h="695">
                <a:moveTo>
                  <a:pt x="14188" y="6201"/>
                </a:moveTo>
                <a:cubicBezTo>
                  <a:pt x="14202" y="6393"/>
                  <a:pt x="14188" y="6577"/>
                  <a:pt x="14188" y="6772"/>
                </a:cubicBezTo>
              </a:path>
              <a:path w="1117" h="695">
                <a:moveTo>
                  <a:pt x="14684" y="6276"/>
                </a:moveTo>
                <a:cubicBezTo>
                  <a:pt x="14527" y="6467"/>
                  <a:pt x="14418" y="6577"/>
                  <a:pt x="14536" y="6796"/>
                </a:cubicBezTo>
                <a:cubicBezTo>
                  <a:pt x="14655" y="6778"/>
                  <a:pt x="14974" y="6710"/>
                  <a:pt x="14883" y="6499"/>
                </a:cubicBezTo>
                <a:cubicBezTo>
                  <a:pt x="14851" y="6424"/>
                  <a:pt x="14720" y="6352"/>
                  <a:pt x="14660" y="6300"/>
                </a:cubicBezTo>
              </a:path>
              <a:path w="1117" h="695">
                <a:moveTo>
                  <a:pt x="15255" y="6102"/>
                </a:moveTo>
                <a:cubicBezTo>
                  <a:pt x="15269" y="6195"/>
                  <a:pt x="15216" y="6286"/>
                  <a:pt x="15304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9200" y="2224080"/>
            <a:ext cx="17640" cy="1332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6520" y="6176"/>
                </a:moveTo>
                <a:cubicBezTo>
                  <a:pt x="16490" y="6295"/>
                  <a:pt x="16501" y="6425"/>
                  <a:pt x="16470" y="6548"/>
                </a:cubicBezTo>
                <a:cubicBezTo>
                  <a:pt x="16470" y="6540"/>
                  <a:pt x="16470" y="6532"/>
                  <a:pt x="16470" y="6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2240" y="2160720"/>
            <a:ext cx="17964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8157" y="6052"/>
                </a:moveTo>
                <a:cubicBezTo>
                  <a:pt x="17991" y="6009"/>
                  <a:pt x="17972" y="5963"/>
                  <a:pt x="17859" y="6102"/>
                </a:cubicBezTo>
                <a:cubicBezTo>
                  <a:pt x="17805" y="6175"/>
                  <a:pt x="17780" y="6175"/>
                  <a:pt x="17785" y="6226"/>
                </a:cubicBezTo>
                <a:cubicBezTo>
                  <a:pt x="17924" y="6242"/>
                  <a:pt x="18165" y="6241"/>
                  <a:pt x="18256" y="6375"/>
                </a:cubicBezTo>
                <a:cubicBezTo>
                  <a:pt x="18408" y="6600"/>
                  <a:pt x="18026" y="6722"/>
                  <a:pt x="17884" y="6623"/>
                </a:cubicBezTo>
                <a:cubicBezTo>
                  <a:pt x="17859" y="6582"/>
                  <a:pt x="17835" y="6540"/>
                  <a:pt x="17810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66000" y="2108160"/>
            <a:ext cx="527040" cy="312840"/>
          </a:xfrm>
          <a:custGeom>
            <a:avLst/>
            <a:gdLst/>
            <a:ahLst/>
            <a:rect l="l" t="t" r="r" b="b"/>
            <a:pathLst>
              <a:path w="1464" h="869">
                <a:moveTo>
                  <a:pt x="19571" y="5953"/>
                </a:moveTo>
                <a:cubicBezTo>
                  <a:pt x="19508" y="6126"/>
                  <a:pt x="19307" y="6493"/>
                  <a:pt x="19348" y="6672"/>
                </a:cubicBezTo>
                <a:cubicBezTo>
                  <a:pt x="19364" y="6664"/>
                  <a:pt x="19381" y="6656"/>
                  <a:pt x="19397" y="6648"/>
                </a:cubicBezTo>
              </a:path>
              <a:path w="1464" h="869">
                <a:moveTo>
                  <a:pt x="20141" y="6052"/>
                </a:moveTo>
                <a:cubicBezTo>
                  <a:pt x="19959" y="6247"/>
                  <a:pt x="19829" y="6402"/>
                  <a:pt x="19745" y="6648"/>
                </a:cubicBezTo>
                <a:cubicBezTo>
                  <a:pt x="19924" y="6743"/>
                  <a:pt x="20245" y="6764"/>
                  <a:pt x="20315" y="6474"/>
                </a:cubicBezTo>
                <a:cubicBezTo>
                  <a:pt x="20359" y="6291"/>
                  <a:pt x="20219" y="6171"/>
                  <a:pt x="20117" y="6052"/>
                </a:cubicBezTo>
              </a:path>
              <a:path w="1464" h="869">
                <a:moveTo>
                  <a:pt x="20712" y="5879"/>
                </a:moveTo>
                <a:cubicBezTo>
                  <a:pt x="20604" y="5901"/>
                  <a:pt x="20581" y="5985"/>
                  <a:pt x="20538" y="6077"/>
                </a:cubicBezTo>
                <a:cubicBezTo>
                  <a:pt x="20619" y="6089"/>
                  <a:pt x="20902" y="6098"/>
                  <a:pt x="20786" y="5928"/>
                </a:cubicBezTo>
                <a:cubicBezTo>
                  <a:pt x="20727" y="5889"/>
                  <a:pt x="20715" y="5885"/>
                  <a:pt x="20687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0880" y="2847960"/>
            <a:ext cx="366840" cy="358920"/>
          </a:xfrm>
          <a:custGeom>
            <a:avLst/>
            <a:gdLst/>
            <a:ahLst/>
            <a:rect l="l" t="t" r="r" b="b"/>
            <a:pathLst>
              <a:path w="1018" h="993">
                <a:moveTo>
                  <a:pt x="8434" y="8037"/>
                </a:moveTo>
                <a:cubicBezTo>
                  <a:pt x="8434" y="8172"/>
                  <a:pt x="8393" y="8240"/>
                  <a:pt x="8334" y="8359"/>
                </a:cubicBezTo>
                <a:cubicBezTo>
                  <a:pt x="8326" y="8376"/>
                  <a:pt x="8318" y="8392"/>
                  <a:pt x="8310" y="8409"/>
                </a:cubicBezTo>
                <a:cubicBezTo>
                  <a:pt x="8418" y="8320"/>
                  <a:pt x="8584" y="8350"/>
                  <a:pt x="8706" y="8409"/>
                </a:cubicBezTo>
                <a:cubicBezTo>
                  <a:pt x="8787" y="8448"/>
                  <a:pt x="8879" y="8603"/>
                  <a:pt x="8855" y="8483"/>
                </a:cubicBezTo>
              </a:path>
              <a:path w="1018" h="993">
                <a:moveTo>
                  <a:pt x="8657" y="7913"/>
                </a:moveTo>
                <a:cubicBezTo>
                  <a:pt x="8718" y="8189"/>
                  <a:pt x="8695" y="8550"/>
                  <a:pt x="8781" y="8806"/>
                </a:cubicBezTo>
                <a:cubicBezTo>
                  <a:pt x="8789" y="8789"/>
                  <a:pt x="8798" y="8773"/>
                  <a:pt x="8806" y="8756"/>
                </a:cubicBezTo>
              </a:path>
              <a:path w="1018" h="993">
                <a:moveTo>
                  <a:pt x="9227" y="7938"/>
                </a:moveTo>
                <a:cubicBezTo>
                  <a:pt x="9194" y="7836"/>
                  <a:pt x="9053" y="7991"/>
                  <a:pt x="9004" y="8086"/>
                </a:cubicBezTo>
                <a:cubicBezTo>
                  <a:pt x="8835" y="8417"/>
                  <a:pt x="8785" y="8714"/>
                  <a:pt x="9079" y="8905"/>
                </a:cubicBezTo>
                <a:cubicBezTo>
                  <a:pt x="9296" y="8688"/>
                  <a:pt x="9455" y="8432"/>
                  <a:pt x="9277" y="8111"/>
                </a:cubicBezTo>
                <a:cubicBezTo>
                  <a:pt x="9246" y="8056"/>
                  <a:pt x="9024" y="7923"/>
                  <a:pt x="9004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4920" y="2911320"/>
            <a:ext cx="687240" cy="28584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0120" y="8086"/>
                </a:moveTo>
                <a:cubicBezTo>
                  <a:pt x="9984" y="8142"/>
                  <a:pt x="9934" y="8148"/>
                  <a:pt x="9847" y="8260"/>
                </a:cubicBezTo>
                <a:cubicBezTo>
                  <a:pt x="9994" y="8390"/>
                  <a:pt x="10360" y="8446"/>
                  <a:pt x="10443" y="8632"/>
                </a:cubicBezTo>
                <a:cubicBezTo>
                  <a:pt x="10435" y="8665"/>
                  <a:pt x="10426" y="8698"/>
                  <a:pt x="10418" y="8731"/>
                </a:cubicBezTo>
                <a:cubicBezTo>
                  <a:pt x="10179" y="8743"/>
                  <a:pt x="10046" y="8666"/>
                  <a:pt x="10120" y="8384"/>
                </a:cubicBezTo>
                <a:cubicBezTo>
                  <a:pt x="10128" y="8352"/>
                  <a:pt x="10223" y="8157"/>
                  <a:pt x="10244" y="8136"/>
                </a:cubicBezTo>
              </a:path>
              <a:path w="1911" h="795">
                <a:moveTo>
                  <a:pt x="10592" y="8161"/>
                </a:moveTo>
                <a:cubicBezTo>
                  <a:pt x="10524" y="8411"/>
                  <a:pt x="10513" y="8559"/>
                  <a:pt x="10592" y="8806"/>
                </a:cubicBezTo>
                <a:cubicBezTo>
                  <a:pt x="10778" y="8784"/>
                  <a:pt x="10979" y="8722"/>
                  <a:pt x="10964" y="8483"/>
                </a:cubicBezTo>
                <a:cubicBezTo>
                  <a:pt x="10947" y="8467"/>
                  <a:pt x="10931" y="8450"/>
                  <a:pt x="10914" y="8434"/>
                </a:cubicBezTo>
                <a:cubicBezTo>
                  <a:pt x="10733" y="8482"/>
                  <a:pt x="10648" y="8617"/>
                  <a:pt x="10716" y="8830"/>
                </a:cubicBezTo>
                <a:cubicBezTo>
                  <a:pt x="10732" y="8847"/>
                  <a:pt x="10749" y="8863"/>
                  <a:pt x="10765" y="8880"/>
                </a:cubicBezTo>
              </a:path>
              <a:path w="1911" h="795">
                <a:moveTo>
                  <a:pt x="11485" y="8086"/>
                </a:moveTo>
                <a:cubicBezTo>
                  <a:pt x="11316" y="8086"/>
                  <a:pt x="11252" y="8181"/>
                  <a:pt x="11212" y="8359"/>
                </a:cubicBezTo>
                <a:cubicBezTo>
                  <a:pt x="11172" y="8535"/>
                  <a:pt x="11199" y="9028"/>
                  <a:pt x="11534" y="8880"/>
                </a:cubicBezTo>
                <a:cubicBezTo>
                  <a:pt x="11818" y="8755"/>
                  <a:pt x="11829" y="8323"/>
                  <a:pt x="11609" y="8136"/>
                </a:cubicBezTo>
                <a:cubicBezTo>
                  <a:pt x="11550" y="8086"/>
                  <a:pt x="11461" y="8110"/>
                  <a:pt x="1141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00240" y="3133800"/>
            <a:ext cx="1947960" cy="554040"/>
          </a:xfrm>
          <a:custGeom>
            <a:avLst/>
            <a:gdLst/>
            <a:ahLst/>
            <a:rect l="l" t="t" r="r" b="b"/>
            <a:pathLst>
              <a:path w="5409" h="1539">
                <a:moveTo>
                  <a:pt x="9575" y="8706"/>
                </a:moveTo>
                <a:cubicBezTo>
                  <a:pt x="9638" y="8860"/>
                  <a:pt x="9681" y="9017"/>
                  <a:pt x="9723" y="9178"/>
                </a:cubicBezTo>
              </a:path>
              <a:path w="5409" h="1539">
                <a:moveTo>
                  <a:pt x="8384" y="9203"/>
                </a:moveTo>
                <a:cubicBezTo>
                  <a:pt x="8332" y="9573"/>
                  <a:pt x="8297" y="9838"/>
                  <a:pt x="8483" y="10170"/>
                </a:cubicBezTo>
                <a:cubicBezTo>
                  <a:pt x="8521" y="10226"/>
                  <a:pt x="8516" y="10251"/>
                  <a:pt x="8558" y="10244"/>
                </a:cubicBezTo>
              </a:path>
              <a:path w="5409" h="1539">
                <a:moveTo>
                  <a:pt x="9525" y="9624"/>
                </a:moveTo>
                <a:cubicBezTo>
                  <a:pt x="9591" y="9703"/>
                  <a:pt x="9734" y="9819"/>
                  <a:pt x="9773" y="9897"/>
                </a:cubicBezTo>
              </a:path>
              <a:path w="5409" h="1539">
                <a:moveTo>
                  <a:pt x="11485" y="9153"/>
                </a:moveTo>
                <a:cubicBezTo>
                  <a:pt x="11719" y="9271"/>
                  <a:pt x="11903" y="9402"/>
                  <a:pt x="11981" y="9674"/>
                </a:cubicBezTo>
                <a:cubicBezTo>
                  <a:pt x="12049" y="9912"/>
                  <a:pt x="11907" y="10088"/>
                  <a:pt x="11708" y="10145"/>
                </a:cubicBezTo>
              </a:path>
              <a:path w="5409" h="1539">
                <a:moveTo>
                  <a:pt x="12576" y="9599"/>
                </a:moveTo>
                <a:cubicBezTo>
                  <a:pt x="12590" y="9699"/>
                  <a:pt x="12617" y="9796"/>
                  <a:pt x="12626" y="9897"/>
                </a:cubicBezTo>
              </a:path>
              <a:path w="5409" h="1539">
                <a:moveTo>
                  <a:pt x="13742" y="9475"/>
                </a:moveTo>
                <a:lnTo>
                  <a:pt x="13742" y="9475"/>
                </a:lnTo>
              </a:path>
              <a:path w="5409" h="1539">
                <a:moveTo>
                  <a:pt x="13742" y="9475"/>
                </a:moveTo>
                <a:lnTo>
                  <a:pt x="13742" y="94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1840" y="3340080"/>
            <a:ext cx="536400" cy="374760"/>
          </a:xfrm>
          <a:custGeom>
            <a:avLst/>
            <a:gdLst/>
            <a:ahLst/>
            <a:rect l="l" t="t" r="r" b="b"/>
            <a:pathLst>
              <a:path w="1490" h="1043">
                <a:moveTo>
                  <a:pt x="4018" y="9351"/>
                </a:moveTo>
                <a:cubicBezTo>
                  <a:pt x="3944" y="9557"/>
                  <a:pt x="3883" y="9822"/>
                  <a:pt x="3894" y="10046"/>
                </a:cubicBezTo>
                <a:cubicBezTo>
                  <a:pt x="3904" y="10260"/>
                  <a:pt x="3970" y="10331"/>
                  <a:pt x="4142" y="10294"/>
                </a:cubicBezTo>
                <a:cubicBezTo>
                  <a:pt x="4150" y="10294"/>
                  <a:pt x="4159" y="10294"/>
                  <a:pt x="4167" y="10294"/>
                </a:cubicBezTo>
              </a:path>
              <a:path w="1490" h="1043">
                <a:moveTo>
                  <a:pt x="4316" y="9748"/>
                </a:moveTo>
                <a:cubicBezTo>
                  <a:pt x="4308" y="9781"/>
                  <a:pt x="4299" y="9814"/>
                  <a:pt x="4291" y="9847"/>
                </a:cubicBezTo>
                <a:cubicBezTo>
                  <a:pt x="4207" y="9807"/>
                  <a:pt x="4552" y="9823"/>
                  <a:pt x="4564" y="9823"/>
                </a:cubicBezTo>
                <a:cubicBezTo>
                  <a:pt x="4655" y="9823"/>
                  <a:pt x="4663" y="9823"/>
                  <a:pt x="4713" y="9823"/>
                </a:cubicBezTo>
              </a:path>
              <a:path w="1490" h="1043">
                <a:moveTo>
                  <a:pt x="4564" y="9277"/>
                </a:moveTo>
                <a:cubicBezTo>
                  <a:pt x="4604" y="9552"/>
                  <a:pt x="4671" y="9821"/>
                  <a:pt x="4688" y="10096"/>
                </a:cubicBezTo>
                <a:cubicBezTo>
                  <a:pt x="4688" y="10135"/>
                  <a:pt x="4699" y="10133"/>
                  <a:pt x="4738" y="10071"/>
                </a:cubicBezTo>
              </a:path>
              <a:path w="1490" h="1043">
                <a:moveTo>
                  <a:pt x="5035" y="9500"/>
                </a:moveTo>
                <a:cubicBezTo>
                  <a:pt x="5135" y="9652"/>
                  <a:pt x="5165" y="10016"/>
                  <a:pt x="5333" y="9947"/>
                </a:cubicBezTo>
                <a:cubicBezTo>
                  <a:pt x="5333" y="9930"/>
                  <a:pt x="5333" y="9914"/>
                  <a:pt x="5333" y="9897"/>
                </a:cubicBezTo>
              </a:path>
              <a:path w="1490" h="1043">
                <a:moveTo>
                  <a:pt x="5383" y="9401"/>
                </a:moveTo>
                <a:cubicBezTo>
                  <a:pt x="5257" y="9568"/>
                  <a:pt x="5164" y="9772"/>
                  <a:pt x="5085" y="9971"/>
                </a:cubicBezTo>
                <a:cubicBezTo>
                  <a:pt x="5085" y="9979"/>
                  <a:pt x="5085" y="9988"/>
                  <a:pt x="5085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080" y="3276720"/>
            <a:ext cx="509760" cy="411120"/>
          </a:xfrm>
          <a:custGeom>
            <a:avLst/>
            <a:gdLst/>
            <a:ahLst/>
            <a:rect l="l" t="t" r="r" b="b"/>
            <a:pathLst>
              <a:path w="1415" h="1142">
                <a:moveTo>
                  <a:pt x="5730" y="9351"/>
                </a:moveTo>
                <a:cubicBezTo>
                  <a:pt x="5738" y="9592"/>
                  <a:pt x="5755" y="9829"/>
                  <a:pt x="5755" y="10071"/>
                </a:cubicBezTo>
              </a:path>
              <a:path w="1415" h="1142">
                <a:moveTo>
                  <a:pt x="6003" y="9426"/>
                </a:moveTo>
                <a:cubicBezTo>
                  <a:pt x="5979" y="9620"/>
                  <a:pt x="5915" y="9894"/>
                  <a:pt x="6028" y="10071"/>
                </a:cubicBezTo>
                <a:cubicBezTo>
                  <a:pt x="6053" y="10087"/>
                  <a:pt x="6077" y="10104"/>
                  <a:pt x="6102" y="10120"/>
                </a:cubicBezTo>
                <a:cubicBezTo>
                  <a:pt x="6272" y="10057"/>
                  <a:pt x="6391" y="9987"/>
                  <a:pt x="6350" y="9773"/>
                </a:cubicBezTo>
                <a:cubicBezTo>
                  <a:pt x="6326" y="9651"/>
                  <a:pt x="6214" y="9500"/>
                  <a:pt x="6077" y="9500"/>
                </a:cubicBezTo>
                <a:cubicBezTo>
                  <a:pt x="5988" y="9500"/>
                  <a:pt x="5987" y="9539"/>
                  <a:pt x="5978" y="9599"/>
                </a:cubicBezTo>
              </a:path>
              <a:path w="1415" h="1142">
                <a:moveTo>
                  <a:pt x="6548" y="9302"/>
                </a:moveTo>
                <a:cubicBezTo>
                  <a:pt x="6548" y="9362"/>
                  <a:pt x="6542" y="9396"/>
                  <a:pt x="6524" y="9451"/>
                </a:cubicBezTo>
                <a:cubicBezTo>
                  <a:pt x="6600" y="9438"/>
                  <a:pt x="6669" y="9401"/>
                  <a:pt x="6747" y="9401"/>
                </a:cubicBezTo>
              </a:path>
              <a:path w="1415" h="1142">
                <a:moveTo>
                  <a:pt x="6672" y="9277"/>
                </a:moveTo>
                <a:cubicBezTo>
                  <a:pt x="6672" y="9282"/>
                  <a:pt x="6711" y="9559"/>
                  <a:pt x="6722" y="9649"/>
                </a:cubicBezTo>
                <a:cubicBezTo>
                  <a:pt x="6722" y="9691"/>
                  <a:pt x="6722" y="9716"/>
                  <a:pt x="6722" y="9674"/>
                </a:cubicBezTo>
              </a:path>
              <a:path w="1415" h="1142">
                <a:moveTo>
                  <a:pt x="6772" y="9103"/>
                </a:moveTo>
                <a:cubicBezTo>
                  <a:pt x="7012" y="9373"/>
                  <a:pt x="7212" y="9587"/>
                  <a:pt x="7094" y="9971"/>
                </a:cubicBezTo>
                <a:cubicBezTo>
                  <a:pt x="7090" y="9985"/>
                  <a:pt x="6839" y="10395"/>
                  <a:pt x="6896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4760" y="3446640"/>
            <a:ext cx="13464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7640" y="9575"/>
                </a:moveTo>
                <a:cubicBezTo>
                  <a:pt x="7656" y="9682"/>
                  <a:pt x="7673" y="9813"/>
                  <a:pt x="7714" y="9922"/>
                </a:cubicBezTo>
                <a:cubicBezTo>
                  <a:pt x="7744" y="9952"/>
                  <a:pt x="7749" y="9954"/>
                  <a:pt x="7714" y="9897"/>
                </a:cubicBezTo>
              </a:path>
              <a:path w="373" h="373">
                <a:moveTo>
                  <a:pt x="7541" y="9773"/>
                </a:moveTo>
                <a:cubicBezTo>
                  <a:pt x="7666" y="9748"/>
                  <a:pt x="7784" y="9748"/>
                  <a:pt x="7913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43160" y="3367080"/>
            <a:ext cx="14292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9079" y="9426"/>
                </a:moveTo>
                <a:cubicBezTo>
                  <a:pt x="9141" y="9339"/>
                  <a:pt x="9000" y="9328"/>
                  <a:pt x="8930" y="9351"/>
                </a:cubicBezTo>
                <a:cubicBezTo>
                  <a:pt x="8732" y="9418"/>
                  <a:pt x="8663" y="9611"/>
                  <a:pt x="8855" y="9723"/>
                </a:cubicBezTo>
                <a:cubicBezTo>
                  <a:pt x="9044" y="9833"/>
                  <a:pt x="9077" y="9780"/>
                  <a:pt x="9128" y="9971"/>
                </a:cubicBezTo>
                <a:cubicBezTo>
                  <a:pt x="8951" y="10053"/>
                  <a:pt x="8871" y="9996"/>
                  <a:pt x="8905" y="9773"/>
                </a:cubicBezTo>
                <a:cubicBezTo>
                  <a:pt x="8921" y="9671"/>
                  <a:pt x="8971" y="9581"/>
                  <a:pt x="9029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360" y="3402000"/>
            <a:ext cx="79560" cy="206280"/>
          </a:xfrm>
          <a:custGeom>
            <a:avLst/>
            <a:gdLst/>
            <a:ahLst/>
            <a:rect l="l" t="t" r="r" b="b"/>
            <a:pathLst>
              <a:path w="224" h="571">
                <a:moveTo>
                  <a:pt x="9773" y="9451"/>
                </a:moveTo>
                <a:cubicBezTo>
                  <a:pt x="9707" y="9625"/>
                  <a:pt x="9653" y="9802"/>
                  <a:pt x="9575" y="9971"/>
                </a:cubicBezTo>
                <a:cubicBezTo>
                  <a:pt x="9555" y="10012"/>
                  <a:pt x="9536" y="10028"/>
                  <a:pt x="9575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70200" y="3419640"/>
            <a:ext cx="27000" cy="223560"/>
          </a:xfrm>
          <a:custGeom>
            <a:avLst/>
            <a:gdLst/>
            <a:ahLst/>
            <a:rect l="l" t="t" r="r" b="b"/>
            <a:pathLst>
              <a:path w="75" h="621">
                <a:moveTo>
                  <a:pt x="10195" y="9500"/>
                </a:moveTo>
                <a:cubicBezTo>
                  <a:pt x="10229" y="9707"/>
                  <a:pt x="10259" y="9911"/>
                  <a:pt x="10269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0760" y="3357720"/>
            <a:ext cx="322200" cy="285480"/>
          </a:xfrm>
          <a:custGeom>
            <a:avLst/>
            <a:gdLst/>
            <a:ahLst/>
            <a:rect l="l" t="t" r="r" b="b"/>
            <a:pathLst>
              <a:path w="894" h="794">
                <a:moveTo>
                  <a:pt x="10765" y="9525"/>
                </a:moveTo>
                <a:cubicBezTo>
                  <a:pt x="10652" y="9653"/>
                  <a:pt x="10612" y="9841"/>
                  <a:pt x="10666" y="10021"/>
                </a:cubicBezTo>
                <a:cubicBezTo>
                  <a:pt x="10683" y="10046"/>
                  <a:pt x="10699" y="10071"/>
                  <a:pt x="10716" y="10096"/>
                </a:cubicBezTo>
                <a:cubicBezTo>
                  <a:pt x="10902" y="10107"/>
                  <a:pt x="11009" y="10044"/>
                  <a:pt x="11013" y="9823"/>
                </a:cubicBezTo>
                <a:cubicBezTo>
                  <a:pt x="11016" y="9643"/>
                  <a:pt x="10901" y="9496"/>
                  <a:pt x="10716" y="9575"/>
                </a:cubicBezTo>
                <a:cubicBezTo>
                  <a:pt x="10716" y="9583"/>
                  <a:pt x="10716" y="9591"/>
                  <a:pt x="10716" y="9599"/>
                </a:cubicBezTo>
              </a:path>
              <a:path w="894" h="794">
                <a:moveTo>
                  <a:pt x="11212" y="9376"/>
                </a:moveTo>
                <a:cubicBezTo>
                  <a:pt x="11255" y="9289"/>
                  <a:pt x="11351" y="9332"/>
                  <a:pt x="11435" y="9351"/>
                </a:cubicBezTo>
                <a:cubicBezTo>
                  <a:pt x="11398" y="9478"/>
                  <a:pt x="11339" y="9569"/>
                  <a:pt x="11286" y="9674"/>
                </a:cubicBezTo>
                <a:cubicBezTo>
                  <a:pt x="11350" y="9674"/>
                  <a:pt x="11426" y="9667"/>
                  <a:pt x="11485" y="9649"/>
                </a:cubicBezTo>
                <a:cubicBezTo>
                  <a:pt x="11501" y="9641"/>
                  <a:pt x="11518" y="9632"/>
                  <a:pt x="11534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17920"/>
            <a:ext cx="11736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2477" y="9798"/>
                </a:moveTo>
                <a:cubicBezTo>
                  <a:pt x="12569" y="9798"/>
                  <a:pt x="12658" y="9777"/>
                  <a:pt x="12750" y="9773"/>
                </a:cubicBezTo>
                <a:cubicBezTo>
                  <a:pt x="12774" y="9773"/>
                  <a:pt x="12783" y="9773"/>
                  <a:pt x="12799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68920" y="3295800"/>
            <a:ext cx="527040" cy="347400"/>
          </a:xfrm>
          <a:custGeom>
            <a:avLst/>
            <a:gdLst/>
            <a:ahLst/>
            <a:rect l="l" t="t" r="r" b="b"/>
            <a:pathLst>
              <a:path w="1464" h="968">
                <a:moveTo>
                  <a:pt x="13345" y="9153"/>
                </a:moveTo>
                <a:cubicBezTo>
                  <a:pt x="13281" y="9258"/>
                  <a:pt x="13249" y="9586"/>
                  <a:pt x="13246" y="9699"/>
                </a:cubicBezTo>
                <a:cubicBezTo>
                  <a:pt x="13244" y="9794"/>
                  <a:pt x="13253" y="10085"/>
                  <a:pt x="13370" y="10120"/>
                </a:cubicBezTo>
                <a:cubicBezTo>
                  <a:pt x="13395" y="10120"/>
                  <a:pt x="13403" y="10120"/>
                  <a:pt x="13419" y="10120"/>
                </a:cubicBezTo>
              </a:path>
              <a:path w="1464" h="968">
                <a:moveTo>
                  <a:pt x="13692" y="9575"/>
                </a:moveTo>
                <a:cubicBezTo>
                  <a:pt x="13649" y="9720"/>
                  <a:pt x="13599" y="9844"/>
                  <a:pt x="13593" y="9996"/>
                </a:cubicBezTo>
                <a:cubicBezTo>
                  <a:pt x="13588" y="10128"/>
                  <a:pt x="13754" y="10098"/>
                  <a:pt x="13841" y="10071"/>
                </a:cubicBezTo>
                <a:cubicBezTo>
                  <a:pt x="13938" y="10041"/>
                  <a:pt x="14025" y="9967"/>
                  <a:pt x="14039" y="9872"/>
                </a:cubicBezTo>
                <a:cubicBezTo>
                  <a:pt x="14039" y="9864"/>
                  <a:pt x="14039" y="9855"/>
                  <a:pt x="14039" y="9847"/>
                </a:cubicBezTo>
                <a:cubicBezTo>
                  <a:pt x="13935" y="9813"/>
                  <a:pt x="13865" y="9833"/>
                  <a:pt x="13816" y="9947"/>
                </a:cubicBezTo>
                <a:cubicBezTo>
                  <a:pt x="13771" y="10052"/>
                  <a:pt x="13791" y="10061"/>
                  <a:pt x="13891" y="10021"/>
                </a:cubicBezTo>
              </a:path>
              <a:path w="1464" h="968">
                <a:moveTo>
                  <a:pt x="14312" y="9451"/>
                </a:moveTo>
                <a:cubicBezTo>
                  <a:pt x="14437" y="9584"/>
                  <a:pt x="14536" y="9719"/>
                  <a:pt x="14635" y="9872"/>
                </a:cubicBezTo>
              </a:path>
              <a:path w="1464" h="968">
                <a:moveTo>
                  <a:pt x="14709" y="9426"/>
                </a:moveTo>
                <a:cubicBezTo>
                  <a:pt x="14619" y="9531"/>
                  <a:pt x="14551" y="9728"/>
                  <a:pt x="14486" y="9872"/>
                </a:cubicBezTo>
                <a:cubicBezTo>
                  <a:pt x="14466" y="9913"/>
                  <a:pt x="14447" y="9929"/>
                  <a:pt x="1448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46800" y="3259080"/>
            <a:ext cx="590400" cy="366840"/>
          </a:xfrm>
          <a:custGeom>
            <a:avLst/>
            <a:gdLst/>
            <a:ahLst/>
            <a:rect l="l" t="t" r="r" b="b"/>
            <a:pathLst>
              <a:path w="1638" h="1018">
                <a:moveTo>
                  <a:pt x="15131" y="9351"/>
                </a:moveTo>
                <a:cubicBezTo>
                  <a:pt x="15131" y="9527"/>
                  <a:pt x="15150" y="9697"/>
                  <a:pt x="15156" y="9872"/>
                </a:cubicBezTo>
                <a:cubicBezTo>
                  <a:pt x="15156" y="9889"/>
                  <a:pt x="15156" y="9905"/>
                  <a:pt x="15156" y="9922"/>
                </a:cubicBezTo>
              </a:path>
              <a:path w="1638" h="1018">
                <a:moveTo>
                  <a:pt x="15553" y="9451"/>
                </a:moveTo>
                <a:cubicBezTo>
                  <a:pt x="15501" y="9612"/>
                  <a:pt x="15390" y="9855"/>
                  <a:pt x="15453" y="10021"/>
                </a:cubicBezTo>
                <a:cubicBezTo>
                  <a:pt x="15506" y="10160"/>
                  <a:pt x="15778" y="10023"/>
                  <a:pt x="15825" y="9947"/>
                </a:cubicBezTo>
                <a:cubicBezTo>
                  <a:pt x="15910" y="9808"/>
                  <a:pt x="15807" y="9625"/>
                  <a:pt x="15677" y="9575"/>
                </a:cubicBezTo>
                <a:cubicBezTo>
                  <a:pt x="15589" y="9541"/>
                  <a:pt x="15543" y="9536"/>
                  <a:pt x="15478" y="9575"/>
                </a:cubicBezTo>
              </a:path>
              <a:path w="1638" h="1018">
                <a:moveTo>
                  <a:pt x="16123" y="9327"/>
                </a:moveTo>
                <a:cubicBezTo>
                  <a:pt x="16123" y="9413"/>
                  <a:pt x="16140" y="9491"/>
                  <a:pt x="16148" y="9575"/>
                </a:cubicBezTo>
              </a:path>
              <a:path w="1638" h="1018">
                <a:moveTo>
                  <a:pt x="16396" y="9054"/>
                </a:moveTo>
                <a:cubicBezTo>
                  <a:pt x="16506" y="9076"/>
                  <a:pt x="16582" y="9188"/>
                  <a:pt x="16644" y="9277"/>
                </a:cubicBezTo>
                <a:cubicBezTo>
                  <a:pt x="16773" y="9462"/>
                  <a:pt x="16824" y="9675"/>
                  <a:pt x="16694" y="9872"/>
                </a:cubicBezTo>
                <a:cubicBezTo>
                  <a:pt x="16664" y="9918"/>
                  <a:pt x="16554" y="10056"/>
                  <a:pt x="1649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4160" y="4125960"/>
            <a:ext cx="1214640" cy="339840"/>
          </a:xfrm>
          <a:custGeom>
            <a:avLst/>
            <a:gdLst/>
            <a:ahLst/>
            <a:rect l="l" t="t" r="r" b="b"/>
            <a:pathLst>
              <a:path w="3375" h="943">
                <a:moveTo>
                  <a:pt x="9426" y="11757"/>
                </a:moveTo>
                <a:cubicBezTo>
                  <a:pt x="9448" y="11617"/>
                  <a:pt x="9424" y="11448"/>
                  <a:pt x="9227" y="11460"/>
                </a:cubicBezTo>
                <a:cubicBezTo>
                  <a:pt x="9009" y="11473"/>
                  <a:pt x="8992" y="11624"/>
                  <a:pt x="8954" y="11782"/>
                </a:cubicBezTo>
                <a:cubicBezTo>
                  <a:pt x="9178" y="11825"/>
                  <a:pt x="9246" y="11790"/>
                  <a:pt x="9401" y="11609"/>
                </a:cubicBezTo>
                <a:cubicBezTo>
                  <a:pt x="9373" y="11774"/>
                  <a:pt x="9368" y="11967"/>
                  <a:pt x="9327" y="12129"/>
                </a:cubicBezTo>
                <a:cubicBezTo>
                  <a:pt x="9310" y="12162"/>
                  <a:pt x="9294" y="12196"/>
                  <a:pt x="9277" y="12229"/>
                </a:cubicBezTo>
              </a:path>
              <a:path w="3375" h="943">
                <a:moveTo>
                  <a:pt x="9773" y="11757"/>
                </a:moveTo>
                <a:cubicBezTo>
                  <a:pt x="9645" y="11846"/>
                  <a:pt x="9440" y="12062"/>
                  <a:pt x="9475" y="12254"/>
                </a:cubicBezTo>
                <a:cubicBezTo>
                  <a:pt x="9500" y="12287"/>
                  <a:pt x="9525" y="12320"/>
                  <a:pt x="9550" y="12353"/>
                </a:cubicBezTo>
                <a:cubicBezTo>
                  <a:pt x="9752" y="12319"/>
                  <a:pt x="10033" y="12198"/>
                  <a:pt x="9947" y="11906"/>
                </a:cubicBezTo>
                <a:cubicBezTo>
                  <a:pt x="9921" y="11817"/>
                  <a:pt x="9747" y="11753"/>
                  <a:pt x="9674" y="11708"/>
                </a:cubicBezTo>
              </a:path>
              <a:path w="3375" h="943">
                <a:moveTo>
                  <a:pt x="10269" y="12204"/>
                </a:moveTo>
                <a:cubicBezTo>
                  <a:pt x="10269" y="12267"/>
                  <a:pt x="10270" y="12347"/>
                  <a:pt x="10244" y="12402"/>
                </a:cubicBezTo>
                <a:cubicBezTo>
                  <a:pt x="10244" y="12394"/>
                  <a:pt x="10244" y="12386"/>
                  <a:pt x="10244" y="12378"/>
                </a:cubicBezTo>
              </a:path>
              <a:path w="3375" h="943">
                <a:moveTo>
                  <a:pt x="10492" y="11782"/>
                </a:moveTo>
                <a:cubicBezTo>
                  <a:pt x="10634" y="11794"/>
                  <a:pt x="10770" y="11807"/>
                  <a:pt x="10914" y="11807"/>
                </a:cubicBezTo>
                <a:cubicBezTo>
                  <a:pt x="10922" y="11807"/>
                  <a:pt x="10931" y="11807"/>
                  <a:pt x="10939" y="11807"/>
                </a:cubicBezTo>
                <a:cubicBezTo>
                  <a:pt x="10904" y="11964"/>
                  <a:pt x="10819" y="12079"/>
                  <a:pt x="10765" y="12229"/>
                </a:cubicBezTo>
                <a:cubicBezTo>
                  <a:pt x="10765" y="12264"/>
                  <a:pt x="10774" y="12268"/>
                  <a:pt x="10815" y="12229"/>
                </a:cubicBezTo>
              </a:path>
              <a:path w="3375" h="943">
                <a:moveTo>
                  <a:pt x="11509" y="11857"/>
                </a:moveTo>
                <a:cubicBezTo>
                  <a:pt x="11356" y="11831"/>
                  <a:pt x="11207" y="11932"/>
                  <a:pt x="11162" y="12105"/>
                </a:cubicBezTo>
                <a:cubicBezTo>
                  <a:pt x="11170" y="12138"/>
                  <a:pt x="11179" y="12171"/>
                  <a:pt x="11187" y="12204"/>
                </a:cubicBezTo>
                <a:cubicBezTo>
                  <a:pt x="11396" y="12297"/>
                  <a:pt x="11550" y="12281"/>
                  <a:pt x="11633" y="12030"/>
                </a:cubicBezTo>
                <a:cubicBezTo>
                  <a:pt x="11668" y="11924"/>
                  <a:pt x="11554" y="11929"/>
                  <a:pt x="11485" y="11906"/>
                </a:cubicBezTo>
              </a:path>
              <a:path w="3375" h="943">
                <a:moveTo>
                  <a:pt x="11857" y="11757"/>
                </a:moveTo>
                <a:cubicBezTo>
                  <a:pt x="11921" y="11695"/>
                  <a:pt x="12118" y="11689"/>
                  <a:pt x="12229" y="11683"/>
                </a:cubicBezTo>
                <a:cubicBezTo>
                  <a:pt x="12287" y="11683"/>
                  <a:pt x="12311" y="11667"/>
                  <a:pt x="12303" y="11708"/>
                </a:cubicBezTo>
                <a:cubicBezTo>
                  <a:pt x="12211" y="11781"/>
                  <a:pt x="12143" y="11817"/>
                  <a:pt x="12030" y="11857"/>
                </a:cubicBezTo>
                <a:cubicBezTo>
                  <a:pt x="12180" y="11857"/>
                  <a:pt x="12227" y="11880"/>
                  <a:pt x="12328" y="11981"/>
                </a:cubicBezTo>
                <a:cubicBezTo>
                  <a:pt x="12269" y="12156"/>
                  <a:pt x="12182" y="12145"/>
                  <a:pt x="12005" y="12129"/>
                </a:cubicBezTo>
                <a:cubicBezTo>
                  <a:pt x="11997" y="12129"/>
                  <a:pt x="11989" y="12129"/>
                  <a:pt x="11981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0200" y="4537080"/>
            <a:ext cx="2000520" cy="312840"/>
          </a:xfrm>
          <a:custGeom>
            <a:avLst/>
            <a:gdLst/>
            <a:ahLst/>
            <a:rect l="l" t="t" r="r" b="b"/>
            <a:pathLst>
              <a:path w="5558" h="869">
                <a:moveTo>
                  <a:pt x="7045" y="12725"/>
                </a:moveTo>
                <a:cubicBezTo>
                  <a:pt x="7030" y="12827"/>
                  <a:pt x="7021" y="12927"/>
                  <a:pt x="6995" y="13022"/>
                </a:cubicBezTo>
              </a:path>
              <a:path w="5558" h="869">
                <a:moveTo>
                  <a:pt x="7218" y="12650"/>
                </a:moveTo>
                <a:cubicBezTo>
                  <a:pt x="7288" y="12927"/>
                  <a:pt x="7377" y="13195"/>
                  <a:pt x="7094" y="13395"/>
                </a:cubicBezTo>
                <a:cubicBezTo>
                  <a:pt x="7012" y="13415"/>
                  <a:pt x="6996" y="13423"/>
                  <a:pt x="6945" y="13419"/>
                </a:cubicBezTo>
              </a:path>
              <a:path w="5558" h="869">
                <a:moveTo>
                  <a:pt x="9649" y="12874"/>
                </a:moveTo>
                <a:cubicBezTo>
                  <a:pt x="9657" y="12874"/>
                  <a:pt x="9666" y="12874"/>
                  <a:pt x="9674" y="12874"/>
                </a:cubicBezTo>
              </a:path>
              <a:path w="5558" h="869">
                <a:moveTo>
                  <a:pt x="9674" y="12874"/>
                </a:moveTo>
                <a:lnTo>
                  <a:pt x="9674" y="12874"/>
                </a:lnTo>
              </a:path>
              <a:path w="5558" h="869">
                <a:moveTo>
                  <a:pt x="9723" y="12874"/>
                </a:moveTo>
                <a:lnTo>
                  <a:pt x="9723" y="12874"/>
                </a:lnTo>
              </a:path>
              <a:path w="5558" h="869">
                <a:moveTo>
                  <a:pt x="12477" y="12626"/>
                </a:moveTo>
                <a:cubicBezTo>
                  <a:pt x="12477" y="12653"/>
                  <a:pt x="12330" y="13017"/>
                  <a:pt x="12328" y="13171"/>
                </a:cubicBezTo>
                <a:cubicBezTo>
                  <a:pt x="12328" y="13199"/>
                  <a:pt x="12342" y="13491"/>
                  <a:pt x="12452" y="13469"/>
                </a:cubicBezTo>
                <a:cubicBezTo>
                  <a:pt x="12469" y="13461"/>
                  <a:pt x="12485" y="13452"/>
                  <a:pt x="12502" y="13444"/>
                </a:cubicBezTo>
              </a:path>
              <a:path w="5558" h="869">
                <a:moveTo>
                  <a:pt x="7541" y="13022"/>
                </a:moveTo>
                <a:cubicBezTo>
                  <a:pt x="7620" y="13017"/>
                  <a:pt x="7687" y="13009"/>
                  <a:pt x="7764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84200" y="4537080"/>
            <a:ext cx="303480" cy="338040"/>
          </a:xfrm>
          <a:custGeom>
            <a:avLst/>
            <a:gdLst/>
            <a:ahLst/>
            <a:rect l="l" t="t" r="r" b="b"/>
            <a:pathLst>
              <a:path w="844" h="943">
                <a:moveTo>
                  <a:pt x="4242" y="12601"/>
                </a:moveTo>
                <a:cubicBezTo>
                  <a:pt x="4067" y="12687"/>
                  <a:pt x="3927" y="12907"/>
                  <a:pt x="3870" y="13097"/>
                </a:cubicBezTo>
                <a:cubicBezTo>
                  <a:pt x="3841" y="13195"/>
                  <a:pt x="3819" y="13459"/>
                  <a:pt x="3919" y="13543"/>
                </a:cubicBezTo>
                <a:cubicBezTo>
                  <a:pt x="3927" y="13543"/>
                  <a:pt x="3936" y="13543"/>
                  <a:pt x="3944" y="13543"/>
                </a:cubicBezTo>
              </a:path>
              <a:path w="844" h="943">
                <a:moveTo>
                  <a:pt x="4688" y="13047"/>
                </a:moveTo>
                <a:cubicBezTo>
                  <a:pt x="4672" y="12955"/>
                  <a:pt x="4659" y="12867"/>
                  <a:pt x="4564" y="12824"/>
                </a:cubicBezTo>
                <a:cubicBezTo>
                  <a:pt x="4430" y="12764"/>
                  <a:pt x="4343" y="12917"/>
                  <a:pt x="4316" y="12998"/>
                </a:cubicBezTo>
                <a:cubicBezTo>
                  <a:pt x="4480" y="13073"/>
                  <a:pt x="4526" y="13040"/>
                  <a:pt x="4663" y="12923"/>
                </a:cubicBezTo>
                <a:cubicBezTo>
                  <a:pt x="4642" y="13072"/>
                  <a:pt x="4615" y="13188"/>
                  <a:pt x="4539" y="13320"/>
                </a:cubicBezTo>
                <a:cubicBezTo>
                  <a:pt x="4524" y="13345"/>
                  <a:pt x="4514" y="13390"/>
                  <a:pt x="4514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66960" y="4643280"/>
            <a:ext cx="142920" cy="16056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5234" y="12948"/>
                </a:moveTo>
                <a:cubicBezTo>
                  <a:pt x="5313" y="13077"/>
                  <a:pt x="5391" y="13200"/>
                  <a:pt x="5432" y="13345"/>
                </a:cubicBezTo>
              </a:path>
              <a:path w="398" h="448">
                <a:moveTo>
                  <a:pt x="5581" y="12898"/>
                </a:moveTo>
                <a:cubicBezTo>
                  <a:pt x="5488" y="12991"/>
                  <a:pt x="5209" y="13224"/>
                  <a:pt x="5209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0720" y="4572000"/>
            <a:ext cx="366480" cy="258840"/>
          </a:xfrm>
          <a:custGeom>
            <a:avLst/>
            <a:gdLst/>
            <a:ahLst/>
            <a:rect l="l" t="t" r="r" b="b"/>
            <a:pathLst>
              <a:path w="1018" h="720">
                <a:moveTo>
                  <a:pt x="6127" y="12898"/>
                </a:moveTo>
                <a:cubicBezTo>
                  <a:pt x="6073" y="13019"/>
                  <a:pt x="6035" y="13184"/>
                  <a:pt x="6003" y="13320"/>
                </a:cubicBezTo>
                <a:cubicBezTo>
                  <a:pt x="6003" y="13366"/>
                  <a:pt x="6015" y="13357"/>
                  <a:pt x="6052" y="13271"/>
                </a:cubicBezTo>
              </a:path>
              <a:path w="1018" h="720">
                <a:moveTo>
                  <a:pt x="6524" y="12874"/>
                </a:moveTo>
                <a:cubicBezTo>
                  <a:pt x="6412" y="13040"/>
                  <a:pt x="6330" y="13178"/>
                  <a:pt x="6276" y="13370"/>
                </a:cubicBezTo>
                <a:cubicBezTo>
                  <a:pt x="6461" y="13437"/>
                  <a:pt x="6582" y="13411"/>
                  <a:pt x="6648" y="13196"/>
                </a:cubicBezTo>
                <a:cubicBezTo>
                  <a:pt x="6683" y="13083"/>
                  <a:pt x="6630" y="12982"/>
                  <a:pt x="6548" y="12923"/>
                </a:cubicBezTo>
              </a:path>
              <a:path w="1018" h="720">
                <a:moveTo>
                  <a:pt x="6896" y="12700"/>
                </a:moveTo>
                <a:cubicBezTo>
                  <a:pt x="6883" y="12787"/>
                  <a:pt x="6867" y="12808"/>
                  <a:pt x="6821" y="12874"/>
                </a:cubicBezTo>
                <a:cubicBezTo>
                  <a:pt x="6887" y="12874"/>
                  <a:pt x="6954" y="12874"/>
                  <a:pt x="7020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51120" y="4643280"/>
            <a:ext cx="79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7665" y="12973"/>
                </a:moveTo>
                <a:cubicBezTo>
                  <a:pt x="7665" y="12948"/>
                  <a:pt x="7665" y="12940"/>
                  <a:pt x="7665" y="12923"/>
                </a:cubicBezTo>
                <a:cubicBezTo>
                  <a:pt x="7665" y="12873"/>
                  <a:pt x="7646" y="13064"/>
                  <a:pt x="7640" y="13097"/>
                </a:cubicBezTo>
                <a:cubicBezTo>
                  <a:pt x="7640" y="13122"/>
                  <a:pt x="7640" y="13130"/>
                  <a:pt x="7640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46240" y="4527720"/>
            <a:ext cx="1081080" cy="322200"/>
          </a:xfrm>
          <a:custGeom>
            <a:avLst/>
            <a:gdLst/>
            <a:ahLst/>
            <a:rect l="l" t="t" r="r" b="b"/>
            <a:pathLst>
              <a:path w="3002" h="894">
                <a:moveTo>
                  <a:pt x="8508" y="12675"/>
                </a:moveTo>
                <a:cubicBezTo>
                  <a:pt x="8403" y="12701"/>
                  <a:pt x="8247" y="12980"/>
                  <a:pt x="8210" y="13072"/>
                </a:cubicBezTo>
                <a:cubicBezTo>
                  <a:pt x="8131" y="13265"/>
                  <a:pt x="8205" y="13303"/>
                  <a:pt x="8310" y="13395"/>
                </a:cubicBezTo>
                <a:cubicBezTo>
                  <a:pt x="8310" y="13422"/>
                  <a:pt x="8312" y="13428"/>
                  <a:pt x="8334" y="13395"/>
                </a:cubicBezTo>
              </a:path>
              <a:path w="3002" h="894">
                <a:moveTo>
                  <a:pt x="8558" y="12849"/>
                </a:moveTo>
                <a:cubicBezTo>
                  <a:pt x="8655" y="12870"/>
                  <a:pt x="8721" y="12898"/>
                  <a:pt x="8830" y="12898"/>
                </a:cubicBezTo>
                <a:cubicBezTo>
                  <a:pt x="8849" y="13022"/>
                  <a:pt x="8718" y="13144"/>
                  <a:pt x="8657" y="13271"/>
                </a:cubicBezTo>
                <a:cubicBezTo>
                  <a:pt x="8657" y="13295"/>
                  <a:pt x="8657" y="13303"/>
                  <a:pt x="8682" y="13295"/>
                </a:cubicBezTo>
              </a:path>
              <a:path w="3002" h="894">
                <a:moveTo>
                  <a:pt x="9029" y="12874"/>
                </a:moveTo>
                <a:cubicBezTo>
                  <a:pt x="9108" y="12982"/>
                  <a:pt x="9186" y="13114"/>
                  <a:pt x="9227" y="13246"/>
                </a:cubicBezTo>
                <a:cubicBezTo>
                  <a:pt x="9239" y="13286"/>
                  <a:pt x="9239" y="13256"/>
                  <a:pt x="9252" y="13295"/>
                </a:cubicBezTo>
              </a:path>
              <a:path w="3002" h="894">
                <a:moveTo>
                  <a:pt x="9327" y="12898"/>
                </a:moveTo>
                <a:cubicBezTo>
                  <a:pt x="9202" y="13006"/>
                  <a:pt x="9111" y="13119"/>
                  <a:pt x="9004" y="13246"/>
                </a:cubicBezTo>
                <a:cubicBezTo>
                  <a:pt x="8996" y="13254"/>
                  <a:pt x="8987" y="13263"/>
                  <a:pt x="8979" y="13271"/>
                </a:cubicBezTo>
              </a:path>
              <a:path w="3002" h="894">
                <a:moveTo>
                  <a:pt x="9699" y="12874"/>
                </a:moveTo>
                <a:cubicBezTo>
                  <a:pt x="9725" y="12854"/>
                  <a:pt x="9767" y="12849"/>
                  <a:pt x="9723" y="12849"/>
                </a:cubicBezTo>
              </a:path>
              <a:path w="3002" h="894">
                <a:moveTo>
                  <a:pt x="9699" y="12973"/>
                </a:moveTo>
                <a:cubicBezTo>
                  <a:pt x="9668" y="13047"/>
                  <a:pt x="9626" y="13319"/>
                  <a:pt x="9575" y="13370"/>
                </a:cubicBezTo>
                <a:cubicBezTo>
                  <a:pt x="9544" y="13401"/>
                  <a:pt x="9568" y="13385"/>
                  <a:pt x="9624" y="13320"/>
                </a:cubicBezTo>
              </a:path>
              <a:path w="3002" h="894">
                <a:moveTo>
                  <a:pt x="10071" y="12973"/>
                </a:moveTo>
                <a:cubicBezTo>
                  <a:pt x="9998" y="12987"/>
                  <a:pt x="9846" y="13142"/>
                  <a:pt x="9872" y="13295"/>
                </a:cubicBezTo>
                <a:cubicBezTo>
                  <a:pt x="9889" y="13312"/>
                  <a:pt x="9905" y="13328"/>
                  <a:pt x="9922" y="13345"/>
                </a:cubicBezTo>
                <a:cubicBezTo>
                  <a:pt x="10076" y="13356"/>
                  <a:pt x="10240" y="13288"/>
                  <a:pt x="10269" y="13097"/>
                </a:cubicBezTo>
                <a:cubicBezTo>
                  <a:pt x="10282" y="13013"/>
                  <a:pt x="10153" y="12883"/>
                  <a:pt x="10071" y="12898"/>
                </a:cubicBezTo>
                <a:cubicBezTo>
                  <a:pt x="10046" y="12915"/>
                  <a:pt x="10021" y="12931"/>
                  <a:pt x="9996" y="12948"/>
                </a:cubicBezTo>
              </a:path>
              <a:path w="3002" h="894">
                <a:moveTo>
                  <a:pt x="10443" y="12898"/>
                </a:moveTo>
                <a:cubicBezTo>
                  <a:pt x="10484" y="12874"/>
                  <a:pt x="10591" y="12847"/>
                  <a:pt x="10641" y="12874"/>
                </a:cubicBezTo>
                <a:cubicBezTo>
                  <a:pt x="10742" y="12928"/>
                  <a:pt x="10594" y="13075"/>
                  <a:pt x="10542" y="13097"/>
                </a:cubicBezTo>
                <a:cubicBezTo>
                  <a:pt x="10501" y="13097"/>
                  <a:pt x="10493" y="13097"/>
                  <a:pt x="10468" y="13097"/>
                </a:cubicBezTo>
                <a:cubicBezTo>
                  <a:pt x="10522" y="13139"/>
                  <a:pt x="10622" y="13137"/>
                  <a:pt x="10691" y="13122"/>
                </a:cubicBezTo>
                <a:cubicBezTo>
                  <a:pt x="10736" y="13112"/>
                  <a:pt x="10780" y="13075"/>
                  <a:pt x="10815" y="13047"/>
                </a:cubicBezTo>
              </a:path>
              <a:path w="3002" h="894">
                <a:moveTo>
                  <a:pt x="10864" y="12576"/>
                </a:moveTo>
                <a:cubicBezTo>
                  <a:pt x="11044" y="12707"/>
                  <a:pt x="11170" y="12888"/>
                  <a:pt x="11187" y="13122"/>
                </a:cubicBezTo>
                <a:cubicBezTo>
                  <a:pt x="11193" y="13196"/>
                  <a:pt x="11142" y="13469"/>
                  <a:pt x="11013" y="13469"/>
                </a:cubicBezTo>
                <a:cubicBezTo>
                  <a:pt x="10964" y="13444"/>
                  <a:pt x="10948" y="13436"/>
                  <a:pt x="10988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79960" y="4643280"/>
            <a:ext cx="125280" cy="13500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11782" y="12923"/>
                </a:moveTo>
                <a:cubicBezTo>
                  <a:pt x="11807" y="12923"/>
                  <a:pt x="11815" y="12923"/>
                  <a:pt x="11807" y="12898"/>
                </a:cubicBezTo>
                <a:cubicBezTo>
                  <a:pt x="11788" y="12994"/>
                  <a:pt x="11768" y="13095"/>
                  <a:pt x="11757" y="13196"/>
                </a:cubicBezTo>
                <a:cubicBezTo>
                  <a:pt x="11757" y="13238"/>
                  <a:pt x="11757" y="13246"/>
                  <a:pt x="11757" y="13271"/>
                </a:cubicBezTo>
              </a:path>
              <a:path w="348" h="374">
                <a:moveTo>
                  <a:pt x="11609" y="13146"/>
                </a:moveTo>
                <a:cubicBezTo>
                  <a:pt x="11685" y="13146"/>
                  <a:pt x="11754" y="13126"/>
                  <a:pt x="11832" y="13122"/>
                </a:cubicBezTo>
                <a:cubicBezTo>
                  <a:pt x="11873" y="13120"/>
                  <a:pt x="11915" y="13122"/>
                  <a:pt x="11956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2640" y="4599000"/>
            <a:ext cx="11736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12750" y="12824"/>
                </a:moveTo>
                <a:cubicBezTo>
                  <a:pt x="12807" y="12798"/>
                  <a:pt x="12953" y="12715"/>
                  <a:pt x="12998" y="12799"/>
                </a:cubicBezTo>
                <a:cubicBezTo>
                  <a:pt x="12998" y="12816"/>
                  <a:pt x="12998" y="12832"/>
                  <a:pt x="12998" y="12849"/>
                </a:cubicBezTo>
                <a:cubicBezTo>
                  <a:pt x="12926" y="12921"/>
                  <a:pt x="12897" y="12934"/>
                  <a:pt x="12799" y="12973"/>
                </a:cubicBezTo>
                <a:cubicBezTo>
                  <a:pt x="12899" y="12939"/>
                  <a:pt x="12994" y="13023"/>
                  <a:pt x="12998" y="13146"/>
                </a:cubicBezTo>
                <a:cubicBezTo>
                  <a:pt x="13004" y="13363"/>
                  <a:pt x="12772" y="13301"/>
                  <a:pt x="1267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95920" y="4643280"/>
            <a:ext cx="98280" cy="135000"/>
          </a:xfrm>
          <a:custGeom>
            <a:avLst/>
            <a:gdLst/>
            <a:ahLst/>
            <a:rect l="l" t="t" r="r" b="b"/>
            <a:pathLst>
              <a:path w="274" h="374">
                <a:moveTo>
                  <a:pt x="13320" y="12923"/>
                </a:moveTo>
                <a:cubicBezTo>
                  <a:pt x="13382" y="12944"/>
                  <a:pt x="13409" y="13128"/>
                  <a:pt x="13444" y="13196"/>
                </a:cubicBezTo>
                <a:cubicBezTo>
                  <a:pt x="13482" y="13253"/>
                  <a:pt x="13499" y="13300"/>
                  <a:pt x="13494" y="13246"/>
                </a:cubicBezTo>
              </a:path>
              <a:path w="274" h="374">
                <a:moveTo>
                  <a:pt x="13593" y="12898"/>
                </a:moveTo>
                <a:cubicBezTo>
                  <a:pt x="13530" y="13009"/>
                  <a:pt x="13361" y="13201"/>
                  <a:pt x="13419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18040" y="4491000"/>
            <a:ext cx="519120" cy="393840"/>
          </a:xfrm>
          <a:custGeom>
            <a:avLst/>
            <a:gdLst/>
            <a:ahLst/>
            <a:rect l="l" t="t" r="r" b="b"/>
            <a:pathLst>
              <a:path w="1440" h="1092">
                <a:moveTo>
                  <a:pt x="13940" y="12923"/>
                </a:moveTo>
                <a:cubicBezTo>
                  <a:pt x="13965" y="13073"/>
                  <a:pt x="13965" y="13216"/>
                  <a:pt x="13965" y="13370"/>
                </a:cubicBezTo>
                <a:cubicBezTo>
                  <a:pt x="13965" y="13395"/>
                  <a:pt x="13965" y="13403"/>
                  <a:pt x="13965" y="13370"/>
                </a:cubicBezTo>
              </a:path>
              <a:path w="1440" h="1092">
                <a:moveTo>
                  <a:pt x="14387" y="12898"/>
                </a:moveTo>
                <a:cubicBezTo>
                  <a:pt x="14245" y="13063"/>
                  <a:pt x="14203" y="13156"/>
                  <a:pt x="14213" y="13370"/>
                </a:cubicBezTo>
                <a:cubicBezTo>
                  <a:pt x="14390" y="13392"/>
                  <a:pt x="14527" y="13373"/>
                  <a:pt x="14585" y="13171"/>
                </a:cubicBezTo>
                <a:cubicBezTo>
                  <a:pt x="14607" y="13095"/>
                  <a:pt x="14579" y="12965"/>
                  <a:pt x="14486" y="12948"/>
                </a:cubicBezTo>
                <a:cubicBezTo>
                  <a:pt x="14461" y="12948"/>
                  <a:pt x="14437" y="12948"/>
                  <a:pt x="14412" y="12948"/>
                </a:cubicBezTo>
              </a:path>
              <a:path w="1440" h="1092">
                <a:moveTo>
                  <a:pt x="14833" y="12774"/>
                </a:moveTo>
                <a:cubicBezTo>
                  <a:pt x="14807" y="12700"/>
                  <a:pt x="14756" y="12814"/>
                  <a:pt x="14734" y="12849"/>
                </a:cubicBezTo>
                <a:cubicBezTo>
                  <a:pt x="14750" y="12861"/>
                  <a:pt x="14982" y="12910"/>
                  <a:pt x="14982" y="12799"/>
                </a:cubicBezTo>
                <a:cubicBezTo>
                  <a:pt x="14932" y="12774"/>
                  <a:pt x="14916" y="12766"/>
                  <a:pt x="14883" y="12750"/>
                </a:cubicBezTo>
              </a:path>
              <a:path w="1440" h="1092">
                <a:moveTo>
                  <a:pt x="15032" y="12477"/>
                </a:moveTo>
                <a:cubicBezTo>
                  <a:pt x="15232" y="12614"/>
                  <a:pt x="15344" y="12795"/>
                  <a:pt x="15379" y="13047"/>
                </a:cubicBezTo>
                <a:cubicBezTo>
                  <a:pt x="15415" y="13306"/>
                  <a:pt x="15316" y="13374"/>
                  <a:pt x="15180" y="13543"/>
                </a:cubicBezTo>
                <a:cubicBezTo>
                  <a:pt x="15180" y="13551"/>
                  <a:pt x="15180" y="13560"/>
                  <a:pt x="15180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4920" y="634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349" y="17636"/>
                </a:moveTo>
                <a:lnTo>
                  <a:pt x="3349" y="176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7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941640"/>
            <a:ext cx="73152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5760" y="460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049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what we have learned so f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2/5 as a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3 5/8 as a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.28 as a f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5.2 as a f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13720" y="7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1840" y="1347840"/>
            <a:ext cx="2286000" cy="706320"/>
          </a:xfrm>
          <a:custGeom>
            <a:avLst/>
            <a:gdLst/>
            <a:ahLst/>
            <a:rect l="l" t="t" r="r" b="b"/>
            <a:pathLst>
              <a:path w="6351" h="1960">
                <a:moveTo>
                  <a:pt x="10666" y="4043"/>
                </a:moveTo>
                <a:cubicBezTo>
                  <a:pt x="10732" y="3970"/>
                  <a:pt x="10790" y="3907"/>
                  <a:pt x="10864" y="3845"/>
                </a:cubicBezTo>
                <a:cubicBezTo>
                  <a:pt x="11110" y="3954"/>
                  <a:pt x="11166" y="4126"/>
                  <a:pt x="11013" y="4390"/>
                </a:cubicBezTo>
                <a:cubicBezTo>
                  <a:pt x="10912" y="4565"/>
                  <a:pt x="10814" y="4604"/>
                  <a:pt x="10641" y="4638"/>
                </a:cubicBezTo>
                <a:cubicBezTo>
                  <a:pt x="10703" y="4517"/>
                  <a:pt x="10843" y="4426"/>
                  <a:pt x="10988" y="4415"/>
                </a:cubicBezTo>
                <a:cubicBezTo>
                  <a:pt x="11114" y="4406"/>
                  <a:pt x="11243" y="4462"/>
                  <a:pt x="11336" y="4539"/>
                </a:cubicBezTo>
              </a:path>
              <a:path w="6351" h="1960">
                <a:moveTo>
                  <a:pt x="10393" y="4936"/>
                </a:moveTo>
                <a:cubicBezTo>
                  <a:pt x="10709" y="4880"/>
                  <a:pt x="11019" y="4810"/>
                  <a:pt x="11336" y="4762"/>
                </a:cubicBezTo>
                <a:cubicBezTo>
                  <a:pt x="11453" y="4743"/>
                  <a:pt x="11475" y="4750"/>
                  <a:pt x="11534" y="4713"/>
                </a:cubicBezTo>
              </a:path>
              <a:path w="6351" h="1960">
                <a:moveTo>
                  <a:pt x="11187" y="4961"/>
                </a:moveTo>
                <a:cubicBezTo>
                  <a:pt x="11104" y="4991"/>
                  <a:pt x="10867" y="4997"/>
                  <a:pt x="10815" y="5060"/>
                </a:cubicBezTo>
                <a:cubicBezTo>
                  <a:pt x="10756" y="5131"/>
                  <a:pt x="10769" y="5282"/>
                  <a:pt x="10740" y="5358"/>
                </a:cubicBezTo>
                <a:cubicBezTo>
                  <a:pt x="10855" y="5358"/>
                  <a:pt x="10952" y="5293"/>
                  <a:pt x="11063" y="5259"/>
                </a:cubicBezTo>
                <a:cubicBezTo>
                  <a:pt x="11231" y="5207"/>
                  <a:pt x="11380" y="5371"/>
                  <a:pt x="11261" y="5531"/>
                </a:cubicBezTo>
                <a:cubicBezTo>
                  <a:pt x="11150" y="5681"/>
                  <a:pt x="10932" y="5691"/>
                  <a:pt x="10765" y="5705"/>
                </a:cubicBezTo>
              </a:path>
              <a:path w="6351" h="1960">
                <a:moveTo>
                  <a:pt x="11708" y="4688"/>
                </a:moveTo>
                <a:cubicBezTo>
                  <a:pt x="11801" y="4726"/>
                  <a:pt x="11883" y="4860"/>
                  <a:pt x="11956" y="4936"/>
                </a:cubicBezTo>
                <a:cubicBezTo>
                  <a:pt x="11972" y="4953"/>
                  <a:pt x="11989" y="4969"/>
                  <a:pt x="12005" y="4986"/>
                </a:cubicBezTo>
              </a:path>
              <a:path w="6351" h="1960">
                <a:moveTo>
                  <a:pt x="12030" y="4614"/>
                </a:moveTo>
                <a:cubicBezTo>
                  <a:pt x="11959" y="4685"/>
                  <a:pt x="11899" y="4801"/>
                  <a:pt x="11881" y="4911"/>
                </a:cubicBezTo>
                <a:cubicBezTo>
                  <a:pt x="11881" y="4979"/>
                  <a:pt x="11884" y="4998"/>
                  <a:pt x="11857" y="5035"/>
                </a:cubicBezTo>
              </a:path>
              <a:path w="6351" h="1960">
                <a:moveTo>
                  <a:pt x="12452" y="4787"/>
                </a:moveTo>
                <a:cubicBezTo>
                  <a:pt x="12444" y="4787"/>
                  <a:pt x="12435" y="4787"/>
                  <a:pt x="12427" y="4787"/>
                </a:cubicBezTo>
                <a:cubicBezTo>
                  <a:pt x="12432" y="4773"/>
                  <a:pt x="12499" y="4727"/>
                  <a:pt x="12526" y="4762"/>
                </a:cubicBezTo>
                <a:cubicBezTo>
                  <a:pt x="12633" y="4897"/>
                  <a:pt x="12407" y="5056"/>
                  <a:pt x="12328" y="5135"/>
                </a:cubicBezTo>
                <a:cubicBezTo>
                  <a:pt x="12422" y="5123"/>
                  <a:pt x="12507" y="5077"/>
                  <a:pt x="12601" y="5060"/>
                </a:cubicBezTo>
              </a:path>
              <a:path w="6351" h="1960">
                <a:moveTo>
                  <a:pt x="12849" y="4688"/>
                </a:moveTo>
                <a:cubicBezTo>
                  <a:pt x="12739" y="4688"/>
                  <a:pt x="12716" y="4752"/>
                  <a:pt x="12700" y="4862"/>
                </a:cubicBezTo>
                <a:cubicBezTo>
                  <a:pt x="12683" y="4978"/>
                  <a:pt x="12737" y="5077"/>
                  <a:pt x="12874" y="5035"/>
                </a:cubicBezTo>
                <a:cubicBezTo>
                  <a:pt x="12954" y="5010"/>
                  <a:pt x="13031" y="4887"/>
                  <a:pt x="12973" y="4812"/>
                </a:cubicBezTo>
                <a:cubicBezTo>
                  <a:pt x="12964" y="4800"/>
                  <a:pt x="12893" y="4812"/>
                  <a:pt x="12874" y="4812"/>
                </a:cubicBezTo>
              </a:path>
              <a:path w="6351" h="1960">
                <a:moveTo>
                  <a:pt x="13395" y="4564"/>
                </a:moveTo>
                <a:cubicBezTo>
                  <a:pt x="13408" y="4525"/>
                  <a:pt x="13491" y="4526"/>
                  <a:pt x="13543" y="4514"/>
                </a:cubicBezTo>
                <a:cubicBezTo>
                  <a:pt x="13640" y="4491"/>
                  <a:pt x="13633" y="4471"/>
                  <a:pt x="13692" y="4514"/>
                </a:cubicBezTo>
              </a:path>
              <a:path w="6351" h="1960">
                <a:moveTo>
                  <a:pt x="13370" y="4762"/>
                </a:moveTo>
                <a:cubicBezTo>
                  <a:pt x="13476" y="4709"/>
                  <a:pt x="13573" y="4680"/>
                  <a:pt x="13692" y="4663"/>
                </a:cubicBezTo>
              </a:path>
              <a:path w="6351" h="1960">
                <a:moveTo>
                  <a:pt x="14238" y="4614"/>
                </a:moveTo>
                <a:cubicBezTo>
                  <a:pt x="14445" y="4562"/>
                  <a:pt x="14669" y="4525"/>
                  <a:pt x="14883" y="4514"/>
                </a:cubicBezTo>
                <a:cubicBezTo>
                  <a:pt x="15171" y="4499"/>
                  <a:pt x="15463" y="4514"/>
                  <a:pt x="15751" y="4514"/>
                </a:cubicBezTo>
              </a:path>
              <a:path w="6351" h="1960">
                <a:moveTo>
                  <a:pt x="12874" y="4738"/>
                </a:moveTo>
                <a:cubicBezTo>
                  <a:pt x="12896" y="4749"/>
                  <a:pt x="12958" y="4803"/>
                  <a:pt x="12973" y="4837"/>
                </a:cubicBezTo>
                <a:cubicBezTo>
                  <a:pt x="12973" y="4862"/>
                  <a:pt x="12973" y="4870"/>
                  <a:pt x="12973" y="4887"/>
                </a:cubicBezTo>
              </a:path>
              <a:path w="6351" h="1960">
                <a:moveTo>
                  <a:pt x="12353" y="4638"/>
                </a:moveTo>
                <a:cubicBezTo>
                  <a:pt x="12445" y="4620"/>
                  <a:pt x="12561" y="4601"/>
                  <a:pt x="12650" y="4564"/>
                </a:cubicBezTo>
                <a:cubicBezTo>
                  <a:pt x="12673" y="4541"/>
                  <a:pt x="12677" y="4533"/>
                  <a:pt x="12700" y="4539"/>
                </a:cubicBezTo>
              </a:path>
              <a:path w="6351" h="1960">
                <a:moveTo>
                  <a:pt x="12303" y="4217"/>
                </a:moveTo>
                <a:cubicBezTo>
                  <a:pt x="12352" y="4189"/>
                  <a:pt x="12431" y="4103"/>
                  <a:pt x="12452" y="4167"/>
                </a:cubicBezTo>
                <a:cubicBezTo>
                  <a:pt x="12425" y="4287"/>
                  <a:pt x="12342" y="4350"/>
                  <a:pt x="12254" y="4440"/>
                </a:cubicBezTo>
                <a:cubicBezTo>
                  <a:pt x="12321" y="4426"/>
                  <a:pt x="12385" y="4380"/>
                  <a:pt x="12452" y="4366"/>
                </a:cubicBezTo>
                <a:cubicBezTo>
                  <a:pt x="12518" y="4352"/>
                  <a:pt x="12536" y="4369"/>
                  <a:pt x="12601" y="4341"/>
                </a:cubicBezTo>
              </a:path>
              <a:path w="6351" h="1960">
                <a:moveTo>
                  <a:pt x="12626" y="4068"/>
                </a:moveTo>
                <a:cubicBezTo>
                  <a:pt x="12573" y="4032"/>
                  <a:pt x="12562" y="4157"/>
                  <a:pt x="12576" y="4217"/>
                </a:cubicBezTo>
                <a:cubicBezTo>
                  <a:pt x="12598" y="4239"/>
                  <a:pt x="12607" y="4244"/>
                  <a:pt x="12601" y="4266"/>
                </a:cubicBezTo>
                <a:cubicBezTo>
                  <a:pt x="12679" y="4259"/>
                  <a:pt x="12805" y="4249"/>
                  <a:pt x="12774" y="4118"/>
                </a:cubicBezTo>
                <a:cubicBezTo>
                  <a:pt x="12758" y="4049"/>
                  <a:pt x="12684" y="4084"/>
                  <a:pt x="12650" y="4093"/>
                </a:cubicBezTo>
              </a:path>
              <a:path w="6351" h="1960">
                <a:moveTo>
                  <a:pt x="12601" y="4589"/>
                </a:moveTo>
                <a:cubicBezTo>
                  <a:pt x="12671" y="4565"/>
                  <a:pt x="12749" y="4546"/>
                  <a:pt x="12824" y="4539"/>
                </a:cubicBezTo>
                <a:cubicBezTo>
                  <a:pt x="12862" y="4536"/>
                  <a:pt x="12849" y="4497"/>
                  <a:pt x="12849" y="4539"/>
                </a:cubicBezTo>
              </a:path>
              <a:path w="6351" h="1960">
                <a:moveTo>
                  <a:pt x="14412" y="4887"/>
                </a:moveTo>
                <a:cubicBezTo>
                  <a:pt x="14358" y="4922"/>
                  <a:pt x="14402" y="5173"/>
                  <a:pt x="14412" y="5259"/>
                </a:cubicBezTo>
                <a:cubicBezTo>
                  <a:pt x="14429" y="5408"/>
                  <a:pt x="14409" y="5421"/>
                  <a:pt x="14486" y="5358"/>
                </a:cubicBezTo>
              </a:path>
              <a:path w="6351" h="1960">
                <a:moveTo>
                  <a:pt x="14808" y="4887"/>
                </a:moveTo>
                <a:cubicBezTo>
                  <a:pt x="14713" y="4914"/>
                  <a:pt x="14607" y="5095"/>
                  <a:pt x="14610" y="5209"/>
                </a:cubicBezTo>
                <a:cubicBezTo>
                  <a:pt x="14615" y="5405"/>
                  <a:pt x="14949" y="5267"/>
                  <a:pt x="14982" y="5159"/>
                </a:cubicBezTo>
                <a:cubicBezTo>
                  <a:pt x="15002" y="5094"/>
                  <a:pt x="14925" y="4921"/>
                  <a:pt x="14833" y="4936"/>
                </a:cubicBezTo>
                <a:cubicBezTo>
                  <a:pt x="14825" y="4944"/>
                  <a:pt x="14816" y="4953"/>
                  <a:pt x="14808" y="4961"/>
                </a:cubicBezTo>
              </a:path>
              <a:path w="6351" h="1960">
                <a:moveTo>
                  <a:pt x="15304" y="4837"/>
                </a:moveTo>
                <a:cubicBezTo>
                  <a:pt x="15279" y="4916"/>
                  <a:pt x="15168" y="5014"/>
                  <a:pt x="15156" y="5135"/>
                </a:cubicBezTo>
                <a:cubicBezTo>
                  <a:pt x="15140" y="5303"/>
                  <a:pt x="15397" y="5295"/>
                  <a:pt x="15478" y="5209"/>
                </a:cubicBezTo>
                <a:cubicBezTo>
                  <a:pt x="15563" y="5119"/>
                  <a:pt x="15552" y="4996"/>
                  <a:pt x="15478" y="4936"/>
                </a:cubicBezTo>
                <a:cubicBezTo>
                  <a:pt x="15444" y="4908"/>
                  <a:pt x="15447" y="4911"/>
                  <a:pt x="15404" y="4911"/>
                </a:cubicBezTo>
              </a:path>
              <a:path w="6351" h="1960">
                <a:moveTo>
                  <a:pt x="14511" y="3894"/>
                </a:moveTo>
                <a:cubicBezTo>
                  <a:pt x="14511" y="3956"/>
                  <a:pt x="14478" y="4081"/>
                  <a:pt x="14560" y="4093"/>
                </a:cubicBezTo>
                <a:cubicBezTo>
                  <a:pt x="14627" y="4103"/>
                  <a:pt x="14727" y="4103"/>
                  <a:pt x="14784" y="4068"/>
                </a:cubicBezTo>
                <a:cubicBezTo>
                  <a:pt x="14792" y="4060"/>
                  <a:pt x="14800" y="4051"/>
                  <a:pt x="14808" y="4043"/>
                </a:cubicBezTo>
              </a:path>
              <a:path w="6351" h="1960">
                <a:moveTo>
                  <a:pt x="14709" y="3746"/>
                </a:moveTo>
                <a:cubicBezTo>
                  <a:pt x="14709" y="3887"/>
                  <a:pt x="14748" y="4026"/>
                  <a:pt x="14759" y="4167"/>
                </a:cubicBezTo>
                <a:cubicBezTo>
                  <a:pt x="14767" y="4266"/>
                  <a:pt x="14743" y="4314"/>
                  <a:pt x="14808" y="4291"/>
                </a:cubicBezTo>
              </a:path>
              <a:path w="6351" h="1960">
                <a:moveTo>
                  <a:pt x="15032" y="3746"/>
                </a:moveTo>
                <a:cubicBezTo>
                  <a:pt x="14972" y="3889"/>
                  <a:pt x="14914" y="4037"/>
                  <a:pt x="14982" y="4192"/>
                </a:cubicBezTo>
                <a:cubicBezTo>
                  <a:pt x="15048" y="4344"/>
                  <a:pt x="15172" y="4228"/>
                  <a:pt x="15230" y="4167"/>
                </a:cubicBezTo>
                <a:cubicBezTo>
                  <a:pt x="15308" y="4085"/>
                  <a:pt x="15330" y="3977"/>
                  <a:pt x="15280" y="3870"/>
                </a:cubicBezTo>
                <a:cubicBezTo>
                  <a:pt x="15246" y="3798"/>
                  <a:pt x="15117" y="3799"/>
                  <a:pt x="15056" y="3795"/>
                </a:cubicBezTo>
                <a:cubicBezTo>
                  <a:pt x="15032" y="3795"/>
                  <a:pt x="15023" y="3795"/>
                  <a:pt x="15007" y="3795"/>
                </a:cubicBezTo>
              </a:path>
              <a:path w="6351" h="1960">
                <a:moveTo>
                  <a:pt x="16346" y="4490"/>
                </a:moveTo>
                <a:cubicBezTo>
                  <a:pt x="16445" y="4462"/>
                  <a:pt x="16539" y="4429"/>
                  <a:pt x="16644" y="4415"/>
                </a:cubicBezTo>
                <a:cubicBezTo>
                  <a:pt x="16661" y="4415"/>
                  <a:pt x="16677" y="4415"/>
                  <a:pt x="16694" y="4415"/>
                </a:cubicBezTo>
              </a:path>
              <a:path w="6351" h="1960">
                <a:moveTo>
                  <a:pt x="16272" y="4738"/>
                </a:moveTo>
                <a:cubicBezTo>
                  <a:pt x="16417" y="4738"/>
                  <a:pt x="16529" y="4709"/>
                  <a:pt x="16669" y="4688"/>
                </a:cubicBezTo>
                <a:cubicBezTo>
                  <a:pt x="16710" y="4688"/>
                  <a:pt x="16718" y="4688"/>
                  <a:pt x="16743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1438200"/>
            <a:ext cx="822240" cy="374760"/>
          </a:xfrm>
          <a:custGeom>
            <a:avLst/>
            <a:gdLst/>
            <a:ahLst/>
            <a:rect l="l" t="t" r="r" b="b"/>
            <a:pathLst>
              <a:path w="2284" h="1042">
                <a:moveTo>
                  <a:pt x="17835" y="4242"/>
                </a:moveTo>
                <a:cubicBezTo>
                  <a:pt x="17798" y="4169"/>
                  <a:pt x="17668" y="4142"/>
                  <a:pt x="17587" y="4192"/>
                </a:cubicBezTo>
                <a:cubicBezTo>
                  <a:pt x="17378" y="4319"/>
                  <a:pt x="17301" y="4642"/>
                  <a:pt x="17363" y="4862"/>
                </a:cubicBezTo>
                <a:cubicBezTo>
                  <a:pt x="17440" y="5135"/>
                  <a:pt x="17774" y="5035"/>
                  <a:pt x="17934" y="4911"/>
                </a:cubicBezTo>
                <a:cubicBezTo>
                  <a:pt x="18110" y="4774"/>
                  <a:pt x="18077" y="4520"/>
                  <a:pt x="18008" y="4341"/>
                </a:cubicBezTo>
                <a:cubicBezTo>
                  <a:pt x="17956" y="4208"/>
                  <a:pt x="17846" y="4225"/>
                  <a:pt x="17785" y="4142"/>
                </a:cubicBezTo>
              </a:path>
              <a:path w="2284" h="1042">
                <a:moveTo>
                  <a:pt x="18380" y="4738"/>
                </a:moveTo>
                <a:cubicBezTo>
                  <a:pt x="18321" y="4714"/>
                  <a:pt x="18184" y="4820"/>
                  <a:pt x="18256" y="4887"/>
                </a:cubicBezTo>
                <a:cubicBezTo>
                  <a:pt x="18288" y="4917"/>
                  <a:pt x="18467" y="4835"/>
                  <a:pt x="18331" y="4812"/>
                </a:cubicBezTo>
              </a:path>
              <a:path w="2284" h="1042">
                <a:moveTo>
                  <a:pt x="18628" y="4192"/>
                </a:moveTo>
                <a:cubicBezTo>
                  <a:pt x="18666" y="4242"/>
                  <a:pt x="18646" y="4288"/>
                  <a:pt x="18628" y="4366"/>
                </a:cubicBezTo>
                <a:cubicBezTo>
                  <a:pt x="18721" y="4388"/>
                  <a:pt x="18765" y="4422"/>
                  <a:pt x="18876" y="4390"/>
                </a:cubicBezTo>
                <a:cubicBezTo>
                  <a:pt x="18970" y="4363"/>
                  <a:pt x="19007" y="4363"/>
                  <a:pt x="19025" y="4291"/>
                </a:cubicBezTo>
              </a:path>
              <a:path w="2284" h="1042">
                <a:moveTo>
                  <a:pt x="18827" y="3994"/>
                </a:moveTo>
                <a:cubicBezTo>
                  <a:pt x="18848" y="4178"/>
                  <a:pt x="18907" y="4354"/>
                  <a:pt x="18926" y="4539"/>
                </a:cubicBezTo>
                <a:cubicBezTo>
                  <a:pt x="18935" y="4631"/>
                  <a:pt x="18902" y="4712"/>
                  <a:pt x="18976" y="4638"/>
                </a:cubicBezTo>
              </a:path>
              <a:path w="2284" h="1042">
                <a:moveTo>
                  <a:pt x="19397" y="3994"/>
                </a:moveTo>
                <a:cubicBezTo>
                  <a:pt x="19241" y="4033"/>
                  <a:pt x="19215" y="4189"/>
                  <a:pt x="19199" y="4341"/>
                </a:cubicBezTo>
                <a:cubicBezTo>
                  <a:pt x="19183" y="4489"/>
                  <a:pt x="19217" y="4553"/>
                  <a:pt x="19298" y="4663"/>
                </a:cubicBezTo>
                <a:cubicBezTo>
                  <a:pt x="19463" y="4593"/>
                  <a:pt x="19640" y="4466"/>
                  <a:pt x="19621" y="4242"/>
                </a:cubicBezTo>
                <a:cubicBezTo>
                  <a:pt x="19609" y="4098"/>
                  <a:pt x="19462" y="4044"/>
                  <a:pt x="19348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97000" y="2884320"/>
            <a:ext cx="2170080" cy="1374840"/>
          </a:xfrm>
          <a:custGeom>
            <a:avLst/>
            <a:gdLst/>
            <a:ahLst/>
            <a:rect l="l" t="t" r="r" b="b"/>
            <a:pathLst>
              <a:path w="6028" h="3821">
                <a:moveTo>
                  <a:pt x="4787" y="10096"/>
                </a:moveTo>
                <a:cubicBezTo>
                  <a:pt x="5363" y="10198"/>
                  <a:pt x="5941" y="10184"/>
                  <a:pt x="6524" y="10145"/>
                </a:cubicBezTo>
                <a:cubicBezTo>
                  <a:pt x="6951" y="10117"/>
                  <a:pt x="7389" y="10113"/>
                  <a:pt x="7813" y="10071"/>
                </a:cubicBezTo>
                <a:cubicBezTo>
                  <a:pt x="8148" y="10038"/>
                  <a:pt x="8548" y="9970"/>
                  <a:pt x="8855" y="9823"/>
                </a:cubicBezTo>
                <a:cubicBezTo>
                  <a:pt x="9119" y="9697"/>
                  <a:pt x="9256" y="9504"/>
                  <a:pt x="9327" y="9227"/>
                </a:cubicBezTo>
                <a:cubicBezTo>
                  <a:pt x="9383" y="9008"/>
                  <a:pt x="9306" y="8816"/>
                  <a:pt x="9153" y="8657"/>
                </a:cubicBezTo>
                <a:cubicBezTo>
                  <a:pt x="8916" y="8411"/>
                  <a:pt x="8563" y="8261"/>
                  <a:pt x="8235" y="8186"/>
                </a:cubicBezTo>
                <a:cubicBezTo>
                  <a:pt x="7738" y="8072"/>
                  <a:pt x="7206" y="8029"/>
                  <a:pt x="6697" y="8012"/>
                </a:cubicBezTo>
                <a:cubicBezTo>
                  <a:pt x="6267" y="7998"/>
                  <a:pt x="5892" y="8067"/>
                  <a:pt x="5482" y="8186"/>
                </a:cubicBezTo>
                <a:cubicBezTo>
                  <a:pt x="5137" y="8286"/>
                  <a:pt x="4843" y="8453"/>
                  <a:pt x="4614" y="8731"/>
                </a:cubicBezTo>
                <a:cubicBezTo>
                  <a:pt x="4475" y="8900"/>
                  <a:pt x="4397" y="9171"/>
                  <a:pt x="4514" y="9376"/>
                </a:cubicBezTo>
                <a:cubicBezTo>
                  <a:pt x="4701" y="9703"/>
                  <a:pt x="5111" y="9667"/>
                  <a:pt x="5432" y="9674"/>
                </a:cubicBezTo>
                <a:cubicBezTo>
                  <a:pt x="5583" y="9674"/>
                  <a:pt x="5607" y="9652"/>
                  <a:pt x="5680" y="9699"/>
                </a:cubicBezTo>
              </a:path>
              <a:path w="6028" h="3821">
                <a:moveTo>
                  <a:pt x="3324" y="11757"/>
                </a:moveTo>
                <a:cubicBezTo>
                  <a:pt x="3444" y="11745"/>
                  <a:pt x="3715" y="11755"/>
                  <a:pt x="3870" y="11757"/>
                </a:cubicBezTo>
                <a:cubicBezTo>
                  <a:pt x="4180" y="11760"/>
                  <a:pt x="4480" y="11791"/>
                  <a:pt x="4787" y="11832"/>
                </a:cubicBezTo>
                <a:cubicBezTo>
                  <a:pt x="4911" y="11832"/>
                  <a:pt x="4401" y="11785"/>
                  <a:pt x="4366" y="11782"/>
                </a:cubicBezTo>
                <a:cubicBezTo>
                  <a:pt x="4074" y="11755"/>
                  <a:pt x="3809" y="11780"/>
                  <a:pt x="3522" y="11807"/>
                </a:cubicBezTo>
                <a:cubicBezTo>
                  <a:pt x="3506" y="11807"/>
                  <a:pt x="3489" y="11807"/>
                  <a:pt x="3473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9040" y="2419200"/>
            <a:ext cx="955800" cy="608040"/>
          </a:xfrm>
          <a:custGeom>
            <a:avLst/>
            <a:gdLst/>
            <a:ahLst/>
            <a:rect l="l" t="t" r="r" b="b"/>
            <a:pathLst>
              <a:path w="2655" h="1688">
                <a:moveTo>
                  <a:pt x="11286" y="7169"/>
                </a:moveTo>
                <a:cubicBezTo>
                  <a:pt x="11445" y="7052"/>
                  <a:pt x="11548" y="7009"/>
                  <a:pt x="11733" y="7069"/>
                </a:cubicBezTo>
                <a:cubicBezTo>
                  <a:pt x="11637" y="7286"/>
                  <a:pt x="11521" y="7381"/>
                  <a:pt x="11311" y="7491"/>
                </a:cubicBezTo>
                <a:cubicBezTo>
                  <a:pt x="11192" y="7431"/>
                  <a:pt x="11493" y="7484"/>
                  <a:pt x="11509" y="7491"/>
                </a:cubicBezTo>
                <a:cubicBezTo>
                  <a:pt x="11862" y="7643"/>
                  <a:pt x="11666" y="7979"/>
                  <a:pt x="11435" y="8136"/>
                </a:cubicBezTo>
                <a:cubicBezTo>
                  <a:pt x="11374" y="8177"/>
                  <a:pt x="10953" y="8363"/>
                  <a:pt x="10914" y="8161"/>
                </a:cubicBezTo>
                <a:cubicBezTo>
                  <a:pt x="10922" y="8161"/>
                  <a:pt x="10931" y="8161"/>
                  <a:pt x="10939" y="8161"/>
                </a:cubicBezTo>
              </a:path>
              <a:path w="2655" h="1688">
                <a:moveTo>
                  <a:pt x="13196" y="6722"/>
                </a:moveTo>
                <a:cubicBezTo>
                  <a:pt x="13061" y="6771"/>
                  <a:pt x="12947" y="6711"/>
                  <a:pt x="12824" y="6747"/>
                </a:cubicBezTo>
                <a:cubicBezTo>
                  <a:pt x="12766" y="6764"/>
                  <a:pt x="12777" y="6986"/>
                  <a:pt x="12774" y="7045"/>
                </a:cubicBezTo>
                <a:cubicBezTo>
                  <a:pt x="12910" y="7025"/>
                  <a:pt x="13006" y="6983"/>
                  <a:pt x="13146" y="7020"/>
                </a:cubicBezTo>
                <a:cubicBezTo>
                  <a:pt x="13254" y="7062"/>
                  <a:pt x="13290" y="7061"/>
                  <a:pt x="13295" y="7144"/>
                </a:cubicBezTo>
                <a:cubicBezTo>
                  <a:pt x="13197" y="7275"/>
                  <a:pt x="13102" y="7275"/>
                  <a:pt x="12948" y="7268"/>
                </a:cubicBezTo>
                <a:cubicBezTo>
                  <a:pt x="12940" y="7268"/>
                  <a:pt x="12931" y="7268"/>
                  <a:pt x="12923" y="7268"/>
                </a:cubicBezTo>
              </a:path>
              <a:path w="2655" h="1688">
                <a:moveTo>
                  <a:pt x="12576" y="7565"/>
                </a:moveTo>
                <a:cubicBezTo>
                  <a:pt x="12843" y="7506"/>
                  <a:pt x="13095" y="7504"/>
                  <a:pt x="13370" y="7541"/>
                </a:cubicBezTo>
                <a:cubicBezTo>
                  <a:pt x="13450" y="7552"/>
                  <a:pt x="13544" y="7577"/>
                  <a:pt x="13543" y="7590"/>
                </a:cubicBezTo>
              </a:path>
              <a:path w="2655" h="1688">
                <a:moveTo>
                  <a:pt x="13196" y="7739"/>
                </a:moveTo>
                <a:cubicBezTo>
                  <a:pt x="13085" y="7675"/>
                  <a:pt x="12971" y="7689"/>
                  <a:pt x="12849" y="7739"/>
                </a:cubicBezTo>
                <a:cubicBezTo>
                  <a:pt x="12841" y="7747"/>
                  <a:pt x="12832" y="7756"/>
                  <a:pt x="12824" y="7764"/>
                </a:cubicBezTo>
                <a:cubicBezTo>
                  <a:pt x="12864" y="7980"/>
                  <a:pt x="13015" y="8035"/>
                  <a:pt x="13146" y="8210"/>
                </a:cubicBezTo>
                <a:cubicBezTo>
                  <a:pt x="13188" y="8293"/>
                  <a:pt x="13213" y="8310"/>
                  <a:pt x="13171" y="8359"/>
                </a:cubicBezTo>
                <a:cubicBezTo>
                  <a:pt x="12997" y="8422"/>
                  <a:pt x="12930" y="8397"/>
                  <a:pt x="12849" y="8235"/>
                </a:cubicBezTo>
                <a:cubicBezTo>
                  <a:pt x="12959" y="8074"/>
                  <a:pt x="13117" y="7987"/>
                  <a:pt x="13246" y="7838"/>
                </a:cubicBezTo>
                <a:cubicBezTo>
                  <a:pt x="13309" y="7766"/>
                  <a:pt x="13311" y="7755"/>
                  <a:pt x="13246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72080" y="1258920"/>
            <a:ext cx="1911240" cy="2795400"/>
          </a:xfrm>
          <a:custGeom>
            <a:avLst/>
            <a:gdLst/>
            <a:ahLst/>
            <a:rect l="l" t="t" r="r" b="b"/>
            <a:pathLst>
              <a:path w="5309" h="7765">
                <a:moveTo>
                  <a:pt x="17264" y="7218"/>
                </a:moveTo>
                <a:cubicBezTo>
                  <a:pt x="17130" y="7228"/>
                  <a:pt x="16967" y="7203"/>
                  <a:pt x="16842" y="7218"/>
                </a:cubicBezTo>
                <a:cubicBezTo>
                  <a:pt x="16818" y="7221"/>
                  <a:pt x="16819" y="7473"/>
                  <a:pt x="16818" y="7491"/>
                </a:cubicBezTo>
                <a:cubicBezTo>
                  <a:pt x="16818" y="7516"/>
                  <a:pt x="16818" y="7524"/>
                  <a:pt x="16818" y="7541"/>
                </a:cubicBezTo>
                <a:cubicBezTo>
                  <a:pt x="16938" y="7506"/>
                  <a:pt x="17077" y="7389"/>
                  <a:pt x="17214" y="7441"/>
                </a:cubicBezTo>
                <a:cubicBezTo>
                  <a:pt x="17423" y="7520"/>
                  <a:pt x="17484" y="7786"/>
                  <a:pt x="17289" y="7913"/>
                </a:cubicBezTo>
                <a:cubicBezTo>
                  <a:pt x="17173" y="7988"/>
                  <a:pt x="17021" y="7962"/>
                  <a:pt x="16892" y="7962"/>
                </a:cubicBezTo>
              </a:path>
              <a:path w="5309" h="7765">
                <a:moveTo>
                  <a:pt x="16421" y="8186"/>
                </a:moveTo>
                <a:cubicBezTo>
                  <a:pt x="16466" y="7950"/>
                  <a:pt x="16470" y="7761"/>
                  <a:pt x="16446" y="7516"/>
                </a:cubicBezTo>
                <a:cubicBezTo>
                  <a:pt x="16431" y="7367"/>
                  <a:pt x="16401" y="7255"/>
                  <a:pt x="16421" y="7119"/>
                </a:cubicBezTo>
                <a:cubicBezTo>
                  <a:pt x="16602" y="7094"/>
                  <a:pt x="16782" y="7091"/>
                  <a:pt x="16966" y="7069"/>
                </a:cubicBezTo>
                <a:cubicBezTo>
                  <a:pt x="17397" y="7017"/>
                  <a:pt x="17824" y="6965"/>
                  <a:pt x="18256" y="6921"/>
                </a:cubicBezTo>
                <a:cubicBezTo>
                  <a:pt x="18394" y="6907"/>
                  <a:pt x="18495" y="6901"/>
                  <a:pt x="18628" y="6896"/>
                </a:cubicBezTo>
              </a:path>
              <a:path w="5309" h="7765">
                <a:moveTo>
                  <a:pt x="16073" y="7317"/>
                </a:moveTo>
                <a:cubicBezTo>
                  <a:pt x="15891" y="7245"/>
                  <a:pt x="15757" y="7252"/>
                  <a:pt x="15577" y="7342"/>
                </a:cubicBezTo>
                <a:cubicBezTo>
                  <a:pt x="15544" y="7367"/>
                  <a:pt x="15511" y="7392"/>
                  <a:pt x="15478" y="7417"/>
                </a:cubicBezTo>
                <a:cubicBezTo>
                  <a:pt x="15612" y="7583"/>
                  <a:pt x="15799" y="7607"/>
                  <a:pt x="15925" y="7789"/>
                </a:cubicBezTo>
                <a:cubicBezTo>
                  <a:pt x="15941" y="7830"/>
                  <a:pt x="15958" y="7872"/>
                  <a:pt x="15974" y="7913"/>
                </a:cubicBezTo>
                <a:cubicBezTo>
                  <a:pt x="15865" y="8023"/>
                  <a:pt x="15677" y="8174"/>
                  <a:pt x="15577" y="7938"/>
                </a:cubicBezTo>
                <a:cubicBezTo>
                  <a:pt x="15496" y="7747"/>
                  <a:pt x="15803" y="7553"/>
                  <a:pt x="15900" y="7441"/>
                </a:cubicBezTo>
                <a:cubicBezTo>
                  <a:pt x="15984" y="7344"/>
                  <a:pt x="15997" y="7339"/>
                  <a:pt x="15974" y="7293"/>
                </a:cubicBezTo>
                <a:cubicBezTo>
                  <a:pt x="15974" y="7268"/>
                  <a:pt x="15974" y="7260"/>
                  <a:pt x="15949" y="7268"/>
                </a:cubicBezTo>
              </a:path>
              <a:path w="5309" h="7765">
                <a:moveTo>
                  <a:pt x="16942" y="6375"/>
                </a:moveTo>
                <a:cubicBezTo>
                  <a:pt x="16934" y="6327"/>
                  <a:pt x="16923" y="6272"/>
                  <a:pt x="16842" y="6276"/>
                </a:cubicBezTo>
                <a:cubicBezTo>
                  <a:pt x="16725" y="6282"/>
                  <a:pt x="16679" y="6489"/>
                  <a:pt x="16669" y="6573"/>
                </a:cubicBezTo>
                <a:cubicBezTo>
                  <a:pt x="16656" y="6682"/>
                  <a:pt x="16673" y="6826"/>
                  <a:pt x="16818" y="6821"/>
                </a:cubicBezTo>
                <a:cubicBezTo>
                  <a:pt x="16952" y="6816"/>
                  <a:pt x="17038" y="6712"/>
                  <a:pt x="17115" y="6623"/>
                </a:cubicBezTo>
                <a:cubicBezTo>
                  <a:pt x="17163" y="6568"/>
                  <a:pt x="17143" y="6508"/>
                  <a:pt x="17115" y="6449"/>
                </a:cubicBezTo>
                <a:cubicBezTo>
                  <a:pt x="17074" y="6363"/>
                  <a:pt x="17045" y="6316"/>
                  <a:pt x="16942" y="6300"/>
                </a:cubicBezTo>
                <a:cubicBezTo>
                  <a:pt x="16869" y="6289"/>
                  <a:pt x="16798" y="6290"/>
                  <a:pt x="16768" y="6350"/>
                </a:cubicBezTo>
                <a:cubicBezTo>
                  <a:pt x="16731" y="6424"/>
                  <a:pt x="16717" y="6461"/>
                  <a:pt x="16793" y="6474"/>
                </a:cubicBezTo>
              </a:path>
              <a:path w="5309" h="7765">
                <a:moveTo>
                  <a:pt x="17587" y="7739"/>
                </a:moveTo>
                <a:cubicBezTo>
                  <a:pt x="17542" y="7709"/>
                  <a:pt x="17543" y="7750"/>
                  <a:pt x="17562" y="7789"/>
                </a:cubicBezTo>
                <a:cubicBezTo>
                  <a:pt x="17623" y="7748"/>
                  <a:pt x="17611" y="7725"/>
                  <a:pt x="17611" y="7789"/>
                </a:cubicBezTo>
                <a:cubicBezTo>
                  <a:pt x="17630" y="7763"/>
                  <a:pt x="17636" y="7720"/>
                  <a:pt x="17636" y="7764"/>
                </a:cubicBezTo>
              </a:path>
              <a:path w="5309" h="7765">
                <a:moveTo>
                  <a:pt x="17388" y="6821"/>
                </a:moveTo>
                <a:cubicBezTo>
                  <a:pt x="17388" y="6813"/>
                  <a:pt x="17388" y="6804"/>
                  <a:pt x="17388" y="6796"/>
                </a:cubicBezTo>
                <a:cubicBezTo>
                  <a:pt x="17364" y="6704"/>
                  <a:pt x="17342" y="6789"/>
                  <a:pt x="17388" y="6846"/>
                </a:cubicBezTo>
                <a:cubicBezTo>
                  <a:pt x="17436" y="6906"/>
                  <a:pt x="17392" y="6753"/>
                  <a:pt x="17388" y="6747"/>
                </a:cubicBezTo>
                <a:cubicBezTo>
                  <a:pt x="17388" y="6739"/>
                  <a:pt x="17388" y="6730"/>
                  <a:pt x="17388" y="6722"/>
                </a:cubicBezTo>
                <a:cubicBezTo>
                  <a:pt x="17388" y="6743"/>
                  <a:pt x="17372" y="6850"/>
                  <a:pt x="17438" y="6796"/>
                </a:cubicBezTo>
                <a:cubicBezTo>
                  <a:pt x="17461" y="6748"/>
                  <a:pt x="17469" y="6734"/>
                  <a:pt x="17462" y="6697"/>
                </a:cubicBezTo>
                <a:cubicBezTo>
                  <a:pt x="17442" y="6705"/>
                  <a:pt x="17331" y="6783"/>
                  <a:pt x="17388" y="6821"/>
                </a:cubicBezTo>
                <a:cubicBezTo>
                  <a:pt x="17413" y="6829"/>
                  <a:pt x="17437" y="6838"/>
                  <a:pt x="17462" y="6846"/>
                </a:cubicBezTo>
              </a:path>
              <a:path w="5309" h="7765">
                <a:moveTo>
                  <a:pt x="17959" y="7218"/>
                </a:moveTo>
                <a:cubicBezTo>
                  <a:pt x="17855" y="7179"/>
                  <a:pt x="17849" y="7186"/>
                  <a:pt x="17810" y="7293"/>
                </a:cubicBezTo>
                <a:cubicBezTo>
                  <a:pt x="17768" y="7409"/>
                  <a:pt x="17763" y="7449"/>
                  <a:pt x="17785" y="7565"/>
                </a:cubicBezTo>
                <a:cubicBezTo>
                  <a:pt x="17795" y="7620"/>
                  <a:pt x="17855" y="7648"/>
                  <a:pt x="17909" y="7665"/>
                </a:cubicBezTo>
                <a:cubicBezTo>
                  <a:pt x="17969" y="7683"/>
                  <a:pt x="18038" y="7649"/>
                  <a:pt x="18083" y="7640"/>
                </a:cubicBezTo>
                <a:cubicBezTo>
                  <a:pt x="18144" y="7628"/>
                  <a:pt x="18144" y="7613"/>
                  <a:pt x="18182" y="7565"/>
                </a:cubicBezTo>
                <a:cubicBezTo>
                  <a:pt x="18226" y="7509"/>
                  <a:pt x="18250" y="7493"/>
                  <a:pt x="18256" y="7417"/>
                </a:cubicBezTo>
                <a:cubicBezTo>
                  <a:pt x="18261" y="7354"/>
                  <a:pt x="18226" y="7372"/>
                  <a:pt x="18207" y="7342"/>
                </a:cubicBezTo>
                <a:cubicBezTo>
                  <a:pt x="18189" y="7315"/>
                  <a:pt x="18173" y="7261"/>
                  <a:pt x="18132" y="7243"/>
                </a:cubicBezTo>
                <a:cubicBezTo>
                  <a:pt x="18085" y="7222"/>
                  <a:pt x="18036" y="7218"/>
                  <a:pt x="17983" y="7218"/>
                </a:cubicBezTo>
                <a:cubicBezTo>
                  <a:pt x="17950" y="7218"/>
                  <a:pt x="17917" y="7218"/>
                  <a:pt x="17884" y="7218"/>
                </a:cubicBezTo>
              </a:path>
              <a:path w="5309" h="7765">
                <a:moveTo>
                  <a:pt x="17711" y="6176"/>
                </a:moveTo>
                <a:cubicBezTo>
                  <a:pt x="17687" y="6295"/>
                  <a:pt x="17664" y="6396"/>
                  <a:pt x="17661" y="6524"/>
                </a:cubicBezTo>
                <a:cubicBezTo>
                  <a:pt x="17660" y="6573"/>
                  <a:pt x="17655" y="6730"/>
                  <a:pt x="17735" y="6747"/>
                </a:cubicBezTo>
                <a:cubicBezTo>
                  <a:pt x="17845" y="6770"/>
                  <a:pt x="17951" y="6770"/>
                  <a:pt x="18058" y="6722"/>
                </a:cubicBezTo>
                <a:cubicBezTo>
                  <a:pt x="18093" y="6706"/>
                  <a:pt x="18127" y="6603"/>
                  <a:pt x="18132" y="6573"/>
                </a:cubicBezTo>
                <a:cubicBezTo>
                  <a:pt x="18144" y="6507"/>
                  <a:pt x="18049" y="6502"/>
                  <a:pt x="18008" y="6499"/>
                </a:cubicBezTo>
                <a:cubicBezTo>
                  <a:pt x="17916" y="6492"/>
                  <a:pt x="17912" y="6664"/>
                  <a:pt x="17909" y="6722"/>
                </a:cubicBezTo>
                <a:cubicBezTo>
                  <a:pt x="17907" y="6761"/>
                  <a:pt x="17922" y="6737"/>
                  <a:pt x="17934" y="6772"/>
                </a:cubicBezTo>
              </a:path>
              <a:path w="5309" h="7765">
                <a:moveTo>
                  <a:pt x="17314" y="8062"/>
                </a:moveTo>
                <a:cubicBezTo>
                  <a:pt x="17308" y="8132"/>
                  <a:pt x="17207" y="8173"/>
                  <a:pt x="17239" y="8235"/>
                </a:cubicBezTo>
                <a:cubicBezTo>
                  <a:pt x="17260" y="8275"/>
                  <a:pt x="17488" y="8207"/>
                  <a:pt x="17537" y="8260"/>
                </a:cubicBezTo>
                <a:cubicBezTo>
                  <a:pt x="17557" y="8301"/>
                  <a:pt x="17566" y="8328"/>
                  <a:pt x="17562" y="8285"/>
                </a:cubicBezTo>
              </a:path>
              <a:path w="5309" h="7765">
                <a:moveTo>
                  <a:pt x="17462" y="8037"/>
                </a:moveTo>
                <a:cubicBezTo>
                  <a:pt x="17462" y="8164"/>
                  <a:pt x="17481" y="8283"/>
                  <a:pt x="17487" y="8409"/>
                </a:cubicBezTo>
                <a:cubicBezTo>
                  <a:pt x="17487" y="8416"/>
                  <a:pt x="17487" y="8499"/>
                  <a:pt x="17487" y="8434"/>
                </a:cubicBezTo>
              </a:path>
              <a:path w="5309" h="7765">
                <a:moveTo>
                  <a:pt x="18083" y="7888"/>
                </a:moveTo>
                <a:cubicBezTo>
                  <a:pt x="18038" y="7897"/>
                  <a:pt x="17903" y="7945"/>
                  <a:pt x="17884" y="7987"/>
                </a:cubicBezTo>
                <a:cubicBezTo>
                  <a:pt x="17884" y="8012"/>
                  <a:pt x="17884" y="8037"/>
                  <a:pt x="17884" y="8062"/>
                </a:cubicBezTo>
                <a:cubicBezTo>
                  <a:pt x="17966" y="8143"/>
                  <a:pt x="18169" y="8174"/>
                  <a:pt x="18207" y="8310"/>
                </a:cubicBezTo>
                <a:cubicBezTo>
                  <a:pt x="18236" y="8415"/>
                  <a:pt x="18106" y="8405"/>
                  <a:pt x="18058" y="8409"/>
                </a:cubicBezTo>
                <a:cubicBezTo>
                  <a:pt x="18058" y="8249"/>
                  <a:pt x="18097" y="8139"/>
                  <a:pt x="18132" y="7987"/>
                </a:cubicBezTo>
                <a:cubicBezTo>
                  <a:pt x="18132" y="7938"/>
                  <a:pt x="18132" y="7922"/>
                  <a:pt x="18083" y="7938"/>
                </a:cubicBezTo>
              </a:path>
              <a:path w="5309" h="7765">
                <a:moveTo>
                  <a:pt x="16793" y="8384"/>
                </a:moveTo>
                <a:cubicBezTo>
                  <a:pt x="16903" y="8356"/>
                  <a:pt x="17005" y="8320"/>
                  <a:pt x="17115" y="8310"/>
                </a:cubicBezTo>
              </a:path>
              <a:path w="5309" h="7765">
                <a:moveTo>
                  <a:pt x="16818" y="8607"/>
                </a:moveTo>
                <a:cubicBezTo>
                  <a:pt x="17140" y="8589"/>
                  <a:pt x="17464" y="8576"/>
                  <a:pt x="17785" y="8558"/>
                </a:cubicBezTo>
                <a:cubicBezTo>
                  <a:pt x="17963" y="8548"/>
                  <a:pt x="18143" y="8514"/>
                  <a:pt x="18306" y="8558"/>
                </a:cubicBezTo>
                <a:cubicBezTo>
                  <a:pt x="18314" y="8558"/>
                  <a:pt x="18323" y="8558"/>
                  <a:pt x="18331" y="8558"/>
                </a:cubicBezTo>
              </a:path>
              <a:path w="5309" h="7765">
                <a:moveTo>
                  <a:pt x="17934" y="8706"/>
                </a:moveTo>
                <a:cubicBezTo>
                  <a:pt x="17934" y="8621"/>
                  <a:pt x="18025" y="8582"/>
                  <a:pt x="18107" y="8582"/>
                </a:cubicBezTo>
                <a:cubicBezTo>
                  <a:pt x="18262" y="8582"/>
                  <a:pt x="18214" y="8751"/>
                  <a:pt x="18157" y="8830"/>
                </a:cubicBezTo>
                <a:cubicBezTo>
                  <a:pt x="18106" y="8901"/>
                  <a:pt x="18021" y="8966"/>
                  <a:pt x="17959" y="9029"/>
                </a:cubicBezTo>
                <a:cubicBezTo>
                  <a:pt x="18095" y="9029"/>
                  <a:pt x="18198" y="8981"/>
                  <a:pt x="18331" y="8954"/>
                </a:cubicBezTo>
                <a:cubicBezTo>
                  <a:pt x="18353" y="8949"/>
                  <a:pt x="18382" y="8954"/>
                  <a:pt x="18405" y="8954"/>
                </a:cubicBezTo>
              </a:path>
              <a:path w="5309" h="7765">
                <a:moveTo>
                  <a:pt x="18703" y="7069"/>
                </a:moveTo>
                <a:cubicBezTo>
                  <a:pt x="18629" y="7051"/>
                  <a:pt x="18528" y="7005"/>
                  <a:pt x="18479" y="7094"/>
                </a:cubicBezTo>
                <a:cubicBezTo>
                  <a:pt x="18409" y="7222"/>
                  <a:pt x="18319" y="7420"/>
                  <a:pt x="18455" y="7541"/>
                </a:cubicBezTo>
                <a:cubicBezTo>
                  <a:pt x="18626" y="7693"/>
                  <a:pt x="18791" y="7439"/>
                  <a:pt x="18827" y="7293"/>
                </a:cubicBezTo>
                <a:cubicBezTo>
                  <a:pt x="18856" y="7176"/>
                  <a:pt x="18793" y="7000"/>
                  <a:pt x="18653" y="6995"/>
                </a:cubicBezTo>
                <a:cubicBezTo>
                  <a:pt x="18579" y="7020"/>
                  <a:pt x="18554" y="7028"/>
                  <a:pt x="18554" y="7094"/>
                </a:cubicBezTo>
              </a:path>
              <a:path w="5309" h="7765">
                <a:moveTo>
                  <a:pt x="18579" y="7689"/>
                </a:moveTo>
                <a:cubicBezTo>
                  <a:pt x="18579" y="7588"/>
                  <a:pt x="18618" y="7837"/>
                  <a:pt x="18628" y="7938"/>
                </a:cubicBezTo>
                <a:cubicBezTo>
                  <a:pt x="18645" y="8109"/>
                  <a:pt x="18653" y="8285"/>
                  <a:pt x="18653" y="8458"/>
                </a:cubicBezTo>
                <a:cubicBezTo>
                  <a:pt x="18653" y="8466"/>
                  <a:pt x="18653" y="8475"/>
                  <a:pt x="18653" y="8483"/>
                </a:cubicBezTo>
              </a:path>
              <a:path w="5309" h="7765">
                <a:moveTo>
                  <a:pt x="18455" y="8285"/>
                </a:moveTo>
                <a:cubicBezTo>
                  <a:pt x="18498" y="8356"/>
                  <a:pt x="18542" y="8466"/>
                  <a:pt x="18628" y="8483"/>
                </a:cubicBezTo>
                <a:cubicBezTo>
                  <a:pt x="18696" y="8496"/>
                  <a:pt x="18776" y="8336"/>
                  <a:pt x="18802" y="8285"/>
                </a:cubicBezTo>
                <a:cubicBezTo>
                  <a:pt x="18802" y="8260"/>
                  <a:pt x="18802" y="8252"/>
                  <a:pt x="18827" y="8260"/>
                </a:cubicBezTo>
              </a:path>
              <a:path w="5309" h="7765">
                <a:moveTo>
                  <a:pt x="18752" y="8533"/>
                </a:moveTo>
                <a:cubicBezTo>
                  <a:pt x="18659" y="8560"/>
                  <a:pt x="18600" y="8701"/>
                  <a:pt x="18579" y="8806"/>
                </a:cubicBezTo>
                <a:cubicBezTo>
                  <a:pt x="18549" y="8951"/>
                  <a:pt x="18646" y="9033"/>
                  <a:pt x="18777" y="8979"/>
                </a:cubicBezTo>
                <a:cubicBezTo>
                  <a:pt x="18919" y="8921"/>
                  <a:pt x="18946" y="8818"/>
                  <a:pt x="18951" y="8682"/>
                </a:cubicBezTo>
                <a:cubicBezTo>
                  <a:pt x="18954" y="8601"/>
                  <a:pt x="18907" y="8510"/>
                  <a:pt x="18802" y="8533"/>
                </a:cubicBezTo>
                <a:cubicBezTo>
                  <a:pt x="18794" y="8541"/>
                  <a:pt x="18785" y="8550"/>
                  <a:pt x="18777" y="8558"/>
                </a:cubicBezTo>
              </a:path>
              <a:path w="5309" h="7765">
                <a:moveTo>
                  <a:pt x="18380" y="6325"/>
                </a:moveTo>
                <a:cubicBezTo>
                  <a:pt x="18380" y="6269"/>
                  <a:pt x="18418" y="6191"/>
                  <a:pt x="18455" y="6152"/>
                </a:cubicBezTo>
                <a:cubicBezTo>
                  <a:pt x="18521" y="6083"/>
                  <a:pt x="18570" y="6067"/>
                  <a:pt x="18653" y="6052"/>
                </a:cubicBezTo>
                <a:cubicBezTo>
                  <a:pt x="18713" y="6202"/>
                  <a:pt x="18708" y="6325"/>
                  <a:pt x="18628" y="6474"/>
                </a:cubicBezTo>
                <a:cubicBezTo>
                  <a:pt x="18581" y="6562"/>
                  <a:pt x="18499" y="6628"/>
                  <a:pt x="18430" y="6697"/>
                </a:cubicBezTo>
                <a:cubicBezTo>
                  <a:pt x="18430" y="6788"/>
                  <a:pt x="18479" y="6670"/>
                  <a:pt x="18529" y="6623"/>
                </a:cubicBezTo>
                <a:cubicBezTo>
                  <a:pt x="18587" y="6568"/>
                  <a:pt x="18618" y="6639"/>
                  <a:pt x="18678" y="6672"/>
                </a:cubicBezTo>
                <a:cubicBezTo>
                  <a:pt x="18798" y="6738"/>
                  <a:pt x="18855" y="6665"/>
                  <a:pt x="18926" y="6573"/>
                </a:cubicBezTo>
              </a:path>
              <a:path w="5309" h="7765">
                <a:moveTo>
                  <a:pt x="18281" y="9103"/>
                </a:moveTo>
                <a:cubicBezTo>
                  <a:pt x="18295" y="9211"/>
                  <a:pt x="18324" y="9317"/>
                  <a:pt x="18331" y="9426"/>
                </a:cubicBezTo>
                <a:cubicBezTo>
                  <a:pt x="18331" y="9434"/>
                  <a:pt x="18331" y="9443"/>
                  <a:pt x="18331" y="9451"/>
                </a:cubicBezTo>
              </a:path>
              <a:path w="5309" h="7765">
                <a:moveTo>
                  <a:pt x="18678" y="9153"/>
                </a:moveTo>
                <a:cubicBezTo>
                  <a:pt x="18687" y="9219"/>
                  <a:pt x="18685" y="9369"/>
                  <a:pt x="18728" y="9426"/>
                </a:cubicBezTo>
                <a:cubicBezTo>
                  <a:pt x="18797" y="9518"/>
                  <a:pt x="18940" y="9466"/>
                  <a:pt x="19000" y="9401"/>
                </a:cubicBezTo>
                <a:cubicBezTo>
                  <a:pt x="19062" y="9333"/>
                  <a:pt x="19064" y="9329"/>
                  <a:pt x="19025" y="9277"/>
                </a:cubicBezTo>
                <a:cubicBezTo>
                  <a:pt x="18944" y="9344"/>
                  <a:pt x="18885" y="9399"/>
                  <a:pt x="18852" y="9500"/>
                </a:cubicBezTo>
              </a:path>
              <a:path w="5309" h="7765">
                <a:moveTo>
                  <a:pt x="17810" y="9327"/>
                </a:moveTo>
                <a:cubicBezTo>
                  <a:pt x="17910" y="9327"/>
                  <a:pt x="18009" y="9297"/>
                  <a:pt x="18107" y="9277"/>
                </a:cubicBezTo>
              </a:path>
              <a:path w="5309" h="7765">
                <a:moveTo>
                  <a:pt x="17859" y="9624"/>
                </a:moveTo>
                <a:cubicBezTo>
                  <a:pt x="18158" y="9656"/>
                  <a:pt x="18472" y="9589"/>
                  <a:pt x="18777" y="9575"/>
                </a:cubicBezTo>
                <a:cubicBezTo>
                  <a:pt x="18917" y="9569"/>
                  <a:pt x="19059" y="9575"/>
                  <a:pt x="19199" y="9575"/>
                </a:cubicBezTo>
              </a:path>
              <a:path w="5309" h="7765">
                <a:moveTo>
                  <a:pt x="18827" y="9699"/>
                </a:moveTo>
                <a:cubicBezTo>
                  <a:pt x="18827" y="9746"/>
                  <a:pt x="18799" y="9867"/>
                  <a:pt x="18852" y="9897"/>
                </a:cubicBezTo>
                <a:cubicBezTo>
                  <a:pt x="18932" y="9942"/>
                  <a:pt x="19093" y="9911"/>
                  <a:pt x="19149" y="9847"/>
                </a:cubicBezTo>
                <a:cubicBezTo>
                  <a:pt x="19149" y="9815"/>
                  <a:pt x="19141" y="9807"/>
                  <a:pt x="19100" y="9823"/>
                </a:cubicBezTo>
              </a:path>
              <a:path w="5309" h="7765">
                <a:moveTo>
                  <a:pt x="19050" y="9748"/>
                </a:moveTo>
                <a:cubicBezTo>
                  <a:pt x="19001" y="9781"/>
                  <a:pt x="19061" y="9904"/>
                  <a:pt x="19075" y="9971"/>
                </a:cubicBezTo>
                <a:cubicBezTo>
                  <a:pt x="19091" y="10044"/>
                  <a:pt x="19112" y="10122"/>
                  <a:pt x="19124" y="10195"/>
                </a:cubicBezTo>
              </a:path>
              <a:path w="5309" h="7765">
                <a:moveTo>
                  <a:pt x="19174" y="7094"/>
                </a:moveTo>
                <a:cubicBezTo>
                  <a:pt x="19060" y="7051"/>
                  <a:pt x="18980" y="7112"/>
                  <a:pt x="18951" y="7243"/>
                </a:cubicBezTo>
                <a:cubicBezTo>
                  <a:pt x="18951" y="7362"/>
                  <a:pt x="18949" y="7400"/>
                  <a:pt x="19000" y="7466"/>
                </a:cubicBezTo>
                <a:cubicBezTo>
                  <a:pt x="19192" y="7466"/>
                  <a:pt x="19337" y="7426"/>
                  <a:pt x="19323" y="7193"/>
                </a:cubicBezTo>
                <a:cubicBezTo>
                  <a:pt x="19314" y="7040"/>
                  <a:pt x="19205" y="7103"/>
                  <a:pt x="19124" y="7144"/>
                </a:cubicBezTo>
              </a:path>
              <a:path w="5309" h="7765">
                <a:moveTo>
                  <a:pt x="18529" y="7045"/>
                </a:moveTo>
                <a:cubicBezTo>
                  <a:pt x="18494" y="7022"/>
                  <a:pt x="18497" y="7013"/>
                  <a:pt x="18479" y="6995"/>
                </a:cubicBezTo>
                <a:cubicBezTo>
                  <a:pt x="18535" y="6970"/>
                  <a:pt x="18583" y="6949"/>
                  <a:pt x="18653" y="6945"/>
                </a:cubicBezTo>
                <a:cubicBezTo>
                  <a:pt x="18733" y="6941"/>
                  <a:pt x="18797" y="6924"/>
                  <a:pt x="18876" y="6921"/>
                </a:cubicBezTo>
                <a:cubicBezTo>
                  <a:pt x="19028" y="6915"/>
                  <a:pt x="19178" y="6911"/>
                  <a:pt x="19323" y="6896"/>
                </a:cubicBezTo>
                <a:cubicBezTo>
                  <a:pt x="19419" y="6886"/>
                  <a:pt x="19505" y="6895"/>
                  <a:pt x="19596" y="6871"/>
                </a:cubicBezTo>
                <a:cubicBezTo>
                  <a:pt x="19711" y="6841"/>
                  <a:pt x="19826" y="6841"/>
                  <a:pt x="19943" y="6821"/>
                </a:cubicBezTo>
                <a:cubicBezTo>
                  <a:pt x="20065" y="6800"/>
                  <a:pt x="20195" y="6798"/>
                  <a:pt x="20315" y="6772"/>
                </a:cubicBezTo>
                <a:cubicBezTo>
                  <a:pt x="20422" y="6749"/>
                  <a:pt x="20532" y="6746"/>
                  <a:pt x="20638" y="6722"/>
                </a:cubicBezTo>
                <a:cubicBezTo>
                  <a:pt x="20713" y="6705"/>
                  <a:pt x="20717" y="6704"/>
                  <a:pt x="20786" y="6697"/>
                </a:cubicBezTo>
              </a:path>
              <a:path w="5309" h="7765">
                <a:moveTo>
                  <a:pt x="19174" y="7541"/>
                </a:moveTo>
                <a:cubicBezTo>
                  <a:pt x="19174" y="7644"/>
                  <a:pt x="19189" y="7742"/>
                  <a:pt x="19199" y="7838"/>
                </a:cubicBezTo>
                <a:cubicBezTo>
                  <a:pt x="19209" y="7930"/>
                  <a:pt x="19214" y="8021"/>
                  <a:pt x="19224" y="8111"/>
                </a:cubicBezTo>
                <a:cubicBezTo>
                  <a:pt x="19236" y="8217"/>
                  <a:pt x="19254" y="8305"/>
                  <a:pt x="19273" y="8409"/>
                </a:cubicBezTo>
                <a:cubicBezTo>
                  <a:pt x="19286" y="8481"/>
                  <a:pt x="19287" y="8563"/>
                  <a:pt x="19298" y="8632"/>
                </a:cubicBezTo>
                <a:cubicBezTo>
                  <a:pt x="19312" y="8720"/>
                  <a:pt x="19319" y="8816"/>
                  <a:pt x="19323" y="8905"/>
                </a:cubicBezTo>
                <a:cubicBezTo>
                  <a:pt x="19329" y="9042"/>
                  <a:pt x="19310" y="9171"/>
                  <a:pt x="19348" y="9302"/>
                </a:cubicBezTo>
                <a:cubicBezTo>
                  <a:pt x="19370" y="9378"/>
                  <a:pt x="19353" y="9452"/>
                  <a:pt x="19372" y="9525"/>
                </a:cubicBezTo>
                <a:cubicBezTo>
                  <a:pt x="19392" y="9565"/>
                  <a:pt x="19401" y="9572"/>
                  <a:pt x="19397" y="9599"/>
                </a:cubicBezTo>
              </a:path>
              <a:path w="5309" h="7765">
                <a:moveTo>
                  <a:pt x="19447" y="9773"/>
                </a:moveTo>
                <a:cubicBezTo>
                  <a:pt x="19447" y="9698"/>
                  <a:pt x="19373" y="9964"/>
                  <a:pt x="19372" y="9971"/>
                </a:cubicBezTo>
                <a:cubicBezTo>
                  <a:pt x="19361" y="10056"/>
                  <a:pt x="19378" y="10220"/>
                  <a:pt x="19496" y="10220"/>
                </a:cubicBezTo>
                <a:cubicBezTo>
                  <a:pt x="19597" y="10220"/>
                  <a:pt x="19668" y="10105"/>
                  <a:pt x="19695" y="10021"/>
                </a:cubicBezTo>
                <a:cubicBezTo>
                  <a:pt x="19717" y="9950"/>
                  <a:pt x="19621" y="9877"/>
                  <a:pt x="19571" y="9847"/>
                </a:cubicBezTo>
                <a:cubicBezTo>
                  <a:pt x="19519" y="9816"/>
                  <a:pt x="19497" y="9811"/>
                  <a:pt x="19472" y="9847"/>
                </a:cubicBezTo>
              </a:path>
              <a:path w="5309" h="7765">
                <a:moveTo>
                  <a:pt x="19248" y="5953"/>
                </a:moveTo>
                <a:cubicBezTo>
                  <a:pt x="19219" y="5943"/>
                  <a:pt x="19139" y="6005"/>
                  <a:pt x="19075" y="6028"/>
                </a:cubicBezTo>
                <a:cubicBezTo>
                  <a:pt x="19001" y="6055"/>
                  <a:pt x="19045" y="6159"/>
                  <a:pt x="19050" y="6226"/>
                </a:cubicBezTo>
                <a:cubicBezTo>
                  <a:pt x="19050" y="6284"/>
                  <a:pt x="19050" y="6292"/>
                  <a:pt x="19050" y="6325"/>
                </a:cubicBezTo>
                <a:cubicBezTo>
                  <a:pt x="19081" y="6310"/>
                  <a:pt x="19109" y="6234"/>
                  <a:pt x="19149" y="6226"/>
                </a:cubicBezTo>
                <a:cubicBezTo>
                  <a:pt x="19305" y="6193"/>
                  <a:pt x="19382" y="6338"/>
                  <a:pt x="19348" y="6474"/>
                </a:cubicBezTo>
                <a:cubicBezTo>
                  <a:pt x="19316" y="6599"/>
                  <a:pt x="19200" y="6672"/>
                  <a:pt x="19075" y="6623"/>
                </a:cubicBezTo>
                <a:cubicBezTo>
                  <a:pt x="19075" y="6598"/>
                  <a:pt x="19075" y="6590"/>
                  <a:pt x="19050" y="6598"/>
                </a:cubicBezTo>
              </a:path>
              <a:path w="5309" h="7765">
                <a:moveTo>
                  <a:pt x="19124" y="10393"/>
                </a:moveTo>
                <a:cubicBezTo>
                  <a:pt x="19124" y="10465"/>
                  <a:pt x="19088" y="10567"/>
                  <a:pt x="19174" y="10592"/>
                </a:cubicBezTo>
                <a:cubicBezTo>
                  <a:pt x="19282" y="10623"/>
                  <a:pt x="19312" y="10583"/>
                  <a:pt x="19323" y="10492"/>
                </a:cubicBezTo>
              </a:path>
              <a:path w="5309" h="7765">
                <a:moveTo>
                  <a:pt x="19546" y="10368"/>
                </a:moveTo>
                <a:cubicBezTo>
                  <a:pt x="19531" y="10452"/>
                  <a:pt x="19508" y="10531"/>
                  <a:pt x="19496" y="10616"/>
                </a:cubicBezTo>
                <a:cubicBezTo>
                  <a:pt x="19511" y="10625"/>
                  <a:pt x="19705" y="10687"/>
                  <a:pt x="19695" y="10567"/>
                </a:cubicBezTo>
                <a:cubicBezTo>
                  <a:pt x="19681" y="10397"/>
                  <a:pt x="19569" y="10443"/>
                  <a:pt x="19447" y="10468"/>
                </a:cubicBezTo>
              </a:path>
              <a:path w="5309" h="7765">
                <a:moveTo>
                  <a:pt x="18728" y="10592"/>
                </a:moveTo>
                <a:cubicBezTo>
                  <a:pt x="18814" y="10563"/>
                  <a:pt x="18851" y="10542"/>
                  <a:pt x="18951" y="10542"/>
                </a:cubicBezTo>
              </a:path>
              <a:path w="5309" h="7765">
                <a:moveTo>
                  <a:pt x="18876" y="10889"/>
                </a:moveTo>
                <a:cubicBezTo>
                  <a:pt x="19174" y="10876"/>
                  <a:pt x="19471" y="10832"/>
                  <a:pt x="19769" y="10815"/>
                </a:cubicBezTo>
                <a:cubicBezTo>
                  <a:pt x="19842" y="10811"/>
                  <a:pt x="19919" y="10815"/>
                  <a:pt x="19993" y="10815"/>
                </a:cubicBezTo>
              </a:path>
              <a:path w="5309" h="7765">
                <a:moveTo>
                  <a:pt x="19794" y="10964"/>
                </a:moveTo>
                <a:cubicBezTo>
                  <a:pt x="19773" y="10900"/>
                  <a:pt x="19677" y="10968"/>
                  <a:pt x="19645" y="11013"/>
                </a:cubicBezTo>
                <a:cubicBezTo>
                  <a:pt x="19568" y="11123"/>
                  <a:pt x="19589" y="11167"/>
                  <a:pt x="19645" y="11261"/>
                </a:cubicBezTo>
                <a:cubicBezTo>
                  <a:pt x="19800" y="11250"/>
                  <a:pt x="19884" y="11233"/>
                  <a:pt x="19918" y="11063"/>
                </a:cubicBezTo>
                <a:cubicBezTo>
                  <a:pt x="19933" y="10987"/>
                  <a:pt x="19879" y="10928"/>
                  <a:pt x="19794" y="10939"/>
                </a:cubicBezTo>
                <a:cubicBezTo>
                  <a:pt x="19772" y="10961"/>
                  <a:pt x="19767" y="10970"/>
                  <a:pt x="19745" y="10964"/>
                </a:cubicBezTo>
              </a:path>
              <a:path w="5309" h="7765">
                <a:moveTo>
                  <a:pt x="17636" y="5234"/>
                </a:moveTo>
                <a:cubicBezTo>
                  <a:pt x="18080" y="5249"/>
                  <a:pt x="18463" y="5249"/>
                  <a:pt x="18901" y="5135"/>
                </a:cubicBezTo>
                <a:cubicBezTo>
                  <a:pt x="19362" y="5015"/>
                  <a:pt x="19921" y="4862"/>
                  <a:pt x="20166" y="4415"/>
                </a:cubicBezTo>
                <a:cubicBezTo>
                  <a:pt x="20336" y="4104"/>
                  <a:pt x="20218" y="3951"/>
                  <a:pt x="19943" y="3795"/>
                </a:cubicBezTo>
                <a:cubicBezTo>
                  <a:pt x="19372" y="3471"/>
                  <a:pt x="18666" y="3409"/>
                  <a:pt x="18033" y="3572"/>
                </a:cubicBezTo>
                <a:cubicBezTo>
                  <a:pt x="17635" y="3674"/>
                  <a:pt x="16867" y="3884"/>
                  <a:pt x="16867" y="4415"/>
                </a:cubicBezTo>
                <a:cubicBezTo>
                  <a:pt x="16867" y="4794"/>
                  <a:pt x="17154" y="4885"/>
                  <a:pt x="17413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3062160"/>
            <a:ext cx="2652840" cy="982800"/>
          </a:xfrm>
          <a:custGeom>
            <a:avLst/>
            <a:gdLst/>
            <a:ahLst/>
            <a:rect l="l" t="t" r="r" b="b"/>
            <a:pathLst>
              <a:path w="7368" h="2730">
                <a:moveTo>
                  <a:pt x="15255" y="8508"/>
                </a:moveTo>
                <a:lnTo>
                  <a:pt x="15255" y="8508"/>
                </a:lnTo>
              </a:path>
              <a:path w="7368" h="2730">
                <a:moveTo>
                  <a:pt x="19248" y="10344"/>
                </a:moveTo>
                <a:cubicBezTo>
                  <a:pt x="19276" y="10467"/>
                  <a:pt x="19313" y="10594"/>
                  <a:pt x="19348" y="10716"/>
                </a:cubicBezTo>
              </a:path>
              <a:path w="7368" h="2730">
                <a:moveTo>
                  <a:pt x="11981" y="11088"/>
                </a:moveTo>
                <a:cubicBezTo>
                  <a:pt x="12077" y="11072"/>
                  <a:pt x="12183" y="11056"/>
                  <a:pt x="12278" y="11038"/>
                </a:cubicBezTo>
                <a:cubicBezTo>
                  <a:pt x="12336" y="11019"/>
                  <a:pt x="12343" y="11010"/>
                  <a:pt x="12378" y="11013"/>
                </a:cubicBezTo>
              </a:path>
              <a:path w="7368" h="2730">
                <a:moveTo>
                  <a:pt x="12105" y="10740"/>
                </a:moveTo>
                <a:cubicBezTo>
                  <a:pt x="12105" y="10748"/>
                  <a:pt x="12105" y="10757"/>
                  <a:pt x="12105" y="10765"/>
                </a:cubicBezTo>
              </a:path>
              <a:path w="7368" h="2730">
                <a:moveTo>
                  <a:pt x="12278" y="11237"/>
                </a:moveTo>
                <a:lnTo>
                  <a:pt x="12278" y="11237"/>
                </a:lnTo>
                <a:lnTo>
                  <a:pt x="12278" y="1123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9960" y="3125880"/>
            <a:ext cx="1143000" cy="366480"/>
          </a:xfrm>
          <a:custGeom>
            <a:avLst/>
            <a:gdLst/>
            <a:ahLst/>
            <a:rect l="l" t="t" r="r" b="b"/>
            <a:pathLst>
              <a:path w="3176" h="1018">
                <a:moveTo>
                  <a:pt x="5283" y="8855"/>
                </a:moveTo>
                <a:cubicBezTo>
                  <a:pt x="5321" y="8817"/>
                  <a:pt x="5390" y="8772"/>
                  <a:pt x="5457" y="8731"/>
                </a:cubicBezTo>
                <a:cubicBezTo>
                  <a:pt x="5580" y="8655"/>
                  <a:pt x="5679" y="8708"/>
                  <a:pt x="5705" y="8855"/>
                </a:cubicBezTo>
                <a:cubicBezTo>
                  <a:pt x="5722" y="8951"/>
                  <a:pt x="5641" y="9102"/>
                  <a:pt x="5556" y="9153"/>
                </a:cubicBezTo>
                <a:cubicBezTo>
                  <a:pt x="5548" y="9153"/>
                  <a:pt x="5539" y="9153"/>
                  <a:pt x="5531" y="9153"/>
                </a:cubicBezTo>
                <a:cubicBezTo>
                  <a:pt x="5612" y="9142"/>
                  <a:pt x="5719" y="9107"/>
                  <a:pt x="5779" y="9203"/>
                </a:cubicBezTo>
                <a:cubicBezTo>
                  <a:pt x="5873" y="9352"/>
                  <a:pt x="5766" y="9568"/>
                  <a:pt x="5631" y="9649"/>
                </a:cubicBezTo>
                <a:cubicBezTo>
                  <a:pt x="5427" y="9772"/>
                  <a:pt x="5306" y="9606"/>
                  <a:pt x="5135" y="9525"/>
                </a:cubicBezTo>
                <a:cubicBezTo>
                  <a:pt x="5127" y="9525"/>
                  <a:pt x="5118" y="9525"/>
                  <a:pt x="5110" y="9525"/>
                </a:cubicBezTo>
                <a:cubicBezTo>
                  <a:pt x="5159" y="9513"/>
                  <a:pt x="5127" y="9563"/>
                  <a:pt x="5234" y="9575"/>
                </a:cubicBezTo>
                <a:cubicBezTo>
                  <a:pt x="5292" y="9575"/>
                  <a:pt x="5349" y="9575"/>
                  <a:pt x="5407" y="9575"/>
                </a:cubicBezTo>
              </a:path>
              <a:path w="3176" h="1018">
                <a:moveTo>
                  <a:pt x="6127" y="9550"/>
                </a:moveTo>
                <a:cubicBezTo>
                  <a:pt x="6062" y="9501"/>
                  <a:pt x="6051" y="9523"/>
                  <a:pt x="6003" y="9599"/>
                </a:cubicBezTo>
                <a:cubicBezTo>
                  <a:pt x="5933" y="9711"/>
                  <a:pt x="6063" y="9733"/>
                  <a:pt x="6127" y="9624"/>
                </a:cubicBezTo>
                <a:cubicBezTo>
                  <a:pt x="6127" y="9583"/>
                  <a:pt x="6135" y="9567"/>
                  <a:pt x="6102" y="9575"/>
                </a:cubicBezTo>
                <a:cubicBezTo>
                  <a:pt x="6084" y="9582"/>
                  <a:pt x="5954" y="9687"/>
                  <a:pt x="6028" y="9674"/>
                </a:cubicBezTo>
                <a:cubicBezTo>
                  <a:pt x="6123" y="9657"/>
                  <a:pt x="6117" y="9628"/>
                  <a:pt x="6127" y="9550"/>
                </a:cubicBezTo>
                <a:cubicBezTo>
                  <a:pt x="6073" y="9592"/>
                  <a:pt x="6031" y="9588"/>
                  <a:pt x="6077" y="9649"/>
                </a:cubicBezTo>
              </a:path>
              <a:path w="3176" h="1018">
                <a:moveTo>
                  <a:pt x="6672" y="8781"/>
                </a:moveTo>
                <a:cubicBezTo>
                  <a:pt x="6578" y="8805"/>
                  <a:pt x="6588" y="8841"/>
                  <a:pt x="6548" y="8930"/>
                </a:cubicBezTo>
                <a:cubicBezTo>
                  <a:pt x="6476" y="9090"/>
                  <a:pt x="6449" y="9173"/>
                  <a:pt x="6449" y="9351"/>
                </a:cubicBezTo>
                <a:cubicBezTo>
                  <a:pt x="6449" y="9444"/>
                  <a:pt x="6485" y="9481"/>
                  <a:pt x="6548" y="9550"/>
                </a:cubicBezTo>
                <a:cubicBezTo>
                  <a:pt x="6608" y="9616"/>
                  <a:pt x="6753" y="9561"/>
                  <a:pt x="6821" y="9525"/>
                </a:cubicBezTo>
                <a:cubicBezTo>
                  <a:pt x="6886" y="9491"/>
                  <a:pt x="6945" y="9460"/>
                  <a:pt x="6970" y="9401"/>
                </a:cubicBezTo>
                <a:cubicBezTo>
                  <a:pt x="6991" y="9351"/>
                  <a:pt x="6995" y="9350"/>
                  <a:pt x="6995" y="9302"/>
                </a:cubicBezTo>
                <a:cubicBezTo>
                  <a:pt x="6951" y="9269"/>
                  <a:pt x="6917" y="9262"/>
                  <a:pt x="6871" y="9302"/>
                </a:cubicBezTo>
                <a:cubicBezTo>
                  <a:pt x="6798" y="9364"/>
                  <a:pt x="6796" y="9436"/>
                  <a:pt x="6796" y="9525"/>
                </a:cubicBezTo>
              </a:path>
              <a:path w="3176" h="1018">
                <a:moveTo>
                  <a:pt x="7144" y="9004"/>
                </a:moveTo>
                <a:cubicBezTo>
                  <a:pt x="7176" y="8938"/>
                  <a:pt x="7285" y="8877"/>
                  <a:pt x="7367" y="8930"/>
                </a:cubicBezTo>
                <a:cubicBezTo>
                  <a:pt x="7509" y="9020"/>
                  <a:pt x="7565" y="9231"/>
                  <a:pt x="7466" y="9376"/>
                </a:cubicBezTo>
                <a:cubicBezTo>
                  <a:pt x="7387" y="9491"/>
                  <a:pt x="7237" y="9487"/>
                  <a:pt x="7119" y="9500"/>
                </a:cubicBezTo>
                <a:cubicBezTo>
                  <a:pt x="7101" y="9411"/>
                  <a:pt x="7105" y="9341"/>
                  <a:pt x="7218" y="9302"/>
                </a:cubicBezTo>
                <a:cubicBezTo>
                  <a:pt x="7348" y="9257"/>
                  <a:pt x="7438" y="9374"/>
                  <a:pt x="7516" y="9451"/>
                </a:cubicBezTo>
                <a:cubicBezTo>
                  <a:pt x="7539" y="9473"/>
                  <a:pt x="7547" y="9478"/>
                  <a:pt x="7541" y="9500"/>
                </a:cubicBezTo>
              </a:path>
              <a:path w="3176" h="1018">
                <a:moveTo>
                  <a:pt x="8161" y="8930"/>
                </a:moveTo>
                <a:cubicBezTo>
                  <a:pt x="8064" y="8930"/>
                  <a:pt x="7982" y="8913"/>
                  <a:pt x="7888" y="8905"/>
                </a:cubicBezTo>
                <a:cubicBezTo>
                  <a:pt x="7863" y="8905"/>
                  <a:pt x="7855" y="8905"/>
                  <a:pt x="7838" y="8905"/>
                </a:cubicBezTo>
                <a:cubicBezTo>
                  <a:pt x="7806" y="9010"/>
                  <a:pt x="7813" y="9115"/>
                  <a:pt x="7813" y="9227"/>
                </a:cubicBezTo>
                <a:cubicBezTo>
                  <a:pt x="7813" y="9235"/>
                  <a:pt x="7813" y="9244"/>
                  <a:pt x="7813" y="9252"/>
                </a:cubicBezTo>
                <a:cubicBezTo>
                  <a:pt x="7895" y="9252"/>
                  <a:pt x="7931" y="9197"/>
                  <a:pt x="8012" y="9178"/>
                </a:cubicBezTo>
                <a:cubicBezTo>
                  <a:pt x="8123" y="9151"/>
                  <a:pt x="8274" y="9224"/>
                  <a:pt x="8285" y="9351"/>
                </a:cubicBezTo>
                <a:cubicBezTo>
                  <a:pt x="8298" y="9502"/>
                  <a:pt x="8177" y="9599"/>
                  <a:pt x="8037" y="9599"/>
                </a:cubicBezTo>
                <a:cubicBezTo>
                  <a:pt x="7964" y="9599"/>
                  <a:pt x="7888" y="9575"/>
                  <a:pt x="7813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33840" y="3714840"/>
            <a:ext cx="2046240" cy="1285920"/>
          </a:xfrm>
          <a:custGeom>
            <a:avLst/>
            <a:gdLst/>
            <a:ahLst/>
            <a:rect l="l" t="t" r="r" b="b"/>
            <a:pathLst>
              <a:path w="5681" h="3573">
                <a:moveTo>
                  <a:pt x="10790" y="10889"/>
                </a:moveTo>
                <a:cubicBezTo>
                  <a:pt x="10758" y="10900"/>
                  <a:pt x="10652" y="10982"/>
                  <a:pt x="10666" y="10939"/>
                </a:cubicBezTo>
                <a:cubicBezTo>
                  <a:pt x="10674" y="10922"/>
                  <a:pt x="10683" y="10906"/>
                  <a:pt x="10691" y="10889"/>
                </a:cubicBezTo>
                <a:cubicBezTo>
                  <a:pt x="10905" y="10865"/>
                  <a:pt x="11144" y="10953"/>
                  <a:pt x="10964" y="11237"/>
                </a:cubicBezTo>
                <a:cubicBezTo>
                  <a:pt x="10847" y="11422"/>
                  <a:pt x="10570" y="11529"/>
                  <a:pt x="10443" y="11385"/>
                </a:cubicBezTo>
                <a:cubicBezTo>
                  <a:pt x="10642" y="11211"/>
                  <a:pt x="10779" y="11204"/>
                  <a:pt x="10939" y="11460"/>
                </a:cubicBezTo>
                <a:cubicBezTo>
                  <a:pt x="10939" y="11501"/>
                  <a:pt x="10931" y="11517"/>
                  <a:pt x="10964" y="11509"/>
                </a:cubicBezTo>
              </a:path>
              <a:path w="5681" h="3573">
                <a:moveTo>
                  <a:pt x="11708" y="10815"/>
                </a:moveTo>
                <a:cubicBezTo>
                  <a:pt x="11529" y="10791"/>
                  <a:pt x="11404" y="10840"/>
                  <a:pt x="11237" y="10914"/>
                </a:cubicBezTo>
                <a:cubicBezTo>
                  <a:pt x="11339" y="11016"/>
                  <a:pt x="11679" y="11156"/>
                  <a:pt x="11609" y="11336"/>
                </a:cubicBezTo>
                <a:cubicBezTo>
                  <a:pt x="11513" y="11431"/>
                  <a:pt x="11485" y="11464"/>
                  <a:pt x="11385" y="11435"/>
                </a:cubicBezTo>
                <a:cubicBezTo>
                  <a:pt x="11386" y="11246"/>
                  <a:pt x="11531" y="11063"/>
                  <a:pt x="11633" y="10889"/>
                </a:cubicBezTo>
                <a:cubicBezTo>
                  <a:pt x="11657" y="10842"/>
                  <a:pt x="11667" y="10825"/>
                  <a:pt x="11609" y="10840"/>
                </a:cubicBezTo>
              </a:path>
              <a:path w="5681" h="3573">
                <a:moveTo>
                  <a:pt x="10096" y="11782"/>
                </a:moveTo>
                <a:cubicBezTo>
                  <a:pt x="10573" y="11740"/>
                  <a:pt x="11055" y="11698"/>
                  <a:pt x="11534" y="11683"/>
                </a:cubicBezTo>
                <a:cubicBezTo>
                  <a:pt x="11632" y="11680"/>
                  <a:pt x="11919" y="11675"/>
                  <a:pt x="12005" y="11708"/>
                </a:cubicBezTo>
              </a:path>
              <a:path w="5681" h="3573">
                <a:moveTo>
                  <a:pt x="10120" y="12030"/>
                </a:moveTo>
                <a:cubicBezTo>
                  <a:pt x="10145" y="12228"/>
                  <a:pt x="10113" y="12403"/>
                  <a:pt x="10096" y="12601"/>
                </a:cubicBezTo>
                <a:cubicBezTo>
                  <a:pt x="10096" y="12710"/>
                  <a:pt x="10125" y="12715"/>
                  <a:pt x="10244" y="12576"/>
                </a:cubicBezTo>
              </a:path>
              <a:path w="5681" h="3573">
                <a:moveTo>
                  <a:pt x="10840" y="11981"/>
                </a:moveTo>
                <a:cubicBezTo>
                  <a:pt x="10632" y="12089"/>
                  <a:pt x="10575" y="12195"/>
                  <a:pt x="10542" y="12427"/>
                </a:cubicBezTo>
                <a:cubicBezTo>
                  <a:pt x="10733" y="12494"/>
                  <a:pt x="11058" y="12550"/>
                  <a:pt x="11088" y="12229"/>
                </a:cubicBezTo>
                <a:cubicBezTo>
                  <a:pt x="11107" y="12020"/>
                  <a:pt x="10919" y="12055"/>
                  <a:pt x="10790" y="12055"/>
                </a:cubicBezTo>
              </a:path>
              <a:path w="5681" h="3573">
                <a:moveTo>
                  <a:pt x="11708" y="12055"/>
                </a:moveTo>
                <a:cubicBezTo>
                  <a:pt x="11560" y="12055"/>
                  <a:pt x="11467" y="12236"/>
                  <a:pt x="11460" y="12402"/>
                </a:cubicBezTo>
                <a:cubicBezTo>
                  <a:pt x="11468" y="12435"/>
                  <a:pt x="11477" y="12469"/>
                  <a:pt x="11485" y="12502"/>
                </a:cubicBezTo>
                <a:cubicBezTo>
                  <a:pt x="11722" y="12527"/>
                  <a:pt x="11904" y="12452"/>
                  <a:pt x="11956" y="12179"/>
                </a:cubicBezTo>
                <a:cubicBezTo>
                  <a:pt x="11988" y="12010"/>
                  <a:pt x="11797" y="11959"/>
                  <a:pt x="11683" y="12030"/>
                </a:cubicBezTo>
                <a:cubicBezTo>
                  <a:pt x="11683" y="12038"/>
                  <a:pt x="11683" y="12047"/>
                  <a:pt x="11683" y="12055"/>
                </a:cubicBezTo>
              </a:path>
              <a:path w="5681" h="3573">
                <a:moveTo>
                  <a:pt x="12278" y="12378"/>
                </a:moveTo>
                <a:cubicBezTo>
                  <a:pt x="12368" y="12378"/>
                  <a:pt x="12503" y="12344"/>
                  <a:pt x="12576" y="12353"/>
                </a:cubicBezTo>
                <a:cubicBezTo>
                  <a:pt x="12599" y="12376"/>
                  <a:pt x="12607" y="12387"/>
                  <a:pt x="12601" y="12353"/>
                </a:cubicBezTo>
              </a:path>
              <a:path w="5681" h="3573">
                <a:moveTo>
                  <a:pt x="12626" y="10716"/>
                </a:moveTo>
                <a:cubicBezTo>
                  <a:pt x="12653" y="10764"/>
                  <a:pt x="12665" y="10904"/>
                  <a:pt x="12700" y="10939"/>
                </a:cubicBezTo>
                <a:cubicBezTo>
                  <a:pt x="12749" y="10987"/>
                  <a:pt x="12900" y="10902"/>
                  <a:pt x="12948" y="10889"/>
                </a:cubicBezTo>
                <a:cubicBezTo>
                  <a:pt x="12973" y="10889"/>
                  <a:pt x="12981" y="10889"/>
                  <a:pt x="12973" y="10864"/>
                </a:cubicBezTo>
              </a:path>
              <a:path w="5681" h="3573">
                <a:moveTo>
                  <a:pt x="12898" y="10592"/>
                </a:moveTo>
                <a:cubicBezTo>
                  <a:pt x="12898" y="10753"/>
                  <a:pt x="12951" y="10885"/>
                  <a:pt x="12973" y="11038"/>
                </a:cubicBezTo>
                <a:cubicBezTo>
                  <a:pt x="13011" y="11309"/>
                  <a:pt x="12964" y="11086"/>
                  <a:pt x="12998" y="11187"/>
                </a:cubicBezTo>
              </a:path>
              <a:path w="5681" h="3573">
                <a:moveTo>
                  <a:pt x="12898" y="12303"/>
                </a:moveTo>
                <a:cubicBezTo>
                  <a:pt x="12886" y="12380"/>
                  <a:pt x="12874" y="12445"/>
                  <a:pt x="12874" y="12526"/>
                </a:cubicBezTo>
                <a:cubicBezTo>
                  <a:pt x="12969" y="12526"/>
                  <a:pt x="13067" y="12541"/>
                  <a:pt x="13146" y="12502"/>
                </a:cubicBezTo>
              </a:path>
              <a:path w="5681" h="3573">
                <a:moveTo>
                  <a:pt x="13122" y="12278"/>
                </a:moveTo>
                <a:cubicBezTo>
                  <a:pt x="13122" y="12463"/>
                  <a:pt x="13126" y="12641"/>
                  <a:pt x="13146" y="12824"/>
                </a:cubicBezTo>
                <a:cubicBezTo>
                  <a:pt x="13146" y="12849"/>
                  <a:pt x="13146" y="12857"/>
                  <a:pt x="13146" y="12874"/>
                </a:cubicBezTo>
              </a:path>
              <a:path w="5681" h="3573">
                <a:moveTo>
                  <a:pt x="13568" y="11683"/>
                </a:moveTo>
                <a:cubicBezTo>
                  <a:pt x="13653" y="11660"/>
                  <a:pt x="13728" y="11633"/>
                  <a:pt x="13816" y="11633"/>
                </a:cubicBezTo>
              </a:path>
              <a:path w="5681" h="3573">
                <a:moveTo>
                  <a:pt x="13593" y="11832"/>
                </a:moveTo>
                <a:cubicBezTo>
                  <a:pt x="13677" y="11811"/>
                  <a:pt x="13756" y="11791"/>
                  <a:pt x="13841" y="11782"/>
                </a:cubicBezTo>
              </a:path>
              <a:path w="5681" h="3573">
                <a:moveTo>
                  <a:pt x="14461" y="10840"/>
                </a:moveTo>
                <a:cubicBezTo>
                  <a:pt x="14595" y="10818"/>
                  <a:pt x="14725" y="10772"/>
                  <a:pt x="14858" y="10740"/>
                </a:cubicBezTo>
                <a:cubicBezTo>
                  <a:pt x="14957" y="10721"/>
                  <a:pt x="14973" y="10713"/>
                  <a:pt x="15032" y="10716"/>
                </a:cubicBezTo>
                <a:cubicBezTo>
                  <a:pt x="14987" y="10907"/>
                  <a:pt x="14902" y="11092"/>
                  <a:pt x="14883" y="11286"/>
                </a:cubicBezTo>
                <a:cubicBezTo>
                  <a:pt x="14883" y="11311"/>
                  <a:pt x="14883" y="11319"/>
                  <a:pt x="14883" y="11336"/>
                </a:cubicBezTo>
              </a:path>
              <a:path w="5681" h="3573">
                <a:moveTo>
                  <a:pt x="14486" y="11609"/>
                </a:moveTo>
                <a:cubicBezTo>
                  <a:pt x="14760" y="11554"/>
                  <a:pt x="15024" y="11559"/>
                  <a:pt x="15304" y="11559"/>
                </a:cubicBezTo>
                <a:cubicBezTo>
                  <a:pt x="15385" y="11559"/>
                  <a:pt x="15510" y="11541"/>
                  <a:pt x="15553" y="11584"/>
                </a:cubicBezTo>
              </a:path>
              <a:path w="5681" h="3573">
                <a:moveTo>
                  <a:pt x="14585" y="11881"/>
                </a:moveTo>
                <a:cubicBezTo>
                  <a:pt x="14568" y="11887"/>
                  <a:pt x="14511" y="11936"/>
                  <a:pt x="14560" y="11881"/>
                </a:cubicBezTo>
                <a:cubicBezTo>
                  <a:pt x="14596" y="11847"/>
                  <a:pt x="14618" y="11834"/>
                  <a:pt x="14660" y="11832"/>
                </a:cubicBezTo>
                <a:cubicBezTo>
                  <a:pt x="14802" y="12088"/>
                  <a:pt x="14763" y="12203"/>
                  <a:pt x="14486" y="12353"/>
                </a:cubicBezTo>
                <a:cubicBezTo>
                  <a:pt x="14352" y="12397"/>
                  <a:pt x="14316" y="12420"/>
                  <a:pt x="14238" y="12353"/>
                </a:cubicBezTo>
                <a:cubicBezTo>
                  <a:pt x="14299" y="12214"/>
                  <a:pt x="14471" y="12166"/>
                  <a:pt x="14635" y="12204"/>
                </a:cubicBezTo>
                <a:cubicBezTo>
                  <a:pt x="14691" y="12217"/>
                  <a:pt x="14709" y="12266"/>
                  <a:pt x="14759" y="12278"/>
                </a:cubicBezTo>
              </a:path>
              <a:path w="5681" h="3573">
                <a:moveTo>
                  <a:pt x="15329" y="11733"/>
                </a:moveTo>
                <a:cubicBezTo>
                  <a:pt x="15260" y="11783"/>
                  <a:pt x="15189" y="11765"/>
                  <a:pt x="15106" y="11782"/>
                </a:cubicBezTo>
                <a:cubicBezTo>
                  <a:pt x="14991" y="11805"/>
                  <a:pt x="14971" y="11897"/>
                  <a:pt x="14957" y="12005"/>
                </a:cubicBezTo>
                <a:cubicBezTo>
                  <a:pt x="14957" y="12063"/>
                  <a:pt x="14957" y="12072"/>
                  <a:pt x="14957" y="12105"/>
                </a:cubicBezTo>
                <a:cubicBezTo>
                  <a:pt x="15044" y="12083"/>
                  <a:pt x="15124" y="12002"/>
                  <a:pt x="15230" y="12005"/>
                </a:cubicBezTo>
                <a:cubicBezTo>
                  <a:pt x="15377" y="12009"/>
                  <a:pt x="15430" y="12129"/>
                  <a:pt x="15379" y="12254"/>
                </a:cubicBezTo>
                <a:cubicBezTo>
                  <a:pt x="15322" y="12395"/>
                  <a:pt x="15124" y="12354"/>
                  <a:pt x="15007" y="12328"/>
                </a:cubicBezTo>
                <a:cubicBezTo>
                  <a:pt x="14990" y="12320"/>
                  <a:pt x="14974" y="12311"/>
                  <a:pt x="14957" y="12303"/>
                </a:cubicBezTo>
              </a:path>
              <a:path w="5681" h="3573">
                <a:moveTo>
                  <a:pt x="15528" y="10592"/>
                </a:moveTo>
                <a:cubicBezTo>
                  <a:pt x="15484" y="10511"/>
                  <a:pt x="15436" y="10457"/>
                  <a:pt x="15354" y="10393"/>
                </a:cubicBezTo>
                <a:cubicBezTo>
                  <a:pt x="15215" y="10285"/>
                  <a:pt x="15042" y="10316"/>
                  <a:pt x="14883" y="10344"/>
                </a:cubicBezTo>
                <a:cubicBezTo>
                  <a:pt x="14755" y="10366"/>
                  <a:pt x="14628" y="10356"/>
                  <a:pt x="14511" y="10418"/>
                </a:cubicBezTo>
                <a:cubicBezTo>
                  <a:pt x="14414" y="10469"/>
                  <a:pt x="14350" y="10553"/>
                  <a:pt x="14288" y="10641"/>
                </a:cubicBezTo>
                <a:cubicBezTo>
                  <a:pt x="14218" y="10741"/>
                  <a:pt x="14193" y="10835"/>
                  <a:pt x="14139" y="10939"/>
                </a:cubicBezTo>
                <a:cubicBezTo>
                  <a:pt x="14079" y="11054"/>
                  <a:pt x="14040" y="11155"/>
                  <a:pt x="14015" y="11286"/>
                </a:cubicBezTo>
                <a:cubicBezTo>
                  <a:pt x="13983" y="11452"/>
                  <a:pt x="13948" y="11616"/>
                  <a:pt x="13915" y="11782"/>
                </a:cubicBezTo>
                <a:cubicBezTo>
                  <a:pt x="13884" y="11935"/>
                  <a:pt x="13870" y="12098"/>
                  <a:pt x="13866" y="12254"/>
                </a:cubicBezTo>
                <a:cubicBezTo>
                  <a:pt x="13862" y="12387"/>
                  <a:pt x="13854" y="12523"/>
                  <a:pt x="13891" y="12650"/>
                </a:cubicBezTo>
                <a:cubicBezTo>
                  <a:pt x="13922" y="12757"/>
                  <a:pt x="13926" y="12729"/>
                  <a:pt x="14039" y="12799"/>
                </a:cubicBezTo>
                <a:cubicBezTo>
                  <a:pt x="14175" y="12883"/>
                  <a:pt x="14352" y="12849"/>
                  <a:pt x="14511" y="12849"/>
                </a:cubicBezTo>
                <a:cubicBezTo>
                  <a:pt x="14664" y="12849"/>
                  <a:pt x="14784" y="12836"/>
                  <a:pt x="14932" y="12799"/>
                </a:cubicBezTo>
                <a:cubicBezTo>
                  <a:pt x="15085" y="12761"/>
                  <a:pt x="15244" y="12740"/>
                  <a:pt x="15379" y="12650"/>
                </a:cubicBezTo>
                <a:cubicBezTo>
                  <a:pt x="15553" y="12534"/>
                  <a:pt x="15719" y="12344"/>
                  <a:pt x="15751" y="12129"/>
                </a:cubicBezTo>
                <a:cubicBezTo>
                  <a:pt x="15771" y="11995"/>
                  <a:pt x="15767" y="11841"/>
                  <a:pt x="15776" y="11708"/>
                </a:cubicBezTo>
                <a:cubicBezTo>
                  <a:pt x="15797" y="11414"/>
                  <a:pt x="15783" y="11103"/>
                  <a:pt x="15751" y="10815"/>
                </a:cubicBezTo>
                <a:cubicBezTo>
                  <a:pt x="15740" y="10713"/>
                  <a:pt x="15750" y="10660"/>
                  <a:pt x="15701" y="10567"/>
                </a:cubicBezTo>
                <a:cubicBezTo>
                  <a:pt x="15671" y="10511"/>
                  <a:pt x="15628" y="10477"/>
                  <a:pt x="15577" y="10443"/>
                </a:cubicBezTo>
                <a:cubicBezTo>
                  <a:pt x="15542" y="10419"/>
                  <a:pt x="15529" y="10413"/>
                  <a:pt x="15478" y="10393"/>
                </a:cubicBezTo>
                <a:cubicBezTo>
                  <a:pt x="15420" y="10370"/>
                  <a:pt x="15353" y="10355"/>
                  <a:pt x="15280" y="10368"/>
                </a:cubicBezTo>
                <a:cubicBezTo>
                  <a:pt x="15233" y="10376"/>
                  <a:pt x="15201" y="10401"/>
                  <a:pt x="15156" y="10418"/>
                </a:cubicBezTo>
              </a:path>
              <a:path w="5681" h="3573">
                <a:moveTo>
                  <a:pt x="14436" y="13667"/>
                </a:moveTo>
                <a:cubicBezTo>
                  <a:pt x="14406" y="13667"/>
                  <a:pt x="14553" y="13609"/>
                  <a:pt x="14610" y="13643"/>
                </a:cubicBezTo>
                <a:cubicBezTo>
                  <a:pt x="14665" y="13675"/>
                  <a:pt x="14533" y="13840"/>
                  <a:pt x="14511" y="13866"/>
                </a:cubicBezTo>
                <a:cubicBezTo>
                  <a:pt x="14588" y="13905"/>
                  <a:pt x="14624" y="13874"/>
                  <a:pt x="14709" y="13866"/>
                </a:cubicBezTo>
                <a:cubicBezTo>
                  <a:pt x="14717" y="13866"/>
                  <a:pt x="14726" y="13866"/>
                  <a:pt x="14734" y="1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62680" y="4929120"/>
            <a:ext cx="536400" cy="366840"/>
          </a:xfrm>
          <a:custGeom>
            <a:avLst/>
            <a:gdLst/>
            <a:ahLst/>
            <a:rect l="l" t="t" r="r" b="b"/>
            <a:pathLst>
              <a:path w="1490" h="1018">
                <a:moveTo>
                  <a:pt x="14064" y="13692"/>
                </a:moveTo>
                <a:lnTo>
                  <a:pt x="14064" y="13692"/>
                </a:lnTo>
              </a:path>
              <a:path w="1490" h="1018">
                <a:moveTo>
                  <a:pt x="14188" y="14039"/>
                </a:moveTo>
                <a:lnTo>
                  <a:pt x="14188" y="14039"/>
                </a:lnTo>
                <a:lnTo>
                  <a:pt x="14188" y="14039"/>
                </a:lnTo>
              </a:path>
              <a:path w="1490" h="1018">
                <a:moveTo>
                  <a:pt x="15280" y="14511"/>
                </a:moveTo>
                <a:cubicBezTo>
                  <a:pt x="15346" y="14489"/>
                  <a:pt x="15447" y="14403"/>
                  <a:pt x="15528" y="14436"/>
                </a:cubicBezTo>
                <a:cubicBezTo>
                  <a:pt x="15528" y="14444"/>
                  <a:pt x="15528" y="14453"/>
                  <a:pt x="15528" y="14461"/>
                </a:cubicBezTo>
              </a:path>
              <a:path w="1490" h="1018">
                <a:moveTo>
                  <a:pt x="15280" y="14709"/>
                </a:moveTo>
                <a:cubicBezTo>
                  <a:pt x="15372" y="14673"/>
                  <a:pt x="15459" y="14639"/>
                  <a:pt x="15553" y="14610"/>
                </a:cubicBezTo>
              </a:path>
              <a:path w="1490" h="1018">
                <a:moveTo>
                  <a:pt x="15553" y="14610"/>
                </a:moveTo>
                <a:lnTo>
                  <a:pt x="15553" y="1461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81320" y="4589640"/>
            <a:ext cx="2776680" cy="1250640"/>
          </a:xfrm>
          <a:custGeom>
            <a:avLst/>
            <a:gdLst/>
            <a:ahLst/>
            <a:rect l="l" t="t" r="r" b="b"/>
            <a:pathLst>
              <a:path w="7715" h="3473">
                <a:moveTo>
                  <a:pt x="12254" y="13990"/>
                </a:moveTo>
                <a:cubicBezTo>
                  <a:pt x="12018" y="14075"/>
                  <a:pt x="11786" y="14140"/>
                  <a:pt x="11534" y="14163"/>
                </a:cubicBezTo>
                <a:cubicBezTo>
                  <a:pt x="11460" y="14163"/>
                  <a:pt x="11451" y="14163"/>
                  <a:pt x="11410" y="14163"/>
                </a:cubicBezTo>
                <a:cubicBezTo>
                  <a:pt x="11421" y="14278"/>
                  <a:pt x="11440" y="14396"/>
                  <a:pt x="11460" y="14511"/>
                </a:cubicBezTo>
                <a:cubicBezTo>
                  <a:pt x="11469" y="14563"/>
                  <a:pt x="11501" y="14661"/>
                  <a:pt x="11509" y="14684"/>
                </a:cubicBezTo>
                <a:cubicBezTo>
                  <a:pt x="11544" y="14591"/>
                  <a:pt x="11697" y="14470"/>
                  <a:pt x="11807" y="14436"/>
                </a:cubicBezTo>
                <a:cubicBezTo>
                  <a:pt x="11974" y="14384"/>
                  <a:pt x="12142" y="14502"/>
                  <a:pt x="12179" y="14660"/>
                </a:cubicBezTo>
                <a:cubicBezTo>
                  <a:pt x="12230" y="14880"/>
                  <a:pt x="12052" y="15060"/>
                  <a:pt x="11881" y="15156"/>
                </a:cubicBezTo>
                <a:cubicBezTo>
                  <a:pt x="11701" y="15257"/>
                  <a:pt x="11464" y="15244"/>
                  <a:pt x="11336" y="15056"/>
                </a:cubicBezTo>
                <a:cubicBezTo>
                  <a:pt x="11303" y="15007"/>
                  <a:pt x="11342" y="15025"/>
                  <a:pt x="11361" y="15032"/>
                </a:cubicBezTo>
              </a:path>
              <a:path w="7715" h="3473">
                <a:moveTo>
                  <a:pt x="13419" y="13816"/>
                </a:moveTo>
                <a:cubicBezTo>
                  <a:pt x="13394" y="13734"/>
                  <a:pt x="13546" y="13690"/>
                  <a:pt x="13643" y="13667"/>
                </a:cubicBezTo>
                <a:cubicBezTo>
                  <a:pt x="13651" y="13667"/>
                  <a:pt x="13659" y="13667"/>
                  <a:pt x="13667" y="13667"/>
                </a:cubicBezTo>
                <a:cubicBezTo>
                  <a:pt x="13641" y="13903"/>
                  <a:pt x="13549" y="14049"/>
                  <a:pt x="13370" y="14213"/>
                </a:cubicBezTo>
                <a:cubicBezTo>
                  <a:pt x="13313" y="14251"/>
                  <a:pt x="13288" y="14246"/>
                  <a:pt x="13295" y="14288"/>
                </a:cubicBezTo>
                <a:cubicBezTo>
                  <a:pt x="13421" y="14267"/>
                  <a:pt x="13538" y="14206"/>
                  <a:pt x="13667" y="14188"/>
                </a:cubicBezTo>
                <a:cubicBezTo>
                  <a:pt x="13732" y="14179"/>
                  <a:pt x="13754" y="14173"/>
                  <a:pt x="13767" y="14213"/>
                </a:cubicBezTo>
              </a:path>
              <a:path w="7715" h="3473">
                <a:moveTo>
                  <a:pt x="13122" y="14536"/>
                </a:moveTo>
                <a:cubicBezTo>
                  <a:pt x="13417" y="14475"/>
                  <a:pt x="13688" y="14461"/>
                  <a:pt x="13990" y="14461"/>
                </a:cubicBezTo>
                <a:cubicBezTo>
                  <a:pt x="14006" y="14461"/>
                  <a:pt x="14023" y="14461"/>
                  <a:pt x="14039" y="14461"/>
                </a:cubicBezTo>
              </a:path>
              <a:path w="7715" h="3473">
                <a:moveTo>
                  <a:pt x="13196" y="14858"/>
                </a:moveTo>
                <a:cubicBezTo>
                  <a:pt x="13234" y="15009"/>
                  <a:pt x="13228" y="15142"/>
                  <a:pt x="13221" y="15304"/>
                </a:cubicBezTo>
                <a:cubicBezTo>
                  <a:pt x="13221" y="15379"/>
                  <a:pt x="13196" y="15412"/>
                  <a:pt x="13246" y="15404"/>
                </a:cubicBezTo>
              </a:path>
              <a:path w="7715" h="3473">
                <a:moveTo>
                  <a:pt x="13717" y="14858"/>
                </a:moveTo>
                <a:cubicBezTo>
                  <a:pt x="13625" y="14789"/>
                  <a:pt x="13609" y="15041"/>
                  <a:pt x="13593" y="15106"/>
                </a:cubicBezTo>
                <a:cubicBezTo>
                  <a:pt x="13572" y="15212"/>
                  <a:pt x="13550" y="15240"/>
                  <a:pt x="13618" y="15280"/>
                </a:cubicBezTo>
                <a:cubicBezTo>
                  <a:pt x="13802" y="15279"/>
                  <a:pt x="13895" y="15161"/>
                  <a:pt x="13841" y="14957"/>
                </a:cubicBezTo>
                <a:cubicBezTo>
                  <a:pt x="13809" y="14837"/>
                  <a:pt x="13666" y="14871"/>
                  <a:pt x="13593" y="14908"/>
                </a:cubicBezTo>
              </a:path>
              <a:path w="7715" h="3473">
                <a:moveTo>
                  <a:pt x="14015" y="13940"/>
                </a:moveTo>
                <a:cubicBezTo>
                  <a:pt x="14067" y="13921"/>
                  <a:pt x="14138" y="13872"/>
                  <a:pt x="14188" y="13866"/>
                </a:cubicBezTo>
                <a:cubicBezTo>
                  <a:pt x="14213" y="13866"/>
                  <a:pt x="14221" y="13866"/>
                  <a:pt x="14213" y="13841"/>
                </a:cubicBezTo>
              </a:path>
              <a:path w="7715" h="3473">
                <a:moveTo>
                  <a:pt x="14064" y="15255"/>
                </a:moveTo>
                <a:cubicBezTo>
                  <a:pt x="14168" y="15255"/>
                  <a:pt x="14263" y="15298"/>
                  <a:pt x="14362" y="15329"/>
                </a:cubicBezTo>
                <a:cubicBezTo>
                  <a:pt x="14387" y="15337"/>
                  <a:pt x="14411" y="15346"/>
                  <a:pt x="14436" y="15354"/>
                </a:cubicBezTo>
              </a:path>
              <a:path w="7715" h="3473">
                <a:moveTo>
                  <a:pt x="14610" y="15230"/>
                </a:moveTo>
                <a:cubicBezTo>
                  <a:pt x="14707" y="15200"/>
                  <a:pt x="14782" y="15186"/>
                  <a:pt x="14883" y="15180"/>
                </a:cubicBezTo>
                <a:cubicBezTo>
                  <a:pt x="14901" y="15323"/>
                  <a:pt x="14762" y="15459"/>
                  <a:pt x="14660" y="15577"/>
                </a:cubicBezTo>
                <a:cubicBezTo>
                  <a:pt x="14643" y="15594"/>
                  <a:pt x="14627" y="15610"/>
                  <a:pt x="14610" y="15627"/>
                </a:cubicBezTo>
                <a:cubicBezTo>
                  <a:pt x="14766" y="15599"/>
                  <a:pt x="14905" y="15529"/>
                  <a:pt x="15032" y="15429"/>
                </a:cubicBezTo>
                <a:cubicBezTo>
                  <a:pt x="15048" y="15412"/>
                  <a:pt x="15065" y="15396"/>
                  <a:pt x="15081" y="15379"/>
                </a:cubicBezTo>
              </a:path>
              <a:path w="7715" h="3473">
                <a:moveTo>
                  <a:pt x="17661" y="13667"/>
                </a:moveTo>
                <a:cubicBezTo>
                  <a:pt x="17661" y="13581"/>
                  <a:pt x="17699" y="13780"/>
                  <a:pt x="17711" y="13866"/>
                </a:cubicBezTo>
                <a:cubicBezTo>
                  <a:pt x="17726" y="13974"/>
                  <a:pt x="17760" y="14102"/>
                  <a:pt x="17760" y="14213"/>
                </a:cubicBezTo>
              </a:path>
              <a:path w="7715" h="3473">
                <a:moveTo>
                  <a:pt x="17438" y="14387"/>
                </a:moveTo>
                <a:cubicBezTo>
                  <a:pt x="17600" y="14387"/>
                  <a:pt x="17773" y="14375"/>
                  <a:pt x="17934" y="14362"/>
                </a:cubicBezTo>
                <a:cubicBezTo>
                  <a:pt x="18078" y="14350"/>
                  <a:pt x="18211" y="14337"/>
                  <a:pt x="18355" y="14337"/>
                </a:cubicBezTo>
              </a:path>
              <a:path w="7715" h="3473">
                <a:moveTo>
                  <a:pt x="17959" y="14610"/>
                </a:moveTo>
                <a:cubicBezTo>
                  <a:pt x="18034" y="14610"/>
                  <a:pt x="17858" y="14621"/>
                  <a:pt x="17785" y="14635"/>
                </a:cubicBezTo>
                <a:cubicBezTo>
                  <a:pt x="17706" y="14650"/>
                  <a:pt x="17677" y="14660"/>
                  <a:pt x="17611" y="14660"/>
                </a:cubicBezTo>
                <a:cubicBezTo>
                  <a:pt x="17635" y="14738"/>
                  <a:pt x="17653" y="14825"/>
                  <a:pt x="17661" y="14908"/>
                </a:cubicBezTo>
                <a:cubicBezTo>
                  <a:pt x="17661" y="14916"/>
                  <a:pt x="17661" y="14924"/>
                  <a:pt x="17661" y="14932"/>
                </a:cubicBezTo>
                <a:cubicBezTo>
                  <a:pt x="17758" y="14932"/>
                  <a:pt x="17819" y="14842"/>
                  <a:pt x="17909" y="14833"/>
                </a:cubicBezTo>
                <a:cubicBezTo>
                  <a:pt x="18001" y="14824"/>
                  <a:pt x="18145" y="14930"/>
                  <a:pt x="18132" y="15032"/>
                </a:cubicBezTo>
                <a:cubicBezTo>
                  <a:pt x="18103" y="15252"/>
                  <a:pt x="17861" y="15306"/>
                  <a:pt x="17686" y="15280"/>
                </a:cubicBezTo>
                <a:cubicBezTo>
                  <a:pt x="17645" y="15260"/>
                  <a:pt x="17639" y="15251"/>
                  <a:pt x="17611" y="15255"/>
                </a:cubicBezTo>
              </a:path>
              <a:path w="7715" h="3473">
                <a:moveTo>
                  <a:pt x="16619" y="14114"/>
                </a:moveTo>
                <a:cubicBezTo>
                  <a:pt x="16461" y="14167"/>
                  <a:pt x="16314" y="14163"/>
                  <a:pt x="16148" y="14163"/>
                </a:cubicBezTo>
                <a:cubicBezTo>
                  <a:pt x="16123" y="14163"/>
                  <a:pt x="16115" y="14163"/>
                  <a:pt x="16098" y="14163"/>
                </a:cubicBezTo>
                <a:cubicBezTo>
                  <a:pt x="16123" y="14351"/>
                  <a:pt x="16167" y="14542"/>
                  <a:pt x="16197" y="14734"/>
                </a:cubicBezTo>
                <a:cubicBezTo>
                  <a:pt x="16211" y="14824"/>
                  <a:pt x="16217" y="14876"/>
                  <a:pt x="16222" y="14957"/>
                </a:cubicBezTo>
                <a:cubicBezTo>
                  <a:pt x="16270" y="14900"/>
                  <a:pt x="16304" y="14838"/>
                  <a:pt x="16371" y="14784"/>
                </a:cubicBezTo>
                <a:cubicBezTo>
                  <a:pt x="16470" y="14704"/>
                  <a:pt x="16616" y="14624"/>
                  <a:pt x="16743" y="14684"/>
                </a:cubicBezTo>
                <a:cubicBezTo>
                  <a:pt x="16900" y="14759"/>
                  <a:pt x="16927" y="14951"/>
                  <a:pt x="16892" y="15106"/>
                </a:cubicBezTo>
                <a:cubicBezTo>
                  <a:pt x="16853" y="15280"/>
                  <a:pt x="16674" y="15425"/>
                  <a:pt x="16495" y="15429"/>
                </a:cubicBezTo>
                <a:cubicBezTo>
                  <a:pt x="16336" y="15433"/>
                  <a:pt x="16264" y="15337"/>
                  <a:pt x="16173" y="15230"/>
                </a:cubicBezTo>
              </a:path>
              <a:path w="7715" h="3473">
                <a:moveTo>
                  <a:pt x="15677" y="14015"/>
                </a:moveTo>
                <a:cubicBezTo>
                  <a:pt x="15655" y="14079"/>
                  <a:pt x="15644" y="14127"/>
                  <a:pt x="15627" y="14188"/>
                </a:cubicBezTo>
                <a:cubicBezTo>
                  <a:pt x="15592" y="14317"/>
                  <a:pt x="15542" y="14453"/>
                  <a:pt x="15528" y="14585"/>
                </a:cubicBezTo>
                <a:cubicBezTo>
                  <a:pt x="15513" y="14727"/>
                  <a:pt x="15548" y="14866"/>
                  <a:pt x="15553" y="15007"/>
                </a:cubicBezTo>
                <a:cubicBezTo>
                  <a:pt x="15558" y="15142"/>
                  <a:pt x="15558" y="15272"/>
                  <a:pt x="15577" y="15404"/>
                </a:cubicBezTo>
                <a:cubicBezTo>
                  <a:pt x="15594" y="15523"/>
                  <a:pt x="15606" y="15646"/>
                  <a:pt x="15677" y="15751"/>
                </a:cubicBezTo>
                <a:cubicBezTo>
                  <a:pt x="15746" y="15853"/>
                  <a:pt x="15847" y="15977"/>
                  <a:pt x="15949" y="16049"/>
                </a:cubicBezTo>
                <a:cubicBezTo>
                  <a:pt x="16064" y="16131"/>
                  <a:pt x="16187" y="16161"/>
                  <a:pt x="16321" y="16197"/>
                </a:cubicBezTo>
                <a:cubicBezTo>
                  <a:pt x="16478" y="16239"/>
                  <a:pt x="16680" y="16237"/>
                  <a:pt x="16842" y="16222"/>
                </a:cubicBezTo>
                <a:cubicBezTo>
                  <a:pt x="17052" y="16202"/>
                  <a:pt x="17280" y="16213"/>
                  <a:pt x="17487" y="16173"/>
                </a:cubicBezTo>
                <a:cubicBezTo>
                  <a:pt x="17626" y="16146"/>
                  <a:pt x="17742" y="16065"/>
                  <a:pt x="17884" y="16049"/>
                </a:cubicBezTo>
                <a:cubicBezTo>
                  <a:pt x="18080" y="16027"/>
                  <a:pt x="18282" y="16030"/>
                  <a:pt x="18455" y="15925"/>
                </a:cubicBezTo>
                <a:cubicBezTo>
                  <a:pt x="18558" y="15863"/>
                  <a:pt x="18621" y="15760"/>
                  <a:pt x="18703" y="15677"/>
                </a:cubicBezTo>
                <a:cubicBezTo>
                  <a:pt x="18846" y="15533"/>
                  <a:pt x="18882" y="15386"/>
                  <a:pt x="18951" y="15205"/>
                </a:cubicBezTo>
                <a:cubicBezTo>
                  <a:pt x="19011" y="15049"/>
                  <a:pt x="19046" y="14929"/>
                  <a:pt x="19050" y="14759"/>
                </a:cubicBezTo>
                <a:cubicBezTo>
                  <a:pt x="19054" y="14565"/>
                  <a:pt x="19037" y="14379"/>
                  <a:pt x="19025" y="14188"/>
                </a:cubicBezTo>
                <a:cubicBezTo>
                  <a:pt x="19015" y="14021"/>
                  <a:pt x="19003" y="13854"/>
                  <a:pt x="18951" y="13692"/>
                </a:cubicBezTo>
                <a:cubicBezTo>
                  <a:pt x="18911" y="13568"/>
                  <a:pt x="18865" y="13412"/>
                  <a:pt x="18802" y="13295"/>
                </a:cubicBezTo>
                <a:cubicBezTo>
                  <a:pt x="18754" y="13205"/>
                  <a:pt x="18684" y="13087"/>
                  <a:pt x="18604" y="13022"/>
                </a:cubicBezTo>
                <a:cubicBezTo>
                  <a:pt x="18504" y="12941"/>
                  <a:pt x="18376" y="12888"/>
                  <a:pt x="18256" y="12849"/>
                </a:cubicBezTo>
                <a:cubicBezTo>
                  <a:pt x="18059" y="12785"/>
                  <a:pt x="17841" y="12761"/>
                  <a:pt x="17636" y="12750"/>
                </a:cubicBezTo>
                <a:cubicBezTo>
                  <a:pt x="17457" y="12740"/>
                  <a:pt x="17240" y="12725"/>
                  <a:pt x="17066" y="12774"/>
                </a:cubicBezTo>
                <a:cubicBezTo>
                  <a:pt x="16953" y="12806"/>
                  <a:pt x="16826" y="12848"/>
                  <a:pt x="16718" y="12898"/>
                </a:cubicBezTo>
                <a:cubicBezTo>
                  <a:pt x="16619" y="12944"/>
                  <a:pt x="16515" y="13011"/>
                  <a:pt x="16446" y="13097"/>
                </a:cubicBezTo>
                <a:cubicBezTo>
                  <a:pt x="16388" y="13170"/>
                  <a:pt x="16350" y="13267"/>
                  <a:pt x="16297" y="13345"/>
                </a:cubicBezTo>
                <a:cubicBezTo>
                  <a:pt x="16258" y="13402"/>
                  <a:pt x="16222" y="13470"/>
                  <a:pt x="16173" y="13519"/>
                </a:cubicBezTo>
                <a:cubicBezTo>
                  <a:pt x="16125" y="13567"/>
                  <a:pt x="16087" y="13591"/>
                  <a:pt x="16024" y="13643"/>
                </a:cubicBezTo>
                <a:cubicBezTo>
                  <a:pt x="15935" y="13716"/>
                  <a:pt x="15842" y="13772"/>
                  <a:pt x="15751" y="13841"/>
                </a:cubicBezTo>
                <a:cubicBezTo>
                  <a:pt x="15676" y="13898"/>
                  <a:pt x="15571" y="13978"/>
                  <a:pt x="15528" y="14064"/>
                </a:cubicBezTo>
                <a:cubicBezTo>
                  <a:pt x="15503" y="14113"/>
                  <a:pt x="15519" y="14143"/>
                  <a:pt x="15503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56080" y="4394160"/>
            <a:ext cx="679320" cy="1187640"/>
          </a:xfrm>
          <a:custGeom>
            <a:avLst/>
            <a:gdLst/>
            <a:ahLst/>
            <a:rect l="l" t="t" r="r" b="b"/>
            <a:pathLst>
              <a:path w="1886" h="3300">
                <a:moveTo>
                  <a:pt x="12402" y="12204"/>
                </a:moveTo>
                <a:cubicBezTo>
                  <a:pt x="12378" y="12204"/>
                  <a:pt x="12370" y="12204"/>
                  <a:pt x="12378" y="12229"/>
                </a:cubicBezTo>
              </a:path>
              <a:path w="1886" h="3300">
                <a:moveTo>
                  <a:pt x="12427" y="12650"/>
                </a:moveTo>
                <a:lnTo>
                  <a:pt x="12427" y="12650"/>
                </a:lnTo>
              </a:path>
              <a:path w="1886" h="3300">
                <a:moveTo>
                  <a:pt x="14263" y="15106"/>
                </a:moveTo>
                <a:lnTo>
                  <a:pt x="14263" y="15106"/>
                </a:lnTo>
              </a:path>
              <a:path w="1886" h="3300">
                <a:moveTo>
                  <a:pt x="14213" y="15503"/>
                </a:moveTo>
                <a:lnTo>
                  <a:pt x="14213" y="15503"/>
                </a:lnTo>
                <a:lnTo>
                  <a:pt x="14213" y="15503"/>
                </a:lnTo>
              </a:path>
              <a:path w="1886" h="3300">
                <a:moveTo>
                  <a:pt x="14213" y="15503"/>
                </a:moveTo>
                <a:lnTo>
                  <a:pt x="14213" y="1550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1920" y="5429160"/>
            <a:ext cx="366840" cy="36720"/>
          </a:xfrm>
          <a:custGeom>
            <a:avLst/>
            <a:gdLst/>
            <a:ahLst/>
            <a:rect l="l" t="t" r="r" b="b"/>
            <a:pathLst>
              <a:path w="1018" h="100">
                <a:moveTo>
                  <a:pt x="3423" y="15131"/>
                </a:moveTo>
                <a:cubicBezTo>
                  <a:pt x="3547" y="15100"/>
                  <a:pt x="3691" y="15088"/>
                  <a:pt x="3820" y="15081"/>
                </a:cubicBezTo>
                <a:cubicBezTo>
                  <a:pt x="4017" y="15070"/>
                  <a:pt x="4218" y="15081"/>
                  <a:pt x="4415" y="15081"/>
                </a:cubicBezTo>
                <a:cubicBezTo>
                  <a:pt x="4495" y="15081"/>
                  <a:pt x="4192" y="15106"/>
                  <a:pt x="4192" y="15106"/>
                </a:cubicBezTo>
                <a:cubicBezTo>
                  <a:pt x="4043" y="15126"/>
                  <a:pt x="3893" y="15138"/>
                  <a:pt x="3746" y="15156"/>
                </a:cubicBezTo>
                <a:cubicBezTo>
                  <a:pt x="3725" y="15159"/>
                  <a:pt x="3578" y="15181"/>
                  <a:pt x="3572" y="15180"/>
                </a:cubicBezTo>
                <a:cubicBezTo>
                  <a:pt x="3564" y="15172"/>
                  <a:pt x="3555" y="15164"/>
                  <a:pt x="3547" y="15156"/>
                </a:cubicBezTo>
                <a:cubicBezTo>
                  <a:pt x="3672" y="15118"/>
                  <a:pt x="3835" y="15090"/>
                  <a:pt x="3969" y="15081"/>
                </a:cubicBezTo>
                <a:cubicBezTo>
                  <a:pt x="4109" y="15071"/>
                  <a:pt x="4504" y="15077"/>
                  <a:pt x="4366" y="15106"/>
                </a:cubicBezTo>
                <a:cubicBezTo>
                  <a:pt x="4155" y="15151"/>
                  <a:pt x="3934" y="15111"/>
                  <a:pt x="3721" y="15131"/>
                </a:cubicBezTo>
                <a:cubicBezTo>
                  <a:pt x="3680" y="15139"/>
                  <a:pt x="3638" y="15148"/>
                  <a:pt x="3597" y="15156"/>
                </a:cubicBezTo>
                <a:cubicBezTo>
                  <a:pt x="3572" y="15156"/>
                  <a:pt x="3547" y="15156"/>
                  <a:pt x="3522" y="15156"/>
                </a:cubicBezTo>
                <a:cubicBezTo>
                  <a:pt x="3657" y="15156"/>
                  <a:pt x="3785" y="15137"/>
                  <a:pt x="3919" y="15131"/>
                </a:cubicBezTo>
                <a:cubicBezTo>
                  <a:pt x="4074" y="15124"/>
                  <a:pt x="4214" y="15156"/>
                  <a:pt x="4366" y="15156"/>
                </a:cubicBezTo>
                <a:cubicBezTo>
                  <a:pt x="4374" y="15156"/>
                  <a:pt x="4382" y="15156"/>
                  <a:pt x="4390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fractions as a perc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a percent is parts of 100, fractions with 100 as a denominator can be easily converted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882880" y="3035160"/>
                <a:ext cx="13971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8400" y="432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3520" y="48942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parts of 100 = 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28920" y="3143160"/>
            <a:ext cx="3929040" cy="598680"/>
          </a:xfrm>
          <a:custGeom>
            <a:avLst/>
            <a:gdLst/>
            <a:ahLst/>
            <a:rect l="l" t="t" r="r" b="b"/>
            <a:pathLst>
              <a:path w="10915" h="1663">
                <a:moveTo>
                  <a:pt x="6747" y="8731"/>
                </a:moveTo>
                <a:lnTo>
                  <a:pt x="6747" y="8731"/>
                </a:lnTo>
              </a:path>
              <a:path w="10915" h="1663">
                <a:moveTo>
                  <a:pt x="17314" y="10393"/>
                </a:moveTo>
                <a:cubicBezTo>
                  <a:pt x="17429" y="10370"/>
                  <a:pt x="17557" y="10318"/>
                  <a:pt x="17661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36920" y="3017880"/>
            <a:ext cx="1785960" cy="866880"/>
          </a:xfrm>
          <a:custGeom>
            <a:avLst/>
            <a:gdLst/>
            <a:ahLst/>
            <a:rect l="l" t="t" r="r" b="b"/>
            <a:pathLst>
              <a:path w="4961" h="2407">
                <a:moveTo>
                  <a:pt x="8186" y="9575"/>
                </a:moveTo>
                <a:cubicBezTo>
                  <a:pt x="8473" y="9575"/>
                  <a:pt x="8866" y="9638"/>
                  <a:pt x="9128" y="9550"/>
                </a:cubicBezTo>
                <a:cubicBezTo>
                  <a:pt x="9164" y="9538"/>
                  <a:pt x="9320" y="9521"/>
                  <a:pt x="9351" y="9525"/>
                </a:cubicBezTo>
                <a:cubicBezTo>
                  <a:pt x="9412" y="9532"/>
                  <a:pt x="9457" y="9550"/>
                  <a:pt x="9525" y="9550"/>
                </a:cubicBezTo>
                <a:cubicBezTo>
                  <a:pt x="9463" y="9562"/>
                  <a:pt x="9418" y="9575"/>
                  <a:pt x="9351" y="9575"/>
                </a:cubicBezTo>
                <a:cubicBezTo>
                  <a:pt x="9298" y="9575"/>
                  <a:pt x="9282" y="9553"/>
                  <a:pt x="9227" y="9550"/>
                </a:cubicBezTo>
                <a:cubicBezTo>
                  <a:pt x="9137" y="9545"/>
                  <a:pt x="9065" y="9545"/>
                  <a:pt x="8979" y="9525"/>
                </a:cubicBezTo>
                <a:cubicBezTo>
                  <a:pt x="8854" y="9496"/>
                  <a:pt x="8700" y="9530"/>
                  <a:pt x="8582" y="9550"/>
                </a:cubicBezTo>
                <a:cubicBezTo>
                  <a:pt x="8504" y="9563"/>
                  <a:pt x="8435" y="9557"/>
                  <a:pt x="8359" y="9575"/>
                </a:cubicBezTo>
                <a:cubicBezTo>
                  <a:pt x="8305" y="9588"/>
                  <a:pt x="8242" y="9595"/>
                  <a:pt x="8186" y="9599"/>
                </a:cubicBezTo>
                <a:cubicBezTo>
                  <a:pt x="8153" y="9601"/>
                  <a:pt x="8119" y="9599"/>
                  <a:pt x="8086" y="9599"/>
                </a:cubicBezTo>
              </a:path>
              <a:path w="4961" h="2407">
                <a:moveTo>
                  <a:pt x="7045" y="10344"/>
                </a:moveTo>
                <a:cubicBezTo>
                  <a:pt x="7170" y="10344"/>
                  <a:pt x="7318" y="10356"/>
                  <a:pt x="7441" y="10368"/>
                </a:cubicBezTo>
                <a:cubicBezTo>
                  <a:pt x="7495" y="10373"/>
                  <a:pt x="7690" y="10439"/>
                  <a:pt x="7714" y="10368"/>
                </a:cubicBezTo>
              </a:path>
              <a:path w="4961" h="2407">
                <a:moveTo>
                  <a:pt x="7491" y="10170"/>
                </a:moveTo>
                <a:cubicBezTo>
                  <a:pt x="7615" y="10182"/>
                  <a:pt x="7719" y="10232"/>
                  <a:pt x="7838" y="10269"/>
                </a:cubicBezTo>
                <a:cubicBezTo>
                  <a:pt x="7758" y="10372"/>
                  <a:pt x="7639" y="10459"/>
                  <a:pt x="7516" y="10517"/>
                </a:cubicBezTo>
                <a:cubicBezTo>
                  <a:pt x="7508" y="10517"/>
                  <a:pt x="7499" y="10517"/>
                  <a:pt x="7491" y="10517"/>
                </a:cubicBezTo>
              </a:path>
              <a:path w="4961" h="2407">
                <a:moveTo>
                  <a:pt x="7987" y="10641"/>
                </a:moveTo>
                <a:cubicBezTo>
                  <a:pt x="8243" y="10621"/>
                  <a:pt x="8474" y="10610"/>
                  <a:pt x="8731" y="10616"/>
                </a:cubicBezTo>
                <a:cubicBezTo>
                  <a:pt x="8765" y="10617"/>
                  <a:pt x="9119" y="10584"/>
                  <a:pt x="8930" y="10666"/>
                </a:cubicBezTo>
              </a:path>
              <a:path w="4961" h="2407">
                <a:moveTo>
                  <a:pt x="8186" y="10790"/>
                </a:moveTo>
                <a:cubicBezTo>
                  <a:pt x="8382" y="10768"/>
                  <a:pt x="8557" y="10724"/>
                  <a:pt x="8756" y="10716"/>
                </a:cubicBezTo>
                <a:cubicBezTo>
                  <a:pt x="8805" y="10714"/>
                  <a:pt x="8856" y="10716"/>
                  <a:pt x="8905" y="10716"/>
                </a:cubicBezTo>
              </a:path>
              <a:path w="4961" h="2407">
                <a:moveTo>
                  <a:pt x="8186" y="9103"/>
                </a:moveTo>
                <a:cubicBezTo>
                  <a:pt x="8238" y="9167"/>
                  <a:pt x="8274" y="9222"/>
                  <a:pt x="8359" y="9252"/>
                </a:cubicBezTo>
                <a:cubicBezTo>
                  <a:pt x="8526" y="9310"/>
                  <a:pt x="8706" y="9323"/>
                  <a:pt x="8880" y="9327"/>
                </a:cubicBezTo>
                <a:cubicBezTo>
                  <a:pt x="9042" y="9330"/>
                  <a:pt x="9163" y="9299"/>
                  <a:pt x="9302" y="9227"/>
                </a:cubicBezTo>
                <a:cubicBezTo>
                  <a:pt x="9411" y="9171"/>
                  <a:pt x="9502" y="9097"/>
                  <a:pt x="9550" y="8979"/>
                </a:cubicBezTo>
                <a:cubicBezTo>
                  <a:pt x="9597" y="8864"/>
                  <a:pt x="9570" y="8766"/>
                  <a:pt x="9525" y="8657"/>
                </a:cubicBezTo>
                <a:cubicBezTo>
                  <a:pt x="9466" y="8513"/>
                  <a:pt x="9371" y="8450"/>
                  <a:pt x="9227" y="8409"/>
                </a:cubicBezTo>
                <a:cubicBezTo>
                  <a:pt x="9112" y="8376"/>
                  <a:pt x="8951" y="8364"/>
                  <a:pt x="8830" y="8384"/>
                </a:cubicBezTo>
                <a:cubicBezTo>
                  <a:pt x="8711" y="8404"/>
                  <a:pt x="8639" y="8433"/>
                  <a:pt x="8533" y="8483"/>
                </a:cubicBezTo>
                <a:cubicBezTo>
                  <a:pt x="8452" y="8522"/>
                  <a:pt x="8383" y="8561"/>
                  <a:pt x="8310" y="8607"/>
                </a:cubicBezTo>
                <a:cubicBezTo>
                  <a:pt x="8227" y="8659"/>
                  <a:pt x="8210" y="8700"/>
                  <a:pt x="8161" y="8781"/>
                </a:cubicBezTo>
                <a:cubicBezTo>
                  <a:pt x="8095" y="8889"/>
                  <a:pt x="8055" y="8975"/>
                  <a:pt x="8111" y="9103"/>
                </a:cubicBezTo>
                <a:cubicBezTo>
                  <a:pt x="8167" y="9231"/>
                  <a:pt x="8233" y="9208"/>
                  <a:pt x="8334" y="9252"/>
                </a:cubicBezTo>
                <a:cubicBezTo>
                  <a:pt x="8359" y="9252"/>
                  <a:pt x="8367" y="9252"/>
                  <a:pt x="8359" y="9277"/>
                </a:cubicBezTo>
              </a:path>
              <a:path w="4961" h="2407">
                <a:moveTo>
                  <a:pt x="10368" y="10071"/>
                </a:moveTo>
                <a:cubicBezTo>
                  <a:pt x="10425" y="10058"/>
                  <a:pt x="10574" y="10055"/>
                  <a:pt x="10666" y="10046"/>
                </a:cubicBezTo>
                <a:cubicBezTo>
                  <a:pt x="10890" y="10025"/>
                  <a:pt x="11109" y="10046"/>
                  <a:pt x="11336" y="10046"/>
                </a:cubicBezTo>
                <a:cubicBezTo>
                  <a:pt x="11539" y="10046"/>
                  <a:pt x="11732" y="10018"/>
                  <a:pt x="11931" y="9996"/>
                </a:cubicBezTo>
                <a:cubicBezTo>
                  <a:pt x="11972" y="9996"/>
                  <a:pt x="11980" y="9996"/>
                  <a:pt x="12005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2800" y="3340080"/>
            <a:ext cx="992160" cy="669960"/>
          </a:xfrm>
          <a:custGeom>
            <a:avLst/>
            <a:gdLst/>
            <a:ahLst/>
            <a:rect l="l" t="t" r="r" b="b"/>
            <a:pathLst>
              <a:path w="2754" h="1861">
                <a:moveTo>
                  <a:pt x="15776" y="9451"/>
                </a:moveTo>
                <a:cubicBezTo>
                  <a:pt x="15832" y="9365"/>
                  <a:pt x="15995" y="9397"/>
                  <a:pt x="16098" y="9401"/>
                </a:cubicBezTo>
                <a:cubicBezTo>
                  <a:pt x="16265" y="9735"/>
                  <a:pt x="16108" y="9846"/>
                  <a:pt x="15751" y="9947"/>
                </a:cubicBezTo>
                <a:cubicBezTo>
                  <a:pt x="15563" y="10000"/>
                  <a:pt x="15540" y="10001"/>
                  <a:pt x="15553" y="9872"/>
                </a:cubicBezTo>
                <a:cubicBezTo>
                  <a:pt x="15713" y="9755"/>
                  <a:pt x="15882" y="9692"/>
                  <a:pt x="16073" y="9823"/>
                </a:cubicBezTo>
                <a:cubicBezTo>
                  <a:pt x="16111" y="9879"/>
                  <a:pt x="16128" y="9882"/>
                  <a:pt x="16123" y="9922"/>
                </a:cubicBezTo>
              </a:path>
              <a:path w="2754" h="1861">
                <a:moveTo>
                  <a:pt x="16371" y="9302"/>
                </a:moveTo>
                <a:cubicBezTo>
                  <a:pt x="16498" y="9302"/>
                  <a:pt x="16617" y="9283"/>
                  <a:pt x="16743" y="9277"/>
                </a:cubicBezTo>
                <a:cubicBezTo>
                  <a:pt x="16843" y="9272"/>
                  <a:pt x="16752" y="9565"/>
                  <a:pt x="16743" y="9599"/>
                </a:cubicBezTo>
                <a:cubicBezTo>
                  <a:pt x="16717" y="9696"/>
                  <a:pt x="16683" y="9774"/>
                  <a:pt x="16669" y="9872"/>
                </a:cubicBezTo>
              </a:path>
              <a:path w="2754" h="1861">
                <a:moveTo>
                  <a:pt x="14982" y="10269"/>
                </a:moveTo>
                <a:cubicBezTo>
                  <a:pt x="15383" y="10214"/>
                  <a:pt x="15792" y="10182"/>
                  <a:pt x="16197" y="10170"/>
                </a:cubicBezTo>
                <a:cubicBezTo>
                  <a:pt x="16447" y="10163"/>
                  <a:pt x="16697" y="10163"/>
                  <a:pt x="16942" y="10195"/>
                </a:cubicBezTo>
              </a:path>
              <a:path w="2754" h="1861">
                <a:moveTo>
                  <a:pt x="15404" y="10492"/>
                </a:moveTo>
                <a:cubicBezTo>
                  <a:pt x="15404" y="10587"/>
                  <a:pt x="15334" y="11085"/>
                  <a:pt x="15379" y="11137"/>
                </a:cubicBezTo>
                <a:cubicBezTo>
                  <a:pt x="15396" y="11121"/>
                  <a:pt x="15412" y="11104"/>
                  <a:pt x="15429" y="11088"/>
                </a:cubicBezTo>
              </a:path>
              <a:path w="2754" h="1861">
                <a:moveTo>
                  <a:pt x="15949" y="10567"/>
                </a:moveTo>
                <a:cubicBezTo>
                  <a:pt x="15847" y="10644"/>
                  <a:pt x="15739" y="10805"/>
                  <a:pt x="15726" y="10939"/>
                </a:cubicBezTo>
                <a:cubicBezTo>
                  <a:pt x="15751" y="11039"/>
                  <a:pt x="15760" y="11072"/>
                  <a:pt x="15825" y="11112"/>
                </a:cubicBezTo>
                <a:cubicBezTo>
                  <a:pt x="15995" y="11082"/>
                  <a:pt x="16187" y="11013"/>
                  <a:pt x="16148" y="10790"/>
                </a:cubicBezTo>
                <a:cubicBezTo>
                  <a:pt x="16133" y="10705"/>
                  <a:pt x="16037" y="10694"/>
                  <a:pt x="15974" y="10666"/>
                </a:cubicBezTo>
              </a:path>
              <a:path w="2754" h="1861">
                <a:moveTo>
                  <a:pt x="16594" y="10542"/>
                </a:moveTo>
                <a:cubicBezTo>
                  <a:pt x="16507" y="10556"/>
                  <a:pt x="16360" y="10753"/>
                  <a:pt x="16346" y="10889"/>
                </a:cubicBezTo>
                <a:cubicBezTo>
                  <a:pt x="16370" y="11006"/>
                  <a:pt x="16373" y="11043"/>
                  <a:pt x="16446" y="11088"/>
                </a:cubicBezTo>
                <a:cubicBezTo>
                  <a:pt x="16628" y="11060"/>
                  <a:pt x="16821" y="10984"/>
                  <a:pt x="16793" y="10740"/>
                </a:cubicBezTo>
                <a:cubicBezTo>
                  <a:pt x="16781" y="10631"/>
                  <a:pt x="16620" y="10615"/>
                  <a:pt x="16545" y="10592"/>
                </a:cubicBezTo>
              </a:path>
              <a:path w="2754" h="1861">
                <a:moveTo>
                  <a:pt x="17289" y="10244"/>
                </a:moveTo>
                <a:cubicBezTo>
                  <a:pt x="17400" y="10228"/>
                  <a:pt x="17631" y="10160"/>
                  <a:pt x="17735" y="10195"/>
                </a:cubicBezTo>
                <a:cubicBezTo>
                  <a:pt x="17735" y="10203"/>
                  <a:pt x="17735" y="10212"/>
                  <a:pt x="17735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6160" y="3500280"/>
            <a:ext cx="438120" cy="250920"/>
          </a:xfrm>
          <a:custGeom>
            <a:avLst/>
            <a:gdLst/>
            <a:ahLst/>
            <a:rect l="l" t="t" r="r" b="b"/>
            <a:pathLst>
              <a:path w="1217" h="696">
                <a:moveTo>
                  <a:pt x="18628" y="9872"/>
                </a:moveTo>
                <a:cubicBezTo>
                  <a:pt x="18556" y="9897"/>
                  <a:pt x="18660" y="9867"/>
                  <a:pt x="18703" y="9847"/>
                </a:cubicBezTo>
                <a:cubicBezTo>
                  <a:pt x="18744" y="9831"/>
                  <a:pt x="18786" y="9814"/>
                  <a:pt x="18827" y="9798"/>
                </a:cubicBezTo>
                <a:cubicBezTo>
                  <a:pt x="19016" y="10014"/>
                  <a:pt x="19017" y="10206"/>
                  <a:pt x="18728" y="10368"/>
                </a:cubicBezTo>
                <a:cubicBezTo>
                  <a:pt x="18571" y="10413"/>
                  <a:pt x="18531" y="10433"/>
                  <a:pt x="18430" y="10393"/>
                </a:cubicBezTo>
                <a:cubicBezTo>
                  <a:pt x="18384" y="10255"/>
                  <a:pt x="18532" y="10237"/>
                  <a:pt x="18653" y="10244"/>
                </a:cubicBezTo>
                <a:cubicBezTo>
                  <a:pt x="18802" y="10253"/>
                  <a:pt x="18901" y="10337"/>
                  <a:pt x="19025" y="10368"/>
                </a:cubicBezTo>
              </a:path>
              <a:path w="1217" h="696">
                <a:moveTo>
                  <a:pt x="19124" y="9748"/>
                </a:moveTo>
                <a:cubicBezTo>
                  <a:pt x="19260" y="9748"/>
                  <a:pt x="19387" y="9734"/>
                  <a:pt x="19521" y="9723"/>
                </a:cubicBezTo>
                <a:cubicBezTo>
                  <a:pt x="19579" y="9723"/>
                  <a:pt x="19588" y="9723"/>
                  <a:pt x="19621" y="9723"/>
                </a:cubicBezTo>
                <a:cubicBezTo>
                  <a:pt x="19593" y="9920"/>
                  <a:pt x="19516" y="10101"/>
                  <a:pt x="19472" y="10294"/>
                </a:cubicBezTo>
                <a:cubicBezTo>
                  <a:pt x="19472" y="10311"/>
                  <a:pt x="19472" y="10327"/>
                  <a:pt x="1947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24840" y="3429000"/>
            <a:ext cx="34740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20141" y="9525"/>
                </a:moveTo>
                <a:cubicBezTo>
                  <a:pt x="20084" y="9654"/>
                  <a:pt x="20031" y="9723"/>
                  <a:pt x="20117" y="9823"/>
                </a:cubicBezTo>
                <a:cubicBezTo>
                  <a:pt x="20245" y="9741"/>
                  <a:pt x="20285" y="9676"/>
                  <a:pt x="20141" y="9575"/>
                </a:cubicBezTo>
                <a:cubicBezTo>
                  <a:pt x="20125" y="9567"/>
                  <a:pt x="20108" y="9558"/>
                  <a:pt x="20092" y="9550"/>
                </a:cubicBezTo>
                <a:cubicBezTo>
                  <a:pt x="20186" y="9534"/>
                  <a:pt x="20338" y="9474"/>
                  <a:pt x="20414" y="9575"/>
                </a:cubicBezTo>
                <a:cubicBezTo>
                  <a:pt x="20559" y="9767"/>
                  <a:pt x="20382" y="10084"/>
                  <a:pt x="20315" y="10269"/>
                </a:cubicBezTo>
                <a:cubicBezTo>
                  <a:pt x="20266" y="10403"/>
                  <a:pt x="20317" y="10359"/>
                  <a:pt x="20439" y="10344"/>
                </a:cubicBezTo>
              </a:path>
              <a:path w="968" h="844">
                <a:moveTo>
                  <a:pt x="20861" y="10145"/>
                </a:moveTo>
                <a:cubicBezTo>
                  <a:pt x="20792" y="10205"/>
                  <a:pt x="20771" y="10254"/>
                  <a:pt x="20737" y="10344"/>
                </a:cubicBezTo>
                <a:cubicBezTo>
                  <a:pt x="20845" y="10374"/>
                  <a:pt x="20956" y="10316"/>
                  <a:pt x="21034" y="10220"/>
                </a:cubicBezTo>
                <a:cubicBezTo>
                  <a:pt x="21090" y="10151"/>
                  <a:pt x="20901" y="10216"/>
                  <a:pt x="20886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29160" y="4268880"/>
            <a:ext cx="1687680" cy="588960"/>
          </a:xfrm>
          <a:custGeom>
            <a:avLst/>
            <a:gdLst/>
            <a:ahLst/>
            <a:rect l="l" t="t" r="r" b="b"/>
            <a:pathLst>
              <a:path w="4689" h="1638">
                <a:moveTo>
                  <a:pt x="15801" y="11931"/>
                </a:moveTo>
                <a:cubicBezTo>
                  <a:pt x="15734" y="11931"/>
                  <a:pt x="15930" y="11860"/>
                  <a:pt x="15949" y="11857"/>
                </a:cubicBezTo>
                <a:cubicBezTo>
                  <a:pt x="16046" y="11841"/>
                  <a:pt x="16112" y="11934"/>
                  <a:pt x="16073" y="12030"/>
                </a:cubicBezTo>
                <a:cubicBezTo>
                  <a:pt x="16047" y="12094"/>
                  <a:pt x="15954" y="12114"/>
                  <a:pt x="15900" y="12129"/>
                </a:cubicBezTo>
                <a:cubicBezTo>
                  <a:pt x="16026" y="12109"/>
                  <a:pt x="16078" y="12097"/>
                  <a:pt x="16173" y="12204"/>
                </a:cubicBezTo>
                <a:cubicBezTo>
                  <a:pt x="16181" y="12221"/>
                  <a:pt x="16189" y="12237"/>
                  <a:pt x="16197" y="12254"/>
                </a:cubicBezTo>
                <a:cubicBezTo>
                  <a:pt x="16062" y="12376"/>
                  <a:pt x="15981" y="12413"/>
                  <a:pt x="15801" y="12427"/>
                </a:cubicBezTo>
                <a:cubicBezTo>
                  <a:pt x="15776" y="12427"/>
                  <a:pt x="15768" y="12427"/>
                  <a:pt x="15776" y="12402"/>
                </a:cubicBezTo>
              </a:path>
              <a:path w="4689" h="1638">
                <a:moveTo>
                  <a:pt x="15081" y="12700"/>
                </a:moveTo>
                <a:cubicBezTo>
                  <a:pt x="15224" y="12687"/>
                  <a:pt x="15360" y="12643"/>
                  <a:pt x="15503" y="12626"/>
                </a:cubicBezTo>
                <a:cubicBezTo>
                  <a:pt x="15921" y="12576"/>
                  <a:pt x="16348" y="12533"/>
                  <a:pt x="16768" y="12502"/>
                </a:cubicBezTo>
                <a:cubicBezTo>
                  <a:pt x="16842" y="12502"/>
                  <a:pt x="16851" y="12502"/>
                  <a:pt x="16892" y="12502"/>
                </a:cubicBezTo>
              </a:path>
              <a:path w="4689" h="1638">
                <a:moveTo>
                  <a:pt x="15354" y="12948"/>
                </a:moveTo>
                <a:cubicBezTo>
                  <a:pt x="15421" y="13065"/>
                  <a:pt x="15424" y="13283"/>
                  <a:pt x="15429" y="13444"/>
                </a:cubicBezTo>
                <a:cubicBezTo>
                  <a:pt x="15429" y="13485"/>
                  <a:pt x="15420" y="13502"/>
                  <a:pt x="15453" y="13494"/>
                </a:cubicBezTo>
              </a:path>
              <a:path w="4689" h="1638">
                <a:moveTo>
                  <a:pt x="15875" y="12948"/>
                </a:moveTo>
                <a:cubicBezTo>
                  <a:pt x="15769" y="13018"/>
                  <a:pt x="15678" y="13202"/>
                  <a:pt x="15726" y="13345"/>
                </a:cubicBezTo>
                <a:cubicBezTo>
                  <a:pt x="15751" y="13370"/>
                  <a:pt x="15776" y="13394"/>
                  <a:pt x="15801" y="13419"/>
                </a:cubicBezTo>
                <a:cubicBezTo>
                  <a:pt x="16002" y="13398"/>
                  <a:pt x="16118" y="13342"/>
                  <a:pt x="16073" y="13097"/>
                </a:cubicBezTo>
                <a:cubicBezTo>
                  <a:pt x="16045" y="12947"/>
                  <a:pt x="15916" y="12973"/>
                  <a:pt x="15801" y="12973"/>
                </a:cubicBezTo>
              </a:path>
              <a:path w="4689" h="1638">
                <a:moveTo>
                  <a:pt x="16446" y="12824"/>
                </a:moveTo>
                <a:cubicBezTo>
                  <a:pt x="16358" y="12926"/>
                  <a:pt x="16232" y="13074"/>
                  <a:pt x="16247" y="13221"/>
                </a:cubicBezTo>
                <a:cubicBezTo>
                  <a:pt x="16294" y="13314"/>
                  <a:pt x="16304" y="13343"/>
                  <a:pt x="16371" y="13370"/>
                </a:cubicBezTo>
                <a:cubicBezTo>
                  <a:pt x="16559" y="13287"/>
                  <a:pt x="16698" y="13179"/>
                  <a:pt x="16644" y="12948"/>
                </a:cubicBezTo>
                <a:cubicBezTo>
                  <a:pt x="16615" y="12824"/>
                  <a:pt x="16476" y="12875"/>
                  <a:pt x="16396" y="12898"/>
                </a:cubicBezTo>
              </a:path>
              <a:path w="4689" h="1638">
                <a:moveTo>
                  <a:pt x="17413" y="12378"/>
                </a:moveTo>
                <a:cubicBezTo>
                  <a:pt x="17521" y="12389"/>
                  <a:pt x="17603" y="12388"/>
                  <a:pt x="17711" y="12378"/>
                </a:cubicBezTo>
              </a:path>
              <a:path w="4689" h="1638">
                <a:moveTo>
                  <a:pt x="17413" y="12601"/>
                </a:moveTo>
                <a:cubicBezTo>
                  <a:pt x="17536" y="12595"/>
                  <a:pt x="17642" y="12571"/>
                  <a:pt x="17760" y="12551"/>
                </a:cubicBezTo>
              </a:path>
              <a:path w="4689" h="1638">
                <a:moveTo>
                  <a:pt x="18405" y="12254"/>
                </a:moveTo>
                <a:cubicBezTo>
                  <a:pt x="18508" y="12168"/>
                  <a:pt x="18568" y="12123"/>
                  <a:pt x="18703" y="12154"/>
                </a:cubicBezTo>
                <a:cubicBezTo>
                  <a:pt x="18914" y="12203"/>
                  <a:pt x="18604" y="12405"/>
                  <a:pt x="18554" y="12427"/>
                </a:cubicBezTo>
                <a:cubicBezTo>
                  <a:pt x="18546" y="12427"/>
                  <a:pt x="18537" y="12427"/>
                  <a:pt x="18529" y="12427"/>
                </a:cubicBezTo>
                <a:cubicBezTo>
                  <a:pt x="18630" y="12427"/>
                  <a:pt x="18770" y="12424"/>
                  <a:pt x="18752" y="12576"/>
                </a:cubicBezTo>
                <a:cubicBezTo>
                  <a:pt x="18730" y="12768"/>
                  <a:pt x="18454" y="12813"/>
                  <a:pt x="18306" y="12799"/>
                </a:cubicBezTo>
                <a:cubicBezTo>
                  <a:pt x="18289" y="12791"/>
                  <a:pt x="18273" y="12782"/>
                  <a:pt x="18256" y="12774"/>
                </a:cubicBezTo>
              </a:path>
              <a:path w="4689" h="1638">
                <a:moveTo>
                  <a:pt x="19149" y="12055"/>
                </a:moveTo>
                <a:cubicBezTo>
                  <a:pt x="19030" y="12120"/>
                  <a:pt x="18997" y="12165"/>
                  <a:pt x="19025" y="12303"/>
                </a:cubicBezTo>
                <a:cubicBezTo>
                  <a:pt x="19088" y="12287"/>
                  <a:pt x="19408" y="12217"/>
                  <a:pt x="19248" y="12080"/>
                </a:cubicBezTo>
                <a:cubicBezTo>
                  <a:pt x="19196" y="12035"/>
                  <a:pt x="19020" y="12014"/>
                  <a:pt x="19075" y="12055"/>
                </a:cubicBezTo>
                <a:cubicBezTo>
                  <a:pt x="19083" y="12055"/>
                  <a:pt x="19092" y="12055"/>
                  <a:pt x="19100" y="12055"/>
                </a:cubicBezTo>
                <a:cubicBezTo>
                  <a:pt x="19250" y="12055"/>
                  <a:pt x="19376" y="12044"/>
                  <a:pt x="19521" y="12005"/>
                </a:cubicBezTo>
                <a:cubicBezTo>
                  <a:pt x="19458" y="12197"/>
                  <a:pt x="19336" y="12368"/>
                  <a:pt x="19248" y="12551"/>
                </a:cubicBezTo>
                <a:cubicBezTo>
                  <a:pt x="19208" y="12651"/>
                  <a:pt x="19204" y="12669"/>
                  <a:pt x="19174" y="12725"/>
                </a:cubicBezTo>
              </a:path>
              <a:path w="4689" h="1638">
                <a:moveTo>
                  <a:pt x="19670" y="12378"/>
                </a:moveTo>
                <a:cubicBezTo>
                  <a:pt x="19558" y="12480"/>
                  <a:pt x="19491" y="12548"/>
                  <a:pt x="19521" y="12700"/>
                </a:cubicBezTo>
                <a:cubicBezTo>
                  <a:pt x="19582" y="12686"/>
                  <a:pt x="19882" y="12570"/>
                  <a:pt x="19745" y="12452"/>
                </a:cubicBezTo>
                <a:cubicBezTo>
                  <a:pt x="19670" y="12452"/>
                  <a:pt x="19646" y="12452"/>
                  <a:pt x="19596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73920" y="5510160"/>
            <a:ext cx="135000" cy="17640"/>
          </a:xfrm>
          <a:custGeom>
            <a:avLst/>
            <a:gdLst/>
            <a:ahLst/>
            <a:rect l="l" t="t" r="r" b="b"/>
            <a:pathLst>
              <a:path w="374" h="51">
                <a:moveTo>
                  <a:pt x="19372" y="15354"/>
                </a:moveTo>
                <a:cubicBezTo>
                  <a:pt x="19499" y="15328"/>
                  <a:pt x="19629" y="15279"/>
                  <a:pt x="19745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0320" y="5268960"/>
            <a:ext cx="1063800" cy="642960"/>
          </a:xfrm>
          <a:custGeom>
            <a:avLst/>
            <a:gdLst/>
            <a:ahLst/>
            <a:rect l="l" t="t" r="r" b="b"/>
            <a:pathLst>
              <a:path w="2953" h="1787">
                <a:moveTo>
                  <a:pt x="14784" y="14908"/>
                </a:moveTo>
                <a:cubicBezTo>
                  <a:pt x="14784" y="14847"/>
                  <a:pt x="14762" y="15025"/>
                  <a:pt x="14759" y="15032"/>
                </a:cubicBezTo>
                <a:cubicBezTo>
                  <a:pt x="14721" y="15088"/>
                  <a:pt x="14726" y="15113"/>
                  <a:pt x="14684" y="15106"/>
                </a:cubicBezTo>
                <a:cubicBezTo>
                  <a:pt x="14769" y="15157"/>
                  <a:pt x="14903" y="15109"/>
                  <a:pt x="15007" y="15106"/>
                </a:cubicBezTo>
                <a:cubicBezTo>
                  <a:pt x="15032" y="15106"/>
                  <a:pt x="15056" y="15106"/>
                  <a:pt x="15081" y="15106"/>
                </a:cubicBezTo>
              </a:path>
              <a:path w="2953" h="1787">
                <a:moveTo>
                  <a:pt x="15106" y="14635"/>
                </a:moveTo>
                <a:cubicBezTo>
                  <a:pt x="15106" y="14788"/>
                  <a:pt x="15111" y="14925"/>
                  <a:pt x="15106" y="15081"/>
                </a:cubicBezTo>
                <a:cubicBezTo>
                  <a:pt x="15102" y="15203"/>
                  <a:pt x="15097" y="15267"/>
                  <a:pt x="15081" y="15379"/>
                </a:cubicBezTo>
              </a:path>
              <a:path w="2953" h="1787">
                <a:moveTo>
                  <a:pt x="14362" y="15652"/>
                </a:moveTo>
                <a:cubicBezTo>
                  <a:pt x="14560" y="15627"/>
                  <a:pt x="14757" y="15587"/>
                  <a:pt x="14957" y="15577"/>
                </a:cubicBezTo>
                <a:cubicBezTo>
                  <a:pt x="15080" y="15571"/>
                  <a:pt x="15206" y="15577"/>
                  <a:pt x="15329" y="15577"/>
                </a:cubicBezTo>
              </a:path>
              <a:path w="2953" h="1787">
                <a:moveTo>
                  <a:pt x="15106" y="15825"/>
                </a:moveTo>
                <a:cubicBezTo>
                  <a:pt x="15006" y="15839"/>
                  <a:pt x="14908" y="15860"/>
                  <a:pt x="14808" y="15875"/>
                </a:cubicBezTo>
                <a:cubicBezTo>
                  <a:pt x="14800" y="15875"/>
                  <a:pt x="14792" y="15875"/>
                  <a:pt x="14784" y="15875"/>
                </a:cubicBezTo>
                <a:cubicBezTo>
                  <a:pt x="14784" y="15941"/>
                  <a:pt x="14784" y="16007"/>
                  <a:pt x="14784" y="16073"/>
                </a:cubicBezTo>
                <a:cubicBezTo>
                  <a:pt x="14845" y="16073"/>
                  <a:pt x="14864" y="16052"/>
                  <a:pt x="14932" y="16049"/>
                </a:cubicBezTo>
                <a:cubicBezTo>
                  <a:pt x="15029" y="16045"/>
                  <a:pt x="15079" y="16076"/>
                  <a:pt x="15156" y="16123"/>
                </a:cubicBezTo>
                <a:cubicBezTo>
                  <a:pt x="15232" y="16169"/>
                  <a:pt x="15254" y="16217"/>
                  <a:pt x="15205" y="16297"/>
                </a:cubicBezTo>
                <a:cubicBezTo>
                  <a:pt x="15139" y="16405"/>
                  <a:pt x="15037" y="16438"/>
                  <a:pt x="14908" y="16421"/>
                </a:cubicBezTo>
                <a:cubicBezTo>
                  <a:pt x="14850" y="16413"/>
                  <a:pt x="14788" y="16391"/>
                  <a:pt x="14734" y="16371"/>
                </a:cubicBezTo>
              </a:path>
              <a:path w="2953" h="1787">
                <a:moveTo>
                  <a:pt x="15553" y="15453"/>
                </a:moveTo>
                <a:cubicBezTo>
                  <a:pt x="15580" y="15372"/>
                  <a:pt x="15697" y="15525"/>
                  <a:pt x="15726" y="15553"/>
                </a:cubicBezTo>
                <a:cubicBezTo>
                  <a:pt x="15779" y="15604"/>
                  <a:pt x="15812" y="15612"/>
                  <a:pt x="15825" y="15652"/>
                </a:cubicBezTo>
              </a:path>
              <a:path w="2953" h="1787">
                <a:moveTo>
                  <a:pt x="15825" y="15453"/>
                </a:moveTo>
                <a:cubicBezTo>
                  <a:pt x="15809" y="15536"/>
                  <a:pt x="15733" y="15587"/>
                  <a:pt x="15677" y="15652"/>
                </a:cubicBezTo>
                <a:cubicBezTo>
                  <a:pt x="15642" y="15692"/>
                  <a:pt x="15641" y="15661"/>
                  <a:pt x="15627" y="15701"/>
                </a:cubicBezTo>
              </a:path>
              <a:path w="2953" h="1787">
                <a:moveTo>
                  <a:pt x="16321" y="15577"/>
                </a:moveTo>
                <a:cubicBezTo>
                  <a:pt x="16375" y="15577"/>
                  <a:pt x="16385" y="15584"/>
                  <a:pt x="16446" y="15602"/>
                </a:cubicBezTo>
                <a:cubicBezTo>
                  <a:pt x="16463" y="15840"/>
                  <a:pt x="16219" y="15774"/>
                  <a:pt x="16173" y="15925"/>
                </a:cubicBezTo>
                <a:cubicBezTo>
                  <a:pt x="16172" y="15928"/>
                  <a:pt x="16416" y="15907"/>
                  <a:pt x="16446" y="15900"/>
                </a:cubicBezTo>
              </a:path>
              <a:path w="2953" h="1787">
                <a:moveTo>
                  <a:pt x="16570" y="15602"/>
                </a:moveTo>
                <a:cubicBezTo>
                  <a:pt x="16478" y="15657"/>
                  <a:pt x="16474" y="15747"/>
                  <a:pt x="16520" y="15850"/>
                </a:cubicBezTo>
                <a:cubicBezTo>
                  <a:pt x="16577" y="15977"/>
                  <a:pt x="16718" y="15790"/>
                  <a:pt x="16743" y="15751"/>
                </a:cubicBezTo>
                <a:cubicBezTo>
                  <a:pt x="16694" y="15661"/>
                  <a:pt x="16695" y="15650"/>
                  <a:pt x="16594" y="15627"/>
                </a:cubicBezTo>
              </a:path>
              <a:path w="2953" h="1787">
                <a:moveTo>
                  <a:pt x="16197" y="15379"/>
                </a:moveTo>
                <a:cubicBezTo>
                  <a:pt x="16329" y="15360"/>
                  <a:pt x="16461" y="15325"/>
                  <a:pt x="16594" y="15304"/>
                </a:cubicBezTo>
                <a:cubicBezTo>
                  <a:pt x="16619" y="15304"/>
                  <a:pt x="16627" y="15304"/>
                  <a:pt x="16644" y="15304"/>
                </a:cubicBezTo>
              </a:path>
              <a:path w="2953" h="1787">
                <a:moveTo>
                  <a:pt x="16148" y="15007"/>
                </a:moveTo>
                <a:cubicBezTo>
                  <a:pt x="16201" y="14933"/>
                  <a:pt x="16186" y="14935"/>
                  <a:pt x="16272" y="14957"/>
                </a:cubicBezTo>
                <a:cubicBezTo>
                  <a:pt x="16254" y="15080"/>
                  <a:pt x="16203" y="15108"/>
                  <a:pt x="16148" y="15205"/>
                </a:cubicBezTo>
                <a:cubicBezTo>
                  <a:pt x="16148" y="15213"/>
                  <a:pt x="16148" y="15222"/>
                  <a:pt x="16148" y="15230"/>
                </a:cubicBezTo>
                <a:cubicBezTo>
                  <a:pt x="16230" y="15205"/>
                  <a:pt x="16314" y="15172"/>
                  <a:pt x="16396" y="15156"/>
                </a:cubicBezTo>
              </a:path>
              <a:path w="2953" h="1787">
                <a:moveTo>
                  <a:pt x="16520" y="14833"/>
                </a:moveTo>
                <a:cubicBezTo>
                  <a:pt x="16426" y="14890"/>
                  <a:pt x="16405" y="15016"/>
                  <a:pt x="16421" y="15131"/>
                </a:cubicBezTo>
                <a:cubicBezTo>
                  <a:pt x="16429" y="15147"/>
                  <a:pt x="16438" y="15164"/>
                  <a:pt x="16446" y="15180"/>
                </a:cubicBezTo>
                <a:cubicBezTo>
                  <a:pt x="16608" y="15164"/>
                  <a:pt x="16711" y="15100"/>
                  <a:pt x="16669" y="14908"/>
                </a:cubicBezTo>
                <a:cubicBezTo>
                  <a:pt x="16653" y="14836"/>
                  <a:pt x="16546" y="14839"/>
                  <a:pt x="16495" y="14833"/>
                </a:cubicBezTo>
              </a:path>
              <a:path w="2953" h="1787">
                <a:moveTo>
                  <a:pt x="17066" y="15379"/>
                </a:moveTo>
                <a:cubicBezTo>
                  <a:pt x="17152" y="15366"/>
                  <a:pt x="17226" y="15354"/>
                  <a:pt x="17314" y="15354"/>
                </a:cubicBezTo>
              </a:path>
              <a:path w="2953" h="1787">
                <a:moveTo>
                  <a:pt x="17041" y="15553"/>
                </a:moveTo>
                <a:cubicBezTo>
                  <a:pt x="17115" y="15553"/>
                  <a:pt x="17190" y="15553"/>
                  <a:pt x="17264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19880" y="5330880"/>
            <a:ext cx="689040" cy="482400"/>
          </a:xfrm>
          <a:custGeom>
            <a:avLst/>
            <a:gdLst/>
            <a:ahLst/>
            <a:rect l="l" t="t" r="r" b="b"/>
            <a:pathLst>
              <a:path w="1911" h="1341">
                <a:moveTo>
                  <a:pt x="17835" y="15528"/>
                </a:moveTo>
                <a:cubicBezTo>
                  <a:pt x="17941" y="15463"/>
                  <a:pt x="18239" y="15487"/>
                  <a:pt x="18355" y="15478"/>
                </a:cubicBezTo>
                <a:cubicBezTo>
                  <a:pt x="18555" y="15462"/>
                  <a:pt x="18876" y="15377"/>
                  <a:pt x="19075" y="15404"/>
                </a:cubicBezTo>
                <a:cubicBezTo>
                  <a:pt x="19075" y="15412"/>
                  <a:pt x="19075" y="15421"/>
                  <a:pt x="19075" y="15429"/>
                </a:cubicBezTo>
              </a:path>
              <a:path w="1911" h="1341">
                <a:moveTo>
                  <a:pt x="18083" y="15751"/>
                </a:moveTo>
                <a:cubicBezTo>
                  <a:pt x="18112" y="15856"/>
                  <a:pt x="18067" y="16022"/>
                  <a:pt x="18058" y="16148"/>
                </a:cubicBezTo>
                <a:cubicBezTo>
                  <a:pt x="18058" y="16140"/>
                  <a:pt x="18058" y="16131"/>
                  <a:pt x="18058" y="16123"/>
                </a:cubicBezTo>
              </a:path>
              <a:path w="1911" h="1341">
                <a:moveTo>
                  <a:pt x="18430" y="15751"/>
                </a:moveTo>
                <a:cubicBezTo>
                  <a:pt x="18351" y="15870"/>
                  <a:pt x="18319" y="15958"/>
                  <a:pt x="18306" y="16098"/>
                </a:cubicBezTo>
                <a:cubicBezTo>
                  <a:pt x="18439" y="16082"/>
                  <a:pt x="18632" y="16043"/>
                  <a:pt x="18604" y="15850"/>
                </a:cubicBezTo>
                <a:cubicBezTo>
                  <a:pt x="18593" y="15771"/>
                  <a:pt x="18488" y="15790"/>
                  <a:pt x="18455" y="15801"/>
                </a:cubicBezTo>
              </a:path>
              <a:path w="1911" h="1341">
                <a:moveTo>
                  <a:pt x="18827" y="15701"/>
                </a:moveTo>
                <a:cubicBezTo>
                  <a:pt x="18743" y="15827"/>
                  <a:pt x="18696" y="15922"/>
                  <a:pt x="18752" y="16073"/>
                </a:cubicBezTo>
                <a:cubicBezTo>
                  <a:pt x="18880" y="16057"/>
                  <a:pt x="19107" y="16001"/>
                  <a:pt x="19025" y="15801"/>
                </a:cubicBezTo>
                <a:cubicBezTo>
                  <a:pt x="18947" y="15749"/>
                  <a:pt x="18919" y="15733"/>
                  <a:pt x="18852" y="15776"/>
                </a:cubicBezTo>
              </a:path>
              <a:path w="1911" h="1341">
                <a:moveTo>
                  <a:pt x="18331" y="14908"/>
                </a:moveTo>
                <a:cubicBezTo>
                  <a:pt x="18393" y="14822"/>
                  <a:pt x="18295" y="14823"/>
                  <a:pt x="18207" y="14833"/>
                </a:cubicBezTo>
                <a:cubicBezTo>
                  <a:pt x="18106" y="14858"/>
                  <a:pt x="18073" y="14867"/>
                  <a:pt x="18033" y="14932"/>
                </a:cubicBezTo>
                <a:cubicBezTo>
                  <a:pt x="18102" y="15036"/>
                  <a:pt x="18240" y="15065"/>
                  <a:pt x="18331" y="15156"/>
                </a:cubicBezTo>
                <a:cubicBezTo>
                  <a:pt x="18339" y="15172"/>
                  <a:pt x="18347" y="15189"/>
                  <a:pt x="18355" y="15205"/>
                </a:cubicBezTo>
                <a:cubicBezTo>
                  <a:pt x="18279" y="15259"/>
                  <a:pt x="18109" y="15351"/>
                  <a:pt x="18157" y="15156"/>
                </a:cubicBezTo>
                <a:cubicBezTo>
                  <a:pt x="18178" y="15068"/>
                  <a:pt x="18321" y="14937"/>
                  <a:pt x="18306" y="14908"/>
                </a:cubicBezTo>
              </a:path>
              <a:path w="1911" h="1341">
                <a:moveTo>
                  <a:pt x="18703" y="14808"/>
                </a:moveTo>
                <a:cubicBezTo>
                  <a:pt x="18614" y="14808"/>
                  <a:pt x="18571" y="14826"/>
                  <a:pt x="18529" y="14932"/>
                </a:cubicBezTo>
                <a:cubicBezTo>
                  <a:pt x="18478" y="15060"/>
                  <a:pt x="18520" y="15253"/>
                  <a:pt x="18703" y="15180"/>
                </a:cubicBezTo>
                <a:cubicBezTo>
                  <a:pt x="18856" y="15119"/>
                  <a:pt x="18897" y="14940"/>
                  <a:pt x="18777" y="14833"/>
                </a:cubicBezTo>
                <a:cubicBezTo>
                  <a:pt x="18729" y="14790"/>
                  <a:pt x="18715" y="14805"/>
                  <a:pt x="18678" y="14833"/>
                </a:cubicBezTo>
              </a:path>
              <a:path w="1911" h="1341">
                <a:moveTo>
                  <a:pt x="19397" y="15528"/>
                </a:moveTo>
                <a:cubicBezTo>
                  <a:pt x="19511" y="15541"/>
                  <a:pt x="19604" y="15528"/>
                  <a:pt x="19720" y="15528"/>
                </a:cubicBezTo>
                <a:cubicBezTo>
                  <a:pt x="19728" y="15528"/>
                  <a:pt x="19737" y="15528"/>
                  <a:pt x="19745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04040" y="5340240"/>
            <a:ext cx="642960" cy="339840"/>
          </a:xfrm>
          <a:custGeom>
            <a:avLst/>
            <a:gdLst/>
            <a:ahLst/>
            <a:rect l="l" t="t" r="r" b="b"/>
            <a:pathLst>
              <a:path w="1787" h="944">
                <a:moveTo>
                  <a:pt x="20638" y="15131"/>
                </a:moveTo>
                <a:cubicBezTo>
                  <a:pt x="20688" y="15052"/>
                  <a:pt x="20457" y="15087"/>
                  <a:pt x="20414" y="15106"/>
                </a:cubicBezTo>
                <a:cubicBezTo>
                  <a:pt x="20170" y="15212"/>
                  <a:pt x="20355" y="15389"/>
                  <a:pt x="20464" y="15503"/>
                </a:cubicBezTo>
                <a:cubicBezTo>
                  <a:pt x="20602" y="15649"/>
                  <a:pt x="20576" y="15739"/>
                  <a:pt x="20389" y="15726"/>
                </a:cubicBezTo>
                <a:cubicBezTo>
                  <a:pt x="20390" y="15552"/>
                  <a:pt x="20489" y="15444"/>
                  <a:pt x="20563" y="15280"/>
                </a:cubicBezTo>
                <a:cubicBezTo>
                  <a:pt x="20563" y="15272"/>
                  <a:pt x="20563" y="15263"/>
                  <a:pt x="20563" y="15255"/>
                </a:cubicBezTo>
              </a:path>
              <a:path w="1787" h="944">
                <a:moveTo>
                  <a:pt x="20910" y="15106"/>
                </a:moveTo>
                <a:cubicBezTo>
                  <a:pt x="20837" y="15243"/>
                  <a:pt x="20690" y="15494"/>
                  <a:pt x="20786" y="15652"/>
                </a:cubicBezTo>
                <a:cubicBezTo>
                  <a:pt x="20819" y="15668"/>
                  <a:pt x="20853" y="15685"/>
                  <a:pt x="20886" y="15701"/>
                </a:cubicBezTo>
                <a:cubicBezTo>
                  <a:pt x="21067" y="15584"/>
                  <a:pt x="21237" y="15455"/>
                  <a:pt x="21059" y="15230"/>
                </a:cubicBezTo>
                <a:cubicBezTo>
                  <a:pt x="20985" y="15205"/>
                  <a:pt x="20960" y="15196"/>
                  <a:pt x="20910" y="15180"/>
                </a:cubicBezTo>
              </a:path>
              <a:path w="1787" h="944">
                <a:moveTo>
                  <a:pt x="21481" y="14908"/>
                </a:moveTo>
                <a:cubicBezTo>
                  <a:pt x="21352" y="14951"/>
                  <a:pt x="21293" y="15014"/>
                  <a:pt x="21307" y="15156"/>
                </a:cubicBezTo>
                <a:cubicBezTo>
                  <a:pt x="21449" y="15134"/>
                  <a:pt x="21547" y="15100"/>
                  <a:pt x="21481" y="14932"/>
                </a:cubicBezTo>
                <a:cubicBezTo>
                  <a:pt x="21458" y="14910"/>
                  <a:pt x="21450" y="14905"/>
                  <a:pt x="21456" y="14883"/>
                </a:cubicBezTo>
                <a:cubicBezTo>
                  <a:pt x="21670" y="14783"/>
                  <a:pt x="21769" y="14884"/>
                  <a:pt x="21779" y="15131"/>
                </a:cubicBezTo>
                <a:cubicBezTo>
                  <a:pt x="21788" y="15354"/>
                  <a:pt x="21690" y="15591"/>
                  <a:pt x="21580" y="15776"/>
                </a:cubicBezTo>
              </a:path>
              <a:path w="1787" h="944">
                <a:moveTo>
                  <a:pt x="21952" y="15553"/>
                </a:moveTo>
                <a:cubicBezTo>
                  <a:pt x="21914" y="15619"/>
                  <a:pt x="21891" y="15651"/>
                  <a:pt x="21878" y="15726"/>
                </a:cubicBezTo>
                <a:cubicBezTo>
                  <a:pt x="21909" y="15719"/>
                  <a:pt x="22185" y="15589"/>
                  <a:pt x="22051" y="15553"/>
                </a:cubicBezTo>
                <a:cubicBezTo>
                  <a:pt x="22018" y="15553"/>
                  <a:pt x="21985" y="15553"/>
                  <a:pt x="21952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70000" y="5473800"/>
            <a:ext cx="214200" cy="527040"/>
          </a:xfrm>
          <a:custGeom>
            <a:avLst/>
            <a:gdLst/>
            <a:ahLst/>
            <a:rect l="l" t="t" r="r" b="b"/>
            <a:pathLst>
              <a:path w="597" h="1465">
                <a:moveTo>
                  <a:pt x="3324" y="15304"/>
                </a:moveTo>
                <a:cubicBezTo>
                  <a:pt x="3397" y="15328"/>
                  <a:pt x="3337" y="15303"/>
                  <a:pt x="3473" y="15230"/>
                </a:cubicBezTo>
                <a:cubicBezTo>
                  <a:pt x="3584" y="15170"/>
                  <a:pt x="3661" y="15267"/>
                  <a:pt x="3646" y="15379"/>
                </a:cubicBezTo>
                <a:cubicBezTo>
                  <a:pt x="3621" y="15429"/>
                  <a:pt x="3613" y="15445"/>
                  <a:pt x="3572" y="15453"/>
                </a:cubicBezTo>
                <a:cubicBezTo>
                  <a:pt x="3708" y="15453"/>
                  <a:pt x="3747" y="15477"/>
                  <a:pt x="3820" y="15577"/>
                </a:cubicBezTo>
                <a:cubicBezTo>
                  <a:pt x="3637" y="15760"/>
                  <a:pt x="3536" y="15791"/>
                  <a:pt x="3274" y="15801"/>
                </a:cubicBezTo>
                <a:cubicBezTo>
                  <a:pt x="3205" y="15804"/>
                  <a:pt x="3374" y="15798"/>
                  <a:pt x="3398" y="15801"/>
                </a:cubicBezTo>
              </a:path>
              <a:path w="597" h="1465">
                <a:moveTo>
                  <a:pt x="3845" y="16049"/>
                </a:moveTo>
                <a:cubicBezTo>
                  <a:pt x="3666" y="16066"/>
                  <a:pt x="3562" y="16076"/>
                  <a:pt x="3448" y="16222"/>
                </a:cubicBezTo>
                <a:cubicBezTo>
                  <a:pt x="3525" y="16300"/>
                  <a:pt x="3834" y="16425"/>
                  <a:pt x="3795" y="16570"/>
                </a:cubicBezTo>
                <a:cubicBezTo>
                  <a:pt x="3721" y="16619"/>
                  <a:pt x="3696" y="16636"/>
                  <a:pt x="3646" y="16669"/>
                </a:cubicBezTo>
                <a:cubicBezTo>
                  <a:pt x="3487" y="16580"/>
                  <a:pt x="3623" y="16460"/>
                  <a:pt x="3696" y="16321"/>
                </a:cubicBezTo>
                <a:cubicBezTo>
                  <a:pt x="3751" y="16212"/>
                  <a:pt x="3745" y="16193"/>
                  <a:pt x="3795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1720" y="5749920"/>
            <a:ext cx="455400" cy="28440"/>
          </a:xfrm>
          <a:custGeom>
            <a:avLst/>
            <a:gdLst/>
            <a:ahLst/>
            <a:rect l="l" t="t" r="r" b="b"/>
            <a:pathLst>
              <a:path w="1266" h="76">
                <a:moveTo>
                  <a:pt x="2977" y="16049"/>
                </a:moveTo>
                <a:cubicBezTo>
                  <a:pt x="3371" y="16032"/>
                  <a:pt x="3772" y="15947"/>
                  <a:pt x="4167" y="15974"/>
                </a:cubicBezTo>
                <a:cubicBezTo>
                  <a:pt x="4192" y="15982"/>
                  <a:pt x="4217" y="15991"/>
                  <a:pt x="4242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44920" y="2384280"/>
            <a:ext cx="1955880" cy="115920"/>
          </a:xfrm>
          <a:custGeom>
            <a:avLst/>
            <a:gdLst/>
            <a:ahLst/>
            <a:rect l="l" t="t" r="r" b="b"/>
            <a:pathLst>
              <a:path w="5434" h="323">
                <a:moveTo>
                  <a:pt x="10170" y="6896"/>
                </a:moveTo>
                <a:cubicBezTo>
                  <a:pt x="10264" y="6900"/>
                  <a:pt x="10351" y="6915"/>
                  <a:pt x="10443" y="6921"/>
                </a:cubicBezTo>
                <a:cubicBezTo>
                  <a:pt x="10550" y="6927"/>
                  <a:pt x="10664" y="6938"/>
                  <a:pt x="10765" y="6945"/>
                </a:cubicBezTo>
                <a:cubicBezTo>
                  <a:pt x="10869" y="6953"/>
                  <a:pt x="10962" y="6928"/>
                  <a:pt x="11063" y="6921"/>
                </a:cubicBezTo>
                <a:cubicBezTo>
                  <a:pt x="11408" y="6897"/>
                  <a:pt x="11761" y="6913"/>
                  <a:pt x="12105" y="6896"/>
                </a:cubicBezTo>
                <a:cubicBezTo>
                  <a:pt x="12609" y="6871"/>
                  <a:pt x="13115" y="6897"/>
                  <a:pt x="13618" y="6871"/>
                </a:cubicBezTo>
                <a:cubicBezTo>
                  <a:pt x="13833" y="6860"/>
                  <a:pt x="14049" y="6857"/>
                  <a:pt x="14263" y="6846"/>
                </a:cubicBezTo>
                <a:cubicBezTo>
                  <a:pt x="14421" y="6838"/>
                  <a:pt x="14575" y="6824"/>
                  <a:pt x="14734" y="6821"/>
                </a:cubicBezTo>
                <a:cubicBezTo>
                  <a:pt x="14853" y="6819"/>
                  <a:pt x="14964" y="6808"/>
                  <a:pt x="15081" y="6796"/>
                </a:cubicBezTo>
                <a:cubicBezTo>
                  <a:pt x="15089" y="6796"/>
                  <a:pt x="15098" y="6796"/>
                  <a:pt x="15106" y="6796"/>
                </a:cubicBezTo>
                <a:cubicBezTo>
                  <a:pt x="15039" y="6806"/>
                  <a:pt x="14976" y="6816"/>
                  <a:pt x="14908" y="6821"/>
                </a:cubicBezTo>
                <a:cubicBezTo>
                  <a:pt x="14708" y="6834"/>
                  <a:pt x="14509" y="6811"/>
                  <a:pt x="14312" y="6796"/>
                </a:cubicBezTo>
                <a:cubicBezTo>
                  <a:pt x="14115" y="6781"/>
                  <a:pt x="13912" y="6786"/>
                  <a:pt x="13717" y="6772"/>
                </a:cubicBezTo>
                <a:cubicBezTo>
                  <a:pt x="13622" y="6765"/>
                  <a:pt x="13537" y="6762"/>
                  <a:pt x="13444" y="6747"/>
                </a:cubicBezTo>
                <a:cubicBezTo>
                  <a:pt x="13192" y="6706"/>
                  <a:pt x="12957" y="6638"/>
                  <a:pt x="12700" y="6623"/>
                </a:cubicBezTo>
                <a:cubicBezTo>
                  <a:pt x="12299" y="6599"/>
                  <a:pt x="11856" y="6590"/>
                  <a:pt x="11460" y="6648"/>
                </a:cubicBezTo>
                <a:cubicBezTo>
                  <a:pt x="11318" y="6669"/>
                  <a:pt x="11176" y="6693"/>
                  <a:pt x="11038" y="6722"/>
                </a:cubicBezTo>
                <a:cubicBezTo>
                  <a:pt x="10948" y="6741"/>
                  <a:pt x="10859" y="6752"/>
                  <a:pt x="10765" y="6772"/>
                </a:cubicBezTo>
                <a:cubicBezTo>
                  <a:pt x="10585" y="6810"/>
                  <a:pt x="10402" y="6835"/>
                  <a:pt x="10220" y="6846"/>
                </a:cubicBezTo>
                <a:cubicBezTo>
                  <a:pt x="10093" y="6853"/>
                  <a:pt x="9973" y="6864"/>
                  <a:pt x="9847" y="6871"/>
                </a:cubicBezTo>
                <a:cubicBezTo>
                  <a:pt x="9871" y="6876"/>
                  <a:pt x="10037" y="6917"/>
                  <a:pt x="10096" y="6921"/>
                </a:cubicBezTo>
                <a:cubicBezTo>
                  <a:pt x="10552" y="6952"/>
                  <a:pt x="11033" y="6928"/>
                  <a:pt x="11485" y="6896"/>
                </a:cubicBezTo>
                <a:cubicBezTo>
                  <a:pt x="11599" y="6888"/>
                  <a:pt x="11721" y="6878"/>
                  <a:pt x="11832" y="6871"/>
                </a:cubicBezTo>
                <a:cubicBezTo>
                  <a:pt x="11928" y="6865"/>
                  <a:pt x="12012" y="6851"/>
                  <a:pt x="12105" y="6846"/>
                </a:cubicBezTo>
                <a:cubicBezTo>
                  <a:pt x="12431" y="6828"/>
                  <a:pt x="12801" y="6806"/>
                  <a:pt x="13122" y="6821"/>
                </a:cubicBezTo>
                <a:cubicBezTo>
                  <a:pt x="13248" y="6827"/>
                  <a:pt x="13365" y="6857"/>
                  <a:pt x="13494" y="6846"/>
                </a:cubicBezTo>
                <a:cubicBezTo>
                  <a:pt x="13619" y="6836"/>
                  <a:pt x="13737" y="6821"/>
                  <a:pt x="13866" y="6821"/>
                </a:cubicBezTo>
                <a:cubicBezTo>
                  <a:pt x="14042" y="6821"/>
                  <a:pt x="14217" y="6805"/>
                  <a:pt x="14387" y="6796"/>
                </a:cubicBezTo>
                <a:cubicBezTo>
                  <a:pt x="14658" y="6782"/>
                  <a:pt x="14943" y="6796"/>
                  <a:pt x="15205" y="6821"/>
                </a:cubicBezTo>
                <a:cubicBezTo>
                  <a:pt x="15247" y="6821"/>
                  <a:pt x="15255" y="6821"/>
                  <a:pt x="15280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60020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decimals to percents you multiply a decimal by 100 to find the parts of 100 ….  Shortcut …. Move the decimal 2 spaces to the right and add a % sy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2 = 8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1760" y="4464000"/>
            <a:ext cx="81000" cy="171360"/>
          </a:xfrm>
          <a:custGeom>
            <a:avLst/>
            <a:gdLst/>
            <a:ahLst/>
            <a:rect l="l" t="t" r="r" b="b"/>
            <a:pathLst>
              <a:path w="224" h="473">
                <a:moveTo>
                  <a:pt x="1116" y="12477"/>
                </a:moveTo>
                <a:cubicBezTo>
                  <a:pt x="1161" y="12588"/>
                  <a:pt x="1287" y="12678"/>
                  <a:pt x="1339" y="12799"/>
                </a:cubicBezTo>
                <a:cubicBezTo>
                  <a:pt x="1378" y="12889"/>
                  <a:pt x="1259" y="12738"/>
                  <a:pt x="1215" y="12650"/>
                </a:cubicBezTo>
              </a:path>
              <a:path w="224" h="473">
                <a:moveTo>
                  <a:pt x="1265" y="12402"/>
                </a:moveTo>
                <a:cubicBezTo>
                  <a:pt x="1265" y="12572"/>
                  <a:pt x="1238" y="12712"/>
                  <a:pt x="1215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960" y="457200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2108" y="12700"/>
                </a:moveTo>
                <a:cubicBezTo>
                  <a:pt x="2062" y="12747"/>
                  <a:pt x="1904" y="12918"/>
                  <a:pt x="2108" y="12824"/>
                </a:cubicBezTo>
                <a:cubicBezTo>
                  <a:pt x="2108" y="12816"/>
                  <a:pt x="2108" y="12807"/>
                  <a:pt x="2108" y="12799"/>
                </a:cubicBezTo>
                <a:cubicBezTo>
                  <a:pt x="2058" y="12807"/>
                  <a:pt x="1958" y="12847"/>
                  <a:pt x="2133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880" y="4429080"/>
            <a:ext cx="339480" cy="196920"/>
          </a:xfrm>
          <a:custGeom>
            <a:avLst/>
            <a:gdLst/>
            <a:ahLst/>
            <a:rect l="l" t="t" r="r" b="b"/>
            <a:pathLst>
              <a:path w="944" h="547">
                <a:moveTo>
                  <a:pt x="2604" y="12303"/>
                </a:moveTo>
                <a:cubicBezTo>
                  <a:pt x="2499" y="12366"/>
                  <a:pt x="2310" y="12456"/>
                  <a:pt x="2480" y="12576"/>
                </a:cubicBezTo>
                <a:cubicBezTo>
                  <a:pt x="2627" y="12680"/>
                  <a:pt x="2663" y="12637"/>
                  <a:pt x="2704" y="12799"/>
                </a:cubicBezTo>
                <a:cubicBezTo>
                  <a:pt x="2600" y="12851"/>
                  <a:pt x="2561" y="12867"/>
                  <a:pt x="2480" y="12824"/>
                </a:cubicBezTo>
                <a:cubicBezTo>
                  <a:pt x="2532" y="12705"/>
                  <a:pt x="2624" y="12613"/>
                  <a:pt x="2679" y="12502"/>
                </a:cubicBezTo>
                <a:cubicBezTo>
                  <a:pt x="2679" y="12494"/>
                  <a:pt x="2679" y="12485"/>
                  <a:pt x="2679" y="12477"/>
                </a:cubicBezTo>
              </a:path>
              <a:path w="944" h="547">
                <a:moveTo>
                  <a:pt x="2902" y="12328"/>
                </a:moveTo>
                <a:cubicBezTo>
                  <a:pt x="3066" y="12266"/>
                  <a:pt x="3248" y="12382"/>
                  <a:pt x="3324" y="12551"/>
                </a:cubicBezTo>
                <a:cubicBezTo>
                  <a:pt x="3434" y="12798"/>
                  <a:pt x="3081" y="12813"/>
                  <a:pt x="2952" y="12824"/>
                </a:cubicBezTo>
                <a:cubicBezTo>
                  <a:pt x="2952" y="12816"/>
                  <a:pt x="2952" y="12807"/>
                  <a:pt x="2952" y="12799"/>
                </a:cubicBezTo>
                <a:cubicBezTo>
                  <a:pt x="3117" y="12774"/>
                  <a:pt x="3213" y="12753"/>
                  <a:pt x="3349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03920" y="3848040"/>
            <a:ext cx="214200" cy="162000"/>
          </a:xfrm>
          <a:custGeom>
            <a:avLst/>
            <a:gdLst/>
            <a:ahLst/>
            <a:rect l="l" t="t" r="r" b="b"/>
            <a:pathLst>
              <a:path w="596" h="447">
                <a:moveTo>
                  <a:pt x="16148" y="11038"/>
                </a:moveTo>
                <a:cubicBezTo>
                  <a:pt x="16092" y="11038"/>
                  <a:pt x="16141" y="11101"/>
                  <a:pt x="16148" y="11137"/>
                </a:cubicBezTo>
              </a:path>
              <a:path w="596" h="447">
                <a:moveTo>
                  <a:pt x="16396" y="10691"/>
                </a:moveTo>
                <a:cubicBezTo>
                  <a:pt x="16425" y="10693"/>
                  <a:pt x="16773" y="10702"/>
                  <a:pt x="16619" y="10815"/>
                </a:cubicBezTo>
                <a:cubicBezTo>
                  <a:pt x="16525" y="10852"/>
                  <a:pt x="16507" y="10845"/>
                  <a:pt x="16470" y="10889"/>
                </a:cubicBezTo>
                <a:cubicBezTo>
                  <a:pt x="16632" y="10866"/>
                  <a:pt x="16550" y="10868"/>
                  <a:pt x="16718" y="10939"/>
                </a:cubicBezTo>
                <a:cubicBezTo>
                  <a:pt x="16606" y="11092"/>
                  <a:pt x="16501" y="11205"/>
                  <a:pt x="16421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3800" y="440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455" y="12229"/>
                </a:moveTo>
                <a:lnTo>
                  <a:pt x="18455" y="12229"/>
                </a:lnTo>
              </a:path>
              <a:path w="1" h="1">
                <a:moveTo>
                  <a:pt x="18455" y="12229"/>
                </a:moveTo>
                <a:lnTo>
                  <a:pt x="18455" y="122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84920" y="4411800"/>
            <a:ext cx="61920" cy="54000"/>
          </a:xfrm>
          <a:custGeom>
            <a:avLst/>
            <a:gdLst/>
            <a:ahLst/>
            <a:rect l="l" t="t" r="r" b="b"/>
            <a:pathLst>
              <a:path w="175" h="149">
                <a:moveTo>
                  <a:pt x="16446" y="12254"/>
                </a:moveTo>
                <a:cubicBezTo>
                  <a:pt x="16435" y="12272"/>
                  <a:pt x="16405" y="12395"/>
                  <a:pt x="16470" y="12353"/>
                </a:cubicBezTo>
                <a:cubicBezTo>
                  <a:pt x="16509" y="12314"/>
                  <a:pt x="16526" y="12312"/>
                  <a:pt x="16520" y="12278"/>
                </a:cubicBezTo>
                <a:cubicBezTo>
                  <a:pt x="16417" y="12310"/>
                  <a:pt x="16153" y="12467"/>
                  <a:pt x="16520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72120" y="4170240"/>
            <a:ext cx="563760" cy="258840"/>
          </a:xfrm>
          <a:custGeom>
            <a:avLst/>
            <a:gdLst/>
            <a:ahLst/>
            <a:rect l="l" t="t" r="r" b="b"/>
            <a:pathLst>
              <a:path w="1564" h="720">
                <a:moveTo>
                  <a:pt x="16892" y="11807"/>
                </a:moveTo>
                <a:cubicBezTo>
                  <a:pt x="16831" y="11777"/>
                  <a:pt x="17033" y="11685"/>
                  <a:pt x="17090" y="11683"/>
                </a:cubicBezTo>
                <a:cubicBezTo>
                  <a:pt x="17334" y="11675"/>
                  <a:pt x="17062" y="11938"/>
                  <a:pt x="17016" y="11981"/>
                </a:cubicBezTo>
                <a:cubicBezTo>
                  <a:pt x="16999" y="11997"/>
                  <a:pt x="16983" y="12014"/>
                  <a:pt x="16966" y="12030"/>
                </a:cubicBezTo>
                <a:cubicBezTo>
                  <a:pt x="17029" y="11947"/>
                  <a:pt x="17207" y="11969"/>
                  <a:pt x="17239" y="12105"/>
                </a:cubicBezTo>
                <a:cubicBezTo>
                  <a:pt x="17290" y="12321"/>
                  <a:pt x="17059" y="12280"/>
                  <a:pt x="16966" y="12254"/>
                </a:cubicBezTo>
                <a:cubicBezTo>
                  <a:pt x="16958" y="12254"/>
                  <a:pt x="16950" y="12254"/>
                  <a:pt x="16942" y="12254"/>
                </a:cubicBezTo>
              </a:path>
              <a:path w="1564" h="720">
                <a:moveTo>
                  <a:pt x="18430" y="12229"/>
                </a:moveTo>
                <a:cubicBezTo>
                  <a:pt x="18355" y="12214"/>
                  <a:pt x="18373" y="12196"/>
                  <a:pt x="18331" y="12254"/>
                </a:cubicBezTo>
                <a:cubicBezTo>
                  <a:pt x="18351" y="12254"/>
                  <a:pt x="18469" y="12229"/>
                  <a:pt x="18405" y="12179"/>
                </a:cubicBezTo>
                <a:cubicBezTo>
                  <a:pt x="18272" y="12076"/>
                  <a:pt x="18415" y="12306"/>
                  <a:pt x="18380" y="12204"/>
                </a:cubicBezTo>
                <a:cubicBezTo>
                  <a:pt x="18372" y="12204"/>
                  <a:pt x="18363" y="12204"/>
                  <a:pt x="18355" y="12204"/>
                </a:cubicBezTo>
              </a:path>
              <a:path w="1564" h="720">
                <a:moveTo>
                  <a:pt x="18008" y="11633"/>
                </a:moveTo>
                <a:cubicBezTo>
                  <a:pt x="17977" y="11588"/>
                  <a:pt x="17925" y="11586"/>
                  <a:pt x="17859" y="11609"/>
                </a:cubicBezTo>
                <a:cubicBezTo>
                  <a:pt x="17736" y="11651"/>
                  <a:pt x="17712" y="11761"/>
                  <a:pt x="17661" y="11857"/>
                </a:cubicBezTo>
                <a:cubicBezTo>
                  <a:pt x="17625" y="11925"/>
                  <a:pt x="17590" y="11973"/>
                  <a:pt x="17611" y="12055"/>
                </a:cubicBezTo>
                <a:cubicBezTo>
                  <a:pt x="17631" y="12133"/>
                  <a:pt x="17677" y="12185"/>
                  <a:pt x="17760" y="12204"/>
                </a:cubicBezTo>
                <a:cubicBezTo>
                  <a:pt x="17844" y="12223"/>
                  <a:pt x="17910" y="12187"/>
                  <a:pt x="17983" y="12154"/>
                </a:cubicBezTo>
                <a:cubicBezTo>
                  <a:pt x="18036" y="12130"/>
                  <a:pt x="18095" y="12057"/>
                  <a:pt x="18132" y="12005"/>
                </a:cubicBezTo>
                <a:cubicBezTo>
                  <a:pt x="18167" y="11957"/>
                  <a:pt x="18172" y="11863"/>
                  <a:pt x="18157" y="11807"/>
                </a:cubicBezTo>
                <a:cubicBezTo>
                  <a:pt x="18142" y="11750"/>
                  <a:pt x="18112" y="11707"/>
                  <a:pt x="18083" y="11658"/>
                </a:cubicBezTo>
                <a:cubicBezTo>
                  <a:pt x="18051" y="11605"/>
                  <a:pt x="18075" y="11598"/>
                  <a:pt x="18033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6720" y="3848040"/>
            <a:ext cx="750600" cy="268200"/>
          </a:xfrm>
          <a:custGeom>
            <a:avLst/>
            <a:gdLst/>
            <a:ahLst/>
            <a:rect l="l" t="t" r="r" b="b"/>
            <a:pathLst>
              <a:path w="2084" h="745">
                <a:moveTo>
                  <a:pt x="18926" y="10840"/>
                </a:moveTo>
                <a:cubicBezTo>
                  <a:pt x="18960" y="10831"/>
                  <a:pt x="19360" y="10784"/>
                  <a:pt x="19298" y="10914"/>
                </a:cubicBezTo>
                <a:cubicBezTo>
                  <a:pt x="19263" y="10988"/>
                  <a:pt x="19114" y="11022"/>
                  <a:pt x="19050" y="11038"/>
                </a:cubicBezTo>
                <a:cubicBezTo>
                  <a:pt x="19223" y="11051"/>
                  <a:pt x="19229" y="11066"/>
                  <a:pt x="19348" y="11162"/>
                </a:cubicBezTo>
                <a:cubicBezTo>
                  <a:pt x="19149" y="11292"/>
                  <a:pt x="19086" y="11311"/>
                  <a:pt x="18852" y="11311"/>
                </a:cubicBezTo>
              </a:path>
              <a:path w="2084" h="745">
                <a:moveTo>
                  <a:pt x="19571" y="10889"/>
                </a:moveTo>
                <a:cubicBezTo>
                  <a:pt x="19462" y="11090"/>
                  <a:pt x="19445" y="11095"/>
                  <a:pt x="19496" y="11311"/>
                </a:cubicBezTo>
                <a:cubicBezTo>
                  <a:pt x="19657" y="11250"/>
                  <a:pt x="20055" y="11042"/>
                  <a:pt x="19695" y="10914"/>
                </a:cubicBezTo>
                <a:cubicBezTo>
                  <a:pt x="19546" y="10895"/>
                  <a:pt x="19530" y="10887"/>
                  <a:pt x="19447" y="10889"/>
                </a:cubicBezTo>
              </a:path>
              <a:path w="2084" h="745">
                <a:moveTo>
                  <a:pt x="20191" y="10691"/>
                </a:moveTo>
                <a:cubicBezTo>
                  <a:pt x="20093" y="10829"/>
                  <a:pt x="20094" y="10826"/>
                  <a:pt x="20141" y="10988"/>
                </a:cubicBezTo>
                <a:cubicBezTo>
                  <a:pt x="20257" y="10957"/>
                  <a:pt x="20151" y="10803"/>
                  <a:pt x="20265" y="10765"/>
                </a:cubicBezTo>
                <a:cubicBezTo>
                  <a:pt x="20574" y="10662"/>
                  <a:pt x="20544" y="11074"/>
                  <a:pt x="20489" y="11237"/>
                </a:cubicBezTo>
                <a:cubicBezTo>
                  <a:pt x="20431" y="11352"/>
                  <a:pt x="20422" y="11369"/>
                  <a:pt x="20389" y="11435"/>
                </a:cubicBezTo>
              </a:path>
              <a:path w="2084" h="745">
                <a:moveTo>
                  <a:pt x="20786" y="11237"/>
                </a:moveTo>
                <a:cubicBezTo>
                  <a:pt x="20730" y="11429"/>
                  <a:pt x="20858" y="11308"/>
                  <a:pt x="20935" y="11237"/>
                </a:cubicBezTo>
                <a:cubicBezTo>
                  <a:pt x="20935" y="11178"/>
                  <a:pt x="20902" y="11177"/>
                  <a:pt x="20811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5960" y="3919680"/>
            <a:ext cx="5921280" cy="492120"/>
          </a:xfrm>
          <a:custGeom>
            <a:avLst/>
            <a:gdLst/>
            <a:ahLst/>
            <a:rect l="l" t="t" r="r" b="b"/>
            <a:pathLst>
              <a:path w="16446" h="1366">
                <a:moveTo>
                  <a:pt x="1712" y="11782"/>
                </a:moveTo>
                <a:cubicBezTo>
                  <a:pt x="1744" y="11943"/>
                  <a:pt x="1777" y="12089"/>
                  <a:pt x="1786" y="12254"/>
                </a:cubicBezTo>
              </a:path>
              <a:path w="16446" h="1366">
                <a:moveTo>
                  <a:pt x="17909" y="10889"/>
                </a:moveTo>
                <a:cubicBezTo>
                  <a:pt x="18026" y="10909"/>
                  <a:pt x="18048" y="10902"/>
                  <a:pt x="18107" y="10939"/>
                </a:cubicBezTo>
              </a:path>
              <a:path w="16446" h="1366">
                <a:moveTo>
                  <a:pt x="17785" y="11137"/>
                </a:moveTo>
                <a:cubicBezTo>
                  <a:pt x="17958" y="11108"/>
                  <a:pt x="18031" y="11100"/>
                  <a:pt x="18157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840" y="4581360"/>
            <a:ext cx="2741400" cy="1204920"/>
          </a:xfrm>
          <a:custGeom>
            <a:avLst/>
            <a:gdLst/>
            <a:ahLst/>
            <a:rect l="l" t="t" r="r" b="b"/>
            <a:pathLst>
              <a:path w="7616" h="3349">
                <a:moveTo>
                  <a:pt x="1315" y="14908"/>
                </a:moveTo>
                <a:cubicBezTo>
                  <a:pt x="1581" y="14804"/>
                  <a:pt x="1878" y="14759"/>
                  <a:pt x="2158" y="14709"/>
                </a:cubicBezTo>
                <a:cubicBezTo>
                  <a:pt x="2688" y="14614"/>
                  <a:pt x="3232" y="14538"/>
                  <a:pt x="3770" y="14511"/>
                </a:cubicBezTo>
                <a:cubicBezTo>
                  <a:pt x="3919" y="14504"/>
                  <a:pt x="3987" y="14503"/>
                  <a:pt x="4118" y="14486"/>
                </a:cubicBezTo>
              </a:path>
              <a:path w="7616" h="3349">
                <a:moveTo>
                  <a:pt x="943" y="14312"/>
                </a:moveTo>
                <a:cubicBezTo>
                  <a:pt x="958" y="14432"/>
                  <a:pt x="992" y="14525"/>
                  <a:pt x="1042" y="14635"/>
                </a:cubicBezTo>
              </a:path>
              <a:path w="7616" h="3349">
                <a:moveTo>
                  <a:pt x="868" y="14511"/>
                </a:moveTo>
                <a:cubicBezTo>
                  <a:pt x="1010" y="14528"/>
                  <a:pt x="1143" y="14511"/>
                  <a:pt x="1290" y="14511"/>
                </a:cubicBezTo>
              </a:path>
              <a:path w="7616" h="3349">
                <a:moveTo>
                  <a:pt x="4341" y="15974"/>
                </a:moveTo>
                <a:cubicBezTo>
                  <a:pt x="4349" y="16058"/>
                  <a:pt x="4437" y="16160"/>
                  <a:pt x="4514" y="16024"/>
                </a:cubicBezTo>
                <a:cubicBezTo>
                  <a:pt x="4588" y="15893"/>
                  <a:pt x="4405" y="15943"/>
                  <a:pt x="4366" y="15949"/>
                </a:cubicBezTo>
              </a:path>
              <a:path w="7616" h="3349">
                <a:moveTo>
                  <a:pt x="8483" y="12725"/>
                </a:moveTo>
                <a:lnTo>
                  <a:pt x="8483" y="127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680" y="5276880"/>
            <a:ext cx="857160" cy="295200"/>
          </a:xfrm>
          <a:custGeom>
            <a:avLst/>
            <a:gdLst/>
            <a:ahLst/>
            <a:rect l="l" t="t" r="r" b="b"/>
            <a:pathLst>
              <a:path w="2382" h="819">
                <a:moveTo>
                  <a:pt x="3795" y="14684"/>
                </a:moveTo>
                <a:cubicBezTo>
                  <a:pt x="3774" y="14623"/>
                  <a:pt x="3721" y="14734"/>
                  <a:pt x="3696" y="14784"/>
                </a:cubicBezTo>
                <a:cubicBezTo>
                  <a:pt x="3662" y="14852"/>
                  <a:pt x="3555" y="15073"/>
                  <a:pt x="3671" y="15131"/>
                </a:cubicBezTo>
                <a:cubicBezTo>
                  <a:pt x="3821" y="15206"/>
                  <a:pt x="3946" y="15069"/>
                  <a:pt x="3969" y="14932"/>
                </a:cubicBezTo>
                <a:cubicBezTo>
                  <a:pt x="3982" y="14858"/>
                  <a:pt x="3928" y="14753"/>
                  <a:pt x="3870" y="14734"/>
                </a:cubicBezTo>
                <a:cubicBezTo>
                  <a:pt x="3853" y="14734"/>
                  <a:pt x="3837" y="14734"/>
                  <a:pt x="3820" y="14734"/>
                </a:cubicBezTo>
              </a:path>
              <a:path w="2382" h="819">
                <a:moveTo>
                  <a:pt x="3101" y="14808"/>
                </a:moveTo>
                <a:cubicBezTo>
                  <a:pt x="3011" y="14913"/>
                  <a:pt x="2948" y="15034"/>
                  <a:pt x="2952" y="15180"/>
                </a:cubicBezTo>
                <a:cubicBezTo>
                  <a:pt x="2960" y="15205"/>
                  <a:pt x="2969" y="15230"/>
                  <a:pt x="2977" y="15255"/>
                </a:cubicBezTo>
                <a:cubicBezTo>
                  <a:pt x="3160" y="15289"/>
                  <a:pt x="3244" y="15207"/>
                  <a:pt x="3249" y="15007"/>
                </a:cubicBezTo>
                <a:cubicBezTo>
                  <a:pt x="3253" y="14868"/>
                  <a:pt x="3157" y="14843"/>
                  <a:pt x="3051" y="14833"/>
                </a:cubicBezTo>
              </a:path>
              <a:path w="2382" h="819">
                <a:moveTo>
                  <a:pt x="2456" y="14833"/>
                </a:moveTo>
                <a:cubicBezTo>
                  <a:pt x="2496" y="14793"/>
                  <a:pt x="2516" y="14812"/>
                  <a:pt x="2580" y="14833"/>
                </a:cubicBezTo>
                <a:cubicBezTo>
                  <a:pt x="2569" y="15015"/>
                  <a:pt x="2538" y="15088"/>
                  <a:pt x="2431" y="15230"/>
                </a:cubicBezTo>
                <a:cubicBezTo>
                  <a:pt x="2385" y="15291"/>
                  <a:pt x="2385" y="15484"/>
                  <a:pt x="2332" y="15429"/>
                </a:cubicBezTo>
                <a:cubicBezTo>
                  <a:pt x="2332" y="15421"/>
                  <a:pt x="2332" y="15412"/>
                  <a:pt x="2332" y="15404"/>
                </a:cubicBezTo>
                <a:cubicBezTo>
                  <a:pt x="2393" y="15333"/>
                  <a:pt x="2420" y="15260"/>
                  <a:pt x="2530" y="15280"/>
                </a:cubicBezTo>
                <a:cubicBezTo>
                  <a:pt x="2648" y="15302"/>
                  <a:pt x="2695" y="15307"/>
                  <a:pt x="2803" y="15230"/>
                </a:cubicBezTo>
                <a:cubicBezTo>
                  <a:pt x="2811" y="15222"/>
                  <a:pt x="2820" y="15213"/>
                  <a:pt x="2828" y="15205"/>
                </a:cubicBezTo>
              </a:path>
              <a:path w="2382" h="819">
                <a:moveTo>
                  <a:pt x="1910" y="15032"/>
                </a:moveTo>
                <a:cubicBezTo>
                  <a:pt x="1900" y="15002"/>
                  <a:pt x="1832" y="14988"/>
                  <a:pt x="1786" y="14982"/>
                </a:cubicBezTo>
                <a:cubicBezTo>
                  <a:pt x="1721" y="14974"/>
                  <a:pt x="1538" y="15070"/>
                  <a:pt x="1588" y="15156"/>
                </a:cubicBezTo>
                <a:cubicBezTo>
                  <a:pt x="1652" y="15266"/>
                  <a:pt x="1880" y="15212"/>
                  <a:pt x="1960" y="15304"/>
                </a:cubicBezTo>
                <a:cubicBezTo>
                  <a:pt x="2003" y="15354"/>
                  <a:pt x="1984" y="15461"/>
                  <a:pt x="1910" y="15478"/>
                </a:cubicBezTo>
                <a:cubicBezTo>
                  <a:pt x="1885" y="15478"/>
                  <a:pt x="1861" y="15478"/>
                  <a:pt x="1836" y="15478"/>
                </a:cubicBezTo>
                <a:cubicBezTo>
                  <a:pt x="1836" y="15402"/>
                  <a:pt x="1822" y="15323"/>
                  <a:pt x="1860" y="15255"/>
                </a:cubicBezTo>
                <a:cubicBezTo>
                  <a:pt x="1900" y="15184"/>
                  <a:pt x="2039" y="15129"/>
                  <a:pt x="2009" y="15032"/>
                </a:cubicBezTo>
                <a:cubicBezTo>
                  <a:pt x="2001" y="15024"/>
                  <a:pt x="1992" y="15015"/>
                  <a:pt x="1984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1800" y="4894200"/>
            <a:ext cx="1527120" cy="500040"/>
          </a:xfrm>
          <a:custGeom>
            <a:avLst/>
            <a:gdLst/>
            <a:ahLst/>
            <a:rect l="l" t="t" r="r" b="b"/>
            <a:pathLst>
              <a:path w="4243" h="1390">
                <a:moveTo>
                  <a:pt x="9103" y="14486"/>
                </a:moveTo>
                <a:cubicBezTo>
                  <a:pt x="9030" y="14486"/>
                  <a:pt x="8968" y="14512"/>
                  <a:pt x="9004" y="14610"/>
                </a:cubicBezTo>
                <a:cubicBezTo>
                  <a:pt x="9027" y="14672"/>
                  <a:pt x="9122" y="14541"/>
                  <a:pt x="9128" y="14511"/>
                </a:cubicBezTo>
                <a:cubicBezTo>
                  <a:pt x="9050" y="14488"/>
                  <a:pt x="9072" y="14485"/>
                  <a:pt x="9029" y="14560"/>
                </a:cubicBezTo>
                <a:cubicBezTo>
                  <a:pt x="9067" y="14598"/>
                  <a:pt x="9097" y="14537"/>
                  <a:pt x="9153" y="14486"/>
                </a:cubicBezTo>
              </a:path>
              <a:path w="4243" h="1390">
                <a:moveTo>
                  <a:pt x="9475" y="14015"/>
                </a:moveTo>
                <a:cubicBezTo>
                  <a:pt x="9463" y="14116"/>
                  <a:pt x="9442" y="14197"/>
                  <a:pt x="9401" y="14288"/>
                </a:cubicBezTo>
                <a:cubicBezTo>
                  <a:pt x="9478" y="14296"/>
                  <a:pt x="9545" y="14312"/>
                  <a:pt x="9624" y="14312"/>
                </a:cubicBezTo>
              </a:path>
              <a:path w="4243" h="1390">
                <a:moveTo>
                  <a:pt x="9674" y="13915"/>
                </a:moveTo>
                <a:cubicBezTo>
                  <a:pt x="9646" y="14095"/>
                  <a:pt x="9685" y="14297"/>
                  <a:pt x="9699" y="14486"/>
                </a:cubicBezTo>
                <a:cubicBezTo>
                  <a:pt x="9708" y="14604"/>
                  <a:pt x="9699" y="14545"/>
                  <a:pt x="9723" y="14461"/>
                </a:cubicBezTo>
              </a:path>
              <a:path w="4243" h="1390">
                <a:moveTo>
                  <a:pt x="9897" y="14064"/>
                </a:moveTo>
                <a:cubicBezTo>
                  <a:pt x="9933" y="14003"/>
                  <a:pt x="10063" y="13913"/>
                  <a:pt x="10145" y="13990"/>
                </a:cubicBezTo>
                <a:cubicBezTo>
                  <a:pt x="10243" y="14082"/>
                  <a:pt x="10086" y="14197"/>
                  <a:pt x="10021" y="14238"/>
                </a:cubicBezTo>
                <a:cubicBezTo>
                  <a:pt x="10039" y="14166"/>
                  <a:pt x="10165" y="14162"/>
                  <a:pt x="10220" y="14213"/>
                </a:cubicBezTo>
                <a:cubicBezTo>
                  <a:pt x="10371" y="14352"/>
                  <a:pt x="10223" y="14486"/>
                  <a:pt x="10071" y="14486"/>
                </a:cubicBezTo>
                <a:cubicBezTo>
                  <a:pt x="9976" y="14486"/>
                  <a:pt x="9920" y="14477"/>
                  <a:pt x="9996" y="14461"/>
                </a:cubicBezTo>
                <a:cubicBezTo>
                  <a:pt x="10029" y="14453"/>
                  <a:pt x="10063" y="14444"/>
                  <a:pt x="10096" y="14436"/>
                </a:cubicBezTo>
              </a:path>
              <a:path w="4243" h="1390">
                <a:moveTo>
                  <a:pt x="10790" y="14114"/>
                </a:moveTo>
                <a:cubicBezTo>
                  <a:pt x="10891" y="14114"/>
                  <a:pt x="11020" y="14087"/>
                  <a:pt x="11112" y="14139"/>
                </a:cubicBezTo>
                <a:cubicBezTo>
                  <a:pt x="11112" y="14147"/>
                  <a:pt x="11112" y="14155"/>
                  <a:pt x="11112" y="14163"/>
                </a:cubicBezTo>
              </a:path>
              <a:path w="4243" h="1390">
                <a:moveTo>
                  <a:pt x="10889" y="14263"/>
                </a:moveTo>
                <a:cubicBezTo>
                  <a:pt x="10973" y="14257"/>
                  <a:pt x="11127" y="14215"/>
                  <a:pt x="11162" y="14238"/>
                </a:cubicBezTo>
              </a:path>
              <a:path w="4243" h="1390">
                <a:moveTo>
                  <a:pt x="9203" y="14709"/>
                </a:moveTo>
                <a:cubicBezTo>
                  <a:pt x="9221" y="14743"/>
                  <a:pt x="9250" y="14832"/>
                  <a:pt x="9277" y="14858"/>
                </a:cubicBezTo>
                <a:cubicBezTo>
                  <a:pt x="9335" y="14913"/>
                  <a:pt x="9408" y="14928"/>
                  <a:pt x="9475" y="14957"/>
                </a:cubicBezTo>
                <a:cubicBezTo>
                  <a:pt x="9543" y="14986"/>
                  <a:pt x="9601" y="14982"/>
                  <a:pt x="9674" y="14982"/>
                </a:cubicBezTo>
                <a:cubicBezTo>
                  <a:pt x="9740" y="14982"/>
                  <a:pt x="9777" y="14973"/>
                  <a:pt x="9823" y="14932"/>
                </a:cubicBezTo>
                <a:cubicBezTo>
                  <a:pt x="9850" y="14908"/>
                  <a:pt x="9888" y="14865"/>
                  <a:pt x="9897" y="14833"/>
                </a:cubicBezTo>
                <a:cubicBezTo>
                  <a:pt x="9906" y="14801"/>
                  <a:pt x="9928" y="14791"/>
                  <a:pt x="9922" y="14759"/>
                </a:cubicBezTo>
                <a:cubicBezTo>
                  <a:pt x="9922" y="14734"/>
                  <a:pt x="9922" y="14726"/>
                  <a:pt x="9897" y="14734"/>
                </a:cubicBezTo>
                <a:cubicBezTo>
                  <a:pt x="9914" y="14751"/>
                  <a:pt x="9927" y="14781"/>
                  <a:pt x="9947" y="14808"/>
                </a:cubicBezTo>
                <a:cubicBezTo>
                  <a:pt x="9980" y="14852"/>
                  <a:pt x="10003" y="14896"/>
                  <a:pt x="10071" y="14908"/>
                </a:cubicBezTo>
                <a:cubicBezTo>
                  <a:pt x="10153" y="14922"/>
                  <a:pt x="10228" y="14896"/>
                  <a:pt x="10294" y="14883"/>
                </a:cubicBezTo>
                <a:cubicBezTo>
                  <a:pt x="10337" y="14874"/>
                  <a:pt x="10406" y="14859"/>
                  <a:pt x="10443" y="14833"/>
                </a:cubicBezTo>
                <a:cubicBezTo>
                  <a:pt x="10499" y="14794"/>
                  <a:pt x="10530" y="14723"/>
                  <a:pt x="10542" y="14660"/>
                </a:cubicBezTo>
                <a:cubicBezTo>
                  <a:pt x="10542" y="14618"/>
                  <a:pt x="10542" y="14610"/>
                  <a:pt x="10542" y="14585"/>
                </a:cubicBezTo>
              </a:path>
              <a:path w="4243" h="1390">
                <a:moveTo>
                  <a:pt x="11609" y="13866"/>
                </a:moveTo>
                <a:cubicBezTo>
                  <a:pt x="11625" y="13968"/>
                  <a:pt x="11623" y="14015"/>
                  <a:pt x="11584" y="14114"/>
                </a:cubicBezTo>
                <a:cubicBezTo>
                  <a:pt x="11687" y="14114"/>
                  <a:pt x="11853" y="14085"/>
                  <a:pt x="11906" y="14139"/>
                </a:cubicBezTo>
              </a:path>
              <a:path w="4243" h="1390">
                <a:moveTo>
                  <a:pt x="11857" y="13692"/>
                </a:moveTo>
                <a:cubicBezTo>
                  <a:pt x="11857" y="13940"/>
                  <a:pt x="11813" y="14631"/>
                  <a:pt x="11857" y="14387"/>
                </a:cubicBezTo>
                <a:cubicBezTo>
                  <a:pt x="11865" y="14346"/>
                  <a:pt x="11873" y="14304"/>
                  <a:pt x="11881" y="14263"/>
                </a:cubicBezTo>
              </a:path>
              <a:path w="4243" h="1390">
                <a:moveTo>
                  <a:pt x="12105" y="13816"/>
                </a:moveTo>
                <a:cubicBezTo>
                  <a:pt x="12187" y="13806"/>
                  <a:pt x="12370" y="13759"/>
                  <a:pt x="12328" y="13915"/>
                </a:cubicBezTo>
                <a:cubicBezTo>
                  <a:pt x="12290" y="13953"/>
                  <a:pt x="12267" y="13971"/>
                  <a:pt x="12229" y="13990"/>
                </a:cubicBezTo>
                <a:cubicBezTo>
                  <a:pt x="12221" y="13990"/>
                  <a:pt x="12212" y="13990"/>
                  <a:pt x="12204" y="13990"/>
                </a:cubicBezTo>
                <a:cubicBezTo>
                  <a:pt x="12303" y="13990"/>
                  <a:pt x="12467" y="13981"/>
                  <a:pt x="12427" y="14139"/>
                </a:cubicBezTo>
                <a:cubicBezTo>
                  <a:pt x="12387" y="14297"/>
                  <a:pt x="12247" y="14207"/>
                  <a:pt x="12154" y="14188"/>
                </a:cubicBezTo>
              </a:path>
              <a:path w="4243" h="1390">
                <a:moveTo>
                  <a:pt x="12700" y="13643"/>
                </a:moveTo>
                <a:cubicBezTo>
                  <a:pt x="12606" y="13724"/>
                  <a:pt x="12586" y="13772"/>
                  <a:pt x="12626" y="13891"/>
                </a:cubicBezTo>
                <a:cubicBezTo>
                  <a:pt x="12810" y="13824"/>
                  <a:pt x="12777" y="13819"/>
                  <a:pt x="12675" y="13692"/>
                </a:cubicBezTo>
                <a:cubicBezTo>
                  <a:pt x="12667" y="13676"/>
                  <a:pt x="12658" y="13659"/>
                  <a:pt x="12650" y="13643"/>
                </a:cubicBezTo>
                <a:cubicBezTo>
                  <a:pt x="12790" y="13600"/>
                  <a:pt x="12933" y="13569"/>
                  <a:pt x="12973" y="13767"/>
                </a:cubicBezTo>
                <a:cubicBezTo>
                  <a:pt x="13010" y="13949"/>
                  <a:pt x="12765" y="14464"/>
                  <a:pt x="12824" y="14288"/>
                </a:cubicBezTo>
                <a:cubicBezTo>
                  <a:pt x="12841" y="14255"/>
                  <a:pt x="12857" y="14221"/>
                  <a:pt x="12874" y="14188"/>
                </a:cubicBezTo>
              </a:path>
              <a:path w="4243" h="1390">
                <a:moveTo>
                  <a:pt x="13097" y="14064"/>
                </a:moveTo>
                <a:cubicBezTo>
                  <a:pt x="13109" y="14202"/>
                  <a:pt x="13196" y="14205"/>
                  <a:pt x="13246" y="14064"/>
                </a:cubicBezTo>
                <a:cubicBezTo>
                  <a:pt x="13276" y="13980"/>
                  <a:pt x="13127" y="14049"/>
                  <a:pt x="13047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40280" y="4956120"/>
            <a:ext cx="946440" cy="544680"/>
          </a:xfrm>
          <a:custGeom>
            <a:avLst/>
            <a:gdLst/>
            <a:ahLst/>
            <a:rect l="l" t="t" r="r" b="b"/>
            <a:pathLst>
              <a:path w="2631" h="1514">
                <a:moveTo>
                  <a:pt x="16297" y="14436"/>
                </a:moveTo>
                <a:cubicBezTo>
                  <a:pt x="16297" y="14385"/>
                  <a:pt x="16226" y="14557"/>
                  <a:pt x="16272" y="14536"/>
                </a:cubicBezTo>
                <a:cubicBezTo>
                  <a:pt x="16371" y="14491"/>
                  <a:pt x="16316" y="14444"/>
                  <a:pt x="16247" y="14486"/>
                </a:cubicBezTo>
                <a:cubicBezTo>
                  <a:pt x="16224" y="14509"/>
                  <a:pt x="16213" y="14517"/>
                  <a:pt x="16247" y="14511"/>
                </a:cubicBezTo>
                <a:cubicBezTo>
                  <a:pt x="16274" y="14492"/>
                  <a:pt x="16400" y="14382"/>
                  <a:pt x="16272" y="14486"/>
                </a:cubicBezTo>
              </a:path>
              <a:path w="2631" h="1514">
                <a:moveTo>
                  <a:pt x="16942" y="13915"/>
                </a:moveTo>
                <a:cubicBezTo>
                  <a:pt x="16797" y="13915"/>
                  <a:pt x="16776" y="13997"/>
                  <a:pt x="16718" y="14139"/>
                </a:cubicBezTo>
                <a:cubicBezTo>
                  <a:pt x="16675" y="14271"/>
                  <a:pt x="16654" y="14303"/>
                  <a:pt x="16694" y="14387"/>
                </a:cubicBezTo>
                <a:cubicBezTo>
                  <a:pt x="16927" y="14398"/>
                  <a:pt x="17111" y="14334"/>
                  <a:pt x="17090" y="14039"/>
                </a:cubicBezTo>
                <a:cubicBezTo>
                  <a:pt x="17082" y="13922"/>
                  <a:pt x="16922" y="13915"/>
                  <a:pt x="16842" y="13915"/>
                </a:cubicBezTo>
              </a:path>
              <a:path w="2631" h="1514">
                <a:moveTo>
                  <a:pt x="17363" y="13816"/>
                </a:moveTo>
                <a:cubicBezTo>
                  <a:pt x="17518" y="13754"/>
                  <a:pt x="17569" y="13760"/>
                  <a:pt x="17686" y="13866"/>
                </a:cubicBezTo>
                <a:cubicBezTo>
                  <a:pt x="17645" y="13915"/>
                  <a:pt x="17548" y="14073"/>
                  <a:pt x="17462" y="14039"/>
                </a:cubicBezTo>
                <a:cubicBezTo>
                  <a:pt x="17454" y="14031"/>
                  <a:pt x="17446" y="14023"/>
                  <a:pt x="17438" y="14015"/>
                </a:cubicBezTo>
                <a:cubicBezTo>
                  <a:pt x="17540" y="13998"/>
                  <a:pt x="17665" y="13972"/>
                  <a:pt x="17735" y="14089"/>
                </a:cubicBezTo>
                <a:cubicBezTo>
                  <a:pt x="17867" y="14308"/>
                  <a:pt x="17554" y="14433"/>
                  <a:pt x="17388" y="14387"/>
                </a:cubicBezTo>
                <a:cubicBezTo>
                  <a:pt x="17343" y="14374"/>
                  <a:pt x="17392" y="14372"/>
                  <a:pt x="17438" y="14362"/>
                </a:cubicBezTo>
                <a:cubicBezTo>
                  <a:pt x="17463" y="14354"/>
                  <a:pt x="17487" y="14345"/>
                  <a:pt x="17512" y="14337"/>
                </a:cubicBezTo>
              </a:path>
              <a:path w="2631" h="1514">
                <a:moveTo>
                  <a:pt x="18529" y="13891"/>
                </a:moveTo>
                <a:cubicBezTo>
                  <a:pt x="18620" y="13915"/>
                  <a:pt x="18706" y="13915"/>
                  <a:pt x="18802" y="13915"/>
                </a:cubicBezTo>
              </a:path>
              <a:path w="2631" h="1514">
                <a:moveTo>
                  <a:pt x="18504" y="14163"/>
                </a:moveTo>
                <a:cubicBezTo>
                  <a:pt x="18608" y="14158"/>
                  <a:pt x="18787" y="14117"/>
                  <a:pt x="18852" y="14163"/>
                </a:cubicBezTo>
              </a:path>
              <a:path w="2631" h="1514">
                <a:moveTo>
                  <a:pt x="16321" y="14908"/>
                </a:moveTo>
                <a:cubicBezTo>
                  <a:pt x="16343" y="14940"/>
                  <a:pt x="16400" y="15045"/>
                  <a:pt x="16421" y="15106"/>
                </a:cubicBezTo>
                <a:cubicBezTo>
                  <a:pt x="16462" y="15225"/>
                  <a:pt x="16593" y="15332"/>
                  <a:pt x="16743" y="15280"/>
                </a:cubicBezTo>
                <a:cubicBezTo>
                  <a:pt x="16876" y="15234"/>
                  <a:pt x="17038" y="15090"/>
                  <a:pt x="17090" y="14957"/>
                </a:cubicBezTo>
                <a:cubicBezTo>
                  <a:pt x="17098" y="14936"/>
                  <a:pt x="17086" y="14905"/>
                  <a:pt x="17090" y="14883"/>
                </a:cubicBezTo>
                <a:cubicBezTo>
                  <a:pt x="17144" y="14950"/>
                  <a:pt x="17168" y="15085"/>
                  <a:pt x="17239" y="15131"/>
                </a:cubicBezTo>
                <a:cubicBezTo>
                  <a:pt x="17358" y="15208"/>
                  <a:pt x="17526" y="15179"/>
                  <a:pt x="17636" y="15106"/>
                </a:cubicBezTo>
                <a:cubicBezTo>
                  <a:pt x="17704" y="15061"/>
                  <a:pt x="17880" y="14920"/>
                  <a:pt x="17909" y="14833"/>
                </a:cubicBezTo>
                <a:cubicBezTo>
                  <a:pt x="17909" y="14808"/>
                  <a:pt x="17909" y="14800"/>
                  <a:pt x="17909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54920" y="4840200"/>
            <a:ext cx="544320" cy="258840"/>
          </a:xfrm>
          <a:custGeom>
            <a:avLst/>
            <a:gdLst/>
            <a:ahLst/>
            <a:rect l="l" t="t" r="r" b="b"/>
            <a:pathLst>
              <a:path w="1514" h="720">
                <a:moveTo>
                  <a:pt x="19621" y="13618"/>
                </a:moveTo>
                <a:cubicBezTo>
                  <a:pt x="19682" y="13597"/>
                  <a:pt x="19791" y="13505"/>
                  <a:pt x="19893" y="13519"/>
                </a:cubicBezTo>
                <a:cubicBezTo>
                  <a:pt x="19918" y="13535"/>
                  <a:pt x="19943" y="13552"/>
                  <a:pt x="19968" y="13568"/>
                </a:cubicBezTo>
                <a:cubicBezTo>
                  <a:pt x="19943" y="13726"/>
                  <a:pt x="19957" y="13735"/>
                  <a:pt x="19819" y="13816"/>
                </a:cubicBezTo>
                <a:cubicBezTo>
                  <a:pt x="19895" y="13816"/>
                  <a:pt x="20072" y="13843"/>
                  <a:pt x="20042" y="13965"/>
                </a:cubicBezTo>
                <a:cubicBezTo>
                  <a:pt x="20006" y="14111"/>
                  <a:pt x="19699" y="14204"/>
                  <a:pt x="19596" y="14089"/>
                </a:cubicBezTo>
                <a:cubicBezTo>
                  <a:pt x="19596" y="14003"/>
                  <a:pt x="19607" y="13972"/>
                  <a:pt x="19695" y="13965"/>
                </a:cubicBezTo>
              </a:path>
              <a:path w="1514" h="720">
                <a:moveTo>
                  <a:pt x="20563" y="13543"/>
                </a:moveTo>
                <a:cubicBezTo>
                  <a:pt x="20380" y="13544"/>
                  <a:pt x="20340" y="13607"/>
                  <a:pt x="20340" y="13791"/>
                </a:cubicBezTo>
                <a:cubicBezTo>
                  <a:pt x="20496" y="13805"/>
                  <a:pt x="20556" y="13726"/>
                  <a:pt x="20464" y="13568"/>
                </a:cubicBezTo>
                <a:cubicBezTo>
                  <a:pt x="20447" y="13552"/>
                  <a:pt x="20431" y="13535"/>
                  <a:pt x="20414" y="13519"/>
                </a:cubicBezTo>
                <a:cubicBezTo>
                  <a:pt x="20502" y="13396"/>
                  <a:pt x="20643" y="13448"/>
                  <a:pt x="20737" y="13568"/>
                </a:cubicBezTo>
                <a:cubicBezTo>
                  <a:pt x="20898" y="13773"/>
                  <a:pt x="20656" y="13977"/>
                  <a:pt x="20563" y="14139"/>
                </a:cubicBezTo>
                <a:cubicBezTo>
                  <a:pt x="20563" y="14147"/>
                  <a:pt x="20563" y="14155"/>
                  <a:pt x="20563" y="14163"/>
                </a:cubicBezTo>
              </a:path>
              <a:path w="1514" h="720">
                <a:moveTo>
                  <a:pt x="20985" y="13965"/>
                </a:moveTo>
                <a:cubicBezTo>
                  <a:pt x="20946" y="14042"/>
                  <a:pt x="20912" y="14057"/>
                  <a:pt x="20960" y="14089"/>
                </a:cubicBezTo>
                <a:cubicBezTo>
                  <a:pt x="21016" y="14079"/>
                  <a:pt x="21226" y="13954"/>
                  <a:pt x="21059" y="13915"/>
                </a:cubicBezTo>
                <a:cubicBezTo>
                  <a:pt x="21018" y="13915"/>
                  <a:pt x="20976" y="13915"/>
                  <a:pt x="20935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8120" y="5099040"/>
            <a:ext cx="133560" cy="214200"/>
          </a:xfrm>
          <a:custGeom>
            <a:avLst/>
            <a:gdLst/>
            <a:ahLst/>
            <a:rect l="l" t="t" r="r" b="b"/>
            <a:pathLst>
              <a:path w="374" h="597">
                <a:moveTo>
                  <a:pt x="1513" y="14188"/>
                </a:moveTo>
                <a:cubicBezTo>
                  <a:pt x="1474" y="14129"/>
                  <a:pt x="1329" y="14161"/>
                  <a:pt x="1265" y="14213"/>
                </a:cubicBezTo>
                <a:cubicBezTo>
                  <a:pt x="1183" y="14280"/>
                  <a:pt x="1225" y="14488"/>
                  <a:pt x="1315" y="14536"/>
                </a:cubicBezTo>
                <a:cubicBezTo>
                  <a:pt x="1456" y="14583"/>
                  <a:pt x="1499" y="14596"/>
                  <a:pt x="1588" y="14635"/>
                </a:cubicBezTo>
                <a:cubicBezTo>
                  <a:pt x="1561" y="14740"/>
                  <a:pt x="1454" y="14807"/>
                  <a:pt x="1339" y="14734"/>
                </a:cubicBezTo>
                <a:cubicBezTo>
                  <a:pt x="1210" y="14652"/>
                  <a:pt x="1427" y="14457"/>
                  <a:pt x="1463" y="14412"/>
                </a:cubicBezTo>
                <a:cubicBezTo>
                  <a:pt x="1520" y="14341"/>
                  <a:pt x="1602" y="14166"/>
                  <a:pt x="1513" y="14188"/>
                </a:cubicBezTo>
                <a:cubicBezTo>
                  <a:pt x="1513" y="14196"/>
                  <a:pt x="1513" y="14205"/>
                  <a:pt x="1513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880" y="4589640"/>
            <a:ext cx="2822400" cy="652320"/>
          </a:xfrm>
          <a:custGeom>
            <a:avLst/>
            <a:gdLst/>
            <a:ahLst/>
            <a:rect l="l" t="t" r="r" b="b"/>
            <a:pathLst>
              <a:path w="7839" h="1811">
                <a:moveTo>
                  <a:pt x="2828" y="13990"/>
                </a:moveTo>
                <a:cubicBezTo>
                  <a:pt x="2723" y="13969"/>
                  <a:pt x="2671" y="13958"/>
                  <a:pt x="2629" y="14114"/>
                </a:cubicBezTo>
                <a:cubicBezTo>
                  <a:pt x="2629" y="14231"/>
                  <a:pt x="2627" y="14265"/>
                  <a:pt x="2654" y="14337"/>
                </a:cubicBezTo>
                <a:cubicBezTo>
                  <a:pt x="2780" y="14324"/>
                  <a:pt x="2912" y="14267"/>
                  <a:pt x="2927" y="14114"/>
                </a:cubicBezTo>
                <a:cubicBezTo>
                  <a:pt x="2941" y="13975"/>
                  <a:pt x="2875" y="13941"/>
                  <a:pt x="2778" y="13965"/>
                </a:cubicBezTo>
              </a:path>
              <a:path w="7839" h="1811">
                <a:moveTo>
                  <a:pt x="2158" y="14114"/>
                </a:moveTo>
                <a:cubicBezTo>
                  <a:pt x="2036" y="14162"/>
                  <a:pt x="2025" y="14288"/>
                  <a:pt x="2034" y="14412"/>
                </a:cubicBezTo>
                <a:cubicBezTo>
                  <a:pt x="2051" y="14642"/>
                  <a:pt x="2306" y="14568"/>
                  <a:pt x="2381" y="14412"/>
                </a:cubicBezTo>
                <a:cubicBezTo>
                  <a:pt x="2457" y="14252"/>
                  <a:pt x="2400" y="14066"/>
                  <a:pt x="2208" y="14089"/>
                </a:cubicBezTo>
                <a:cubicBezTo>
                  <a:pt x="2191" y="14097"/>
                  <a:pt x="2175" y="14106"/>
                  <a:pt x="2158" y="14114"/>
                </a:cubicBezTo>
              </a:path>
              <a:path w="7839" h="1811">
                <a:moveTo>
                  <a:pt x="8533" y="12898"/>
                </a:moveTo>
                <a:cubicBezTo>
                  <a:pt x="8533" y="12890"/>
                  <a:pt x="8533" y="12882"/>
                  <a:pt x="8533" y="12874"/>
                </a:cubicBezTo>
              </a:path>
              <a:path w="7839" h="1811">
                <a:moveTo>
                  <a:pt x="8508" y="12874"/>
                </a:moveTo>
                <a:lnTo>
                  <a:pt x="8508" y="12874"/>
                </a:lnTo>
              </a:path>
              <a:path w="7839" h="1811">
                <a:moveTo>
                  <a:pt x="8508" y="12874"/>
                </a:moveTo>
                <a:lnTo>
                  <a:pt x="8508" y="12874"/>
                </a:lnTo>
              </a:path>
              <a:path w="7839" h="1811">
                <a:moveTo>
                  <a:pt x="8508" y="12874"/>
                </a:moveTo>
                <a:lnTo>
                  <a:pt x="8508" y="12874"/>
                </a:lnTo>
              </a:path>
              <a:path w="7839" h="1811">
                <a:moveTo>
                  <a:pt x="8508" y="12898"/>
                </a:moveTo>
                <a:lnTo>
                  <a:pt x="8508" y="12898"/>
                </a:lnTo>
              </a:path>
              <a:path w="7839" h="1811">
                <a:moveTo>
                  <a:pt x="9178" y="12849"/>
                </a:moveTo>
                <a:lnTo>
                  <a:pt x="9178" y="12849"/>
                </a:lnTo>
              </a:path>
              <a:path w="7839" h="1811">
                <a:moveTo>
                  <a:pt x="9872" y="12750"/>
                </a:moveTo>
                <a:lnTo>
                  <a:pt x="9872" y="1275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97000" y="4973760"/>
            <a:ext cx="160200" cy="13464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3522" y="13816"/>
                </a:moveTo>
                <a:cubicBezTo>
                  <a:pt x="3463" y="13816"/>
                  <a:pt x="3435" y="13815"/>
                  <a:pt x="3398" y="13866"/>
                </a:cubicBezTo>
                <a:cubicBezTo>
                  <a:pt x="3329" y="13960"/>
                  <a:pt x="3324" y="13975"/>
                  <a:pt x="3324" y="14089"/>
                </a:cubicBezTo>
                <a:cubicBezTo>
                  <a:pt x="3324" y="14152"/>
                  <a:pt x="3357" y="14179"/>
                  <a:pt x="3423" y="14188"/>
                </a:cubicBezTo>
                <a:cubicBezTo>
                  <a:pt x="3504" y="14199"/>
                  <a:pt x="3572" y="14175"/>
                  <a:pt x="3646" y="14163"/>
                </a:cubicBezTo>
                <a:cubicBezTo>
                  <a:pt x="3693" y="14156"/>
                  <a:pt x="3747" y="14143"/>
                  <a:pt x="3770" y="14089"/>
                </a:cubicBezTo>
                <a:cubicBezTo>
                  <a:pt x="3790" y="14043"/>
                  <a:pt x="3765" y="13999"/>
                  <a:pt x="3746" y="13965"/>
                </a:cubicBezTo>
                <a:cubicBezTo>
                  <a:pt x="3716" y="13912"/>
                  <a:pt x="3659" y="13862"/>
                  <a:pt x="3597" y="13841"/>
                </a:cubicBezTo>
                <a:cubicBezTo>
                  <a:pt x="3557" y="13828"/>
                  <a:pt x="3587" y="13829"/>
                  <a:pt x="3547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2160" y="4589640"/>
            <a:ext cx="250920" cy="142560"/>
          </a:xfrm>
          <a:custGeom>
            <a:avLst/>
            <a:gdLst/>
            <a:ahLst/>
            <a:rect l="l" t="t" r="r" b="b"/>
            <a:pathLst>
              <a:path w="696" h="397">
                <a:moveTo>
                  <a:pt x="8582" y="12774"/>
                </a:moveTo>
                <a:cubicBezTo>
                  <a:pt x="8615" y="12774"/>
                  <a:pt x="8578" y="12724"/>
                  <a:pt x="8558" y="12750"/>
                </a:cubicBezTo>
                <a:cubicBezTo>
                  <a:pt x="8525" y="12794"/>
                  <a:pt x="8581" y="12813"/>
                  <a:pt x="8607" y="12774"/>
                </a:cubicBezTo>
                <a:cubicBezTo>
                  <a:pt x="8607" y="12708"/>
                  <a:pt x="8582" y="12824"/>
                  <a:pt x="8582" y="12824"/>
                </a:cubicBezTo>
                <a:cubicBezTo>
                  <a:pt x="8610" y="12852"/>
                  <a:pt x="8628" y="12811"/>
                  <a:pt x="8632" y="12799"/>
                </a:cubicBezTo>
                <a:cubicBezTo>
                  <a:pt x="8632" y="12824"/>
                  <a:pt x="8632" y="12832"/>
                  <a:pt x="8632" y="12849"/>
                </a:cubicBezTo>
              </a:path>
              <a:path w="696" h="397">
                <a:moveTo>
                  <a:pt x="8632" y="12824"/>
                </a:moveTo>
                <a:cubicBezTo>
                  <a:pt x="8622" y="12794"/>
                  <a:pt x="8588" y="12779"/>
                  <a:pt x="8582" y="12824"/>
                </a:cubicBezTo>
                <a:cubicBezTo>
                  <a:pt x="8582" y="12832"/>
                  <a:pt x="8582" y="12841"/>
                  <a:pt x="8582" y="12849"/>
                </a:cubicBezTo>
                <a:cubicBezTo>
                  <a:pt x="8582" y="12817"/>
                  <a:pt x="8565" y="12762"/>
                  <a:pt x="8558" y="12824"/>
                </a:cubicBezTo>
                <a:cubicBezTo>
                  <a:pt x="8558" y="12832"/>
                  <a:pt x="8558" y="12841"/>
                  <a:pt x="8558" y="12849"/>
                </a:cubicBezTo>
              </a:path>
              <a:path w="696" h="397">
                <a:moveTo>
                  <a:pt x="8508" y="12898"/>
                </a:moveTo>
                <a:cubicBezTo>
                  <a:pt x="8516" y="12898"/>
                  <a:pt x="8525" y="12898"/>
                  <a:pt x="8533" y="12898"/>
                </a:cubicBezTo>
                <a:cubicBezTo>
                  <a:pt x="8533" y="12935"/>
                  <a:pt x="8540" y="12971"/>
                  <a:pt x="8558" y="12998"/>
                </a:cubicBezTo>
                <a:cubicBezTo>
                  <a:pt x="8580" y="13020"/>
                  <a:pt x="8588" y="13025"/>
                  <a:pt x="8582" y="13047"/>
                </a:cubicBezTo>
                <a:cubicBezTo>
                  <a:pt x="8620" y="13060"/>
                  <a:pt x="8603" y="13072"/>
                  <a:pt x="8657" y="13072"/>
                </a:cubicBezTo>
                <a:cubicBezTo>
                  <a:pt x="8670" y="13092"/>
                  <a:pt x="8714" y="13131"/>
                  <a:pt x="8756" y="13146"/>
                </a:cubicBezTo>
                <a:cubicBezTo>
                  <a:pt x="8804" y="13163"/>
                  <a:pt x="8844" y="13134"/>
                  <a:pt x="8880" y="13122"/>
                </a:cubicBezTo>
                <a:cubicBezTo>
                  <a:pt x="8936" y="13104"/>
                  <a:pt x="9002" y="13114"/>
                  <a:pt x="9054" y="13097"/>
                </a:cubicBezTo>
                <a:cubicBezTo>
                  <a:pt x="9087" y="13086"/>
                  <a:pt x="9120" y="13080"/>
                  <a:pt x="9153" y="13072"/>
                </a:cubicBezTo>
                <a:cubicBezTo>
                  <a:pt x="9159" y="13048"/>
                  <a:pt x="9166" y="12994"/>
                  <a:pt x="9178" y="12973"/>
                </a:cubicBezTo>
                <a:cubicBezTo>
                  <a:pt x="9201" y="12932"/>
                  <a:pt x="9203" y="12925"/>
                  <a:pt x="9203" y="12874"/>
                </a:cubicBezTo>
                <a:cubicBezTo>
                  <a:pt x="9203" y="12849"/>
                  <a:pt x="9203" y="12841"/>
                  <a:pt x="9178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10000" y="4581360"/>
            <a:ext cx="54000" cy="349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9872" y="12750"/>
                </a:moveTo>
                <a:cubicBezTo>
                  <a:pt x="9872" y="12758"/>
                  <a:pt x="9872" y="12766"/>
                  <a:pt x="9872" y="12774"/>
                </a:cubicBezTo>
                <a:cubicBezTo>
                  <a:pt x="9904" y="12732"/>
                  <a:pt x="9873" y="12692"/>
                  <a:pt x="9847" y="12725"/>
                </a:cubicBezTo>
                <a:cubicBezTo>
                  <a:pt x="9847" y="12750"/>
                  <a:pt x="9847" y="12758"/>
                  <a:pt x="9847" y="12774"/>
                </a:cubicBezTo>
                <a:cubicBezTo>
                  <a:pt x="9836" y="12741"/>
                  <a:pt x="9785" y="12726"/>
                  <a:pt x="9773" y="12774"/>
                </a:cubicBezTo>
                <a:cubicBezTo>
                  <a:pt x="9773" y="12802"/>
                  <a:pt x="9775" y="12808"/>
                  <a:pt x="9798" y="12774"/>
                </a:cubicBezTo>
              </a:path>
              <a:path w="150" h="100">
                <a:moveTo>
                  <a:pt x="9798" y="12774"/>
                </a:moveTo>
                <a:cubicBezTo>
                  <a:pt x="9779" y="12774"/>
                  <a:pt x="9704" y="12789"/>
                  <a:pt x="9748" y="12824"/>
                </a:cubicBezTo>
                <a:cubicBezTo>
                  <a:pt x="9765" y="12838"/>
                  <a:pt x="9791" y="12813"/>
                  <a:pt x="9748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11920" y="4402080"/>
            <a:ext cx="731880" cy="349200"/>
          </a:xfrm>
          <a:custGeom>
            <a:avLst/>
            <a:gdLst/>
            <a:ahLst/>
            <a:rect l="l" t="t" r="r" b="b"/>
            <a:pathLst>
              <a:path w="2035" h="968">
                <a:moveTo>
                  <a:pt x="16421" y="12725"/>
                </a:moveTo>
                <a:cubicBezTo>
                  <a:pt x="16427" y="12742"/>
                  <a:pt x="16436" y="12804"/>
                  <a:pt x="16446" y="12849"/>
                </a:cubicBezTo>
                <a:cubicBezTo>
                  <a:pt x="16460" y="12908"/>
                  <a:pt x="16502" y="12984"/>
                  <a:pt x="16545" y="13022"/>
                </a:cubicBezTo>
                <a:cubicBezTo>
                  <a:pt x="16608" y="13076"/>
                  <a:pt x="16690" y="13115"/>
                  <a:pt x="16768" y="13146"/>
                </a:cubicBezTo>
                <a:cubicBezTo>
                  <a:pt x="16838" y="13174"/>
                  <a:pt x="16913" y="13213"/>
                  <a:pt x="16991" y="13196"/>
                </a:cubicBezTo>
                <a:cubicBezTo>
                  <a:pt x="17048" y="13183"/>
                  <a:pt x="17184" y="13152"/>
                  <a:pt x="17239" y="13122"/>
                </a:cubicBezTo>
                <a:cubicBezTo>
                  <a:pt x="17289" y="13095"/>
                  <a:pt x="17351" y="13045"/>
                  <a:pt x="17388" y="12998"/>
                </a:cubicBezTo>
                <a:cubicBezTo>
                  <a:pt x="17427" y="12948"/>
                  <a:pt x="17452" y="12858"/>
                  <a:pt x="17462" y="12799"/>
                </a:cubicBezTo>
                <a:cubicBezTo>
                  <a:pt x="17477" y="12706"/>
                  <a:pt x="17477" y="12583"/>
                  <a:pt x="17487" y="12502"/>
                </a:cubicBezTo>
                <a:cubicBezTo>
                  <a:pt x="17494" y="12446"/>
                  <a:pt x="17495" y="12430"/>
                  <a:pt x="17512" y="12402"/>
                </a:cubicBezTo>
                <a:cubicBezTo>
                  <a:pt x="17538" y="12359"/>
                  <a:pt x="17499" y="12470"/>
                  <a:pt x="17487" y="12502"/>
                </a:cubicBezTo>
                <a:cubicBezTo>
                  <a:pt x="17465" y="12562"/>
                  <a:pt x="17465" y="12585"/>
                  <a:pt x="17462" y="12650"/>
                </a:cubicBezTo>
                <a:cubicBezTo>
                  <a:pt x="17460" y="12690"/>
                  <a:pt x="17475" y="12736"/>
                  <a:pt x="17487" y="12774"/>
                </a:cubicBezTo>
                <a:cubicBezTo>
                  <a:pt x="17510" y="12846"/>
                  <a:pt x="17553" y="12831"/>
                  <a:pt x="17611" y="12874"/>
                </a:cubicBezTo>
                <a:cubicBezTo>
                  <a:pt x="17652" y="12905"/>
                  <a:pt x="17678" y="12927"/>
                  <a:pt x="17735" y="12948"/>
                </a:cubicBezTo>
                <a:cubicBezTo>
                  <a:pt x="17771" y="12961"/>
                  <a:pt x="17881" y="13001"/>
                  <a:pt x="17909" y="12998"/>
                </a:cubicBezTo>
                <a:cubicBezTo>
                  <a:pt x="17928" y="12996"/>
                  <a:pt x="18036" y="12979"/>
                  <a:pt x="18058" y="12973"/>
                </a:cubicBezTo>
                <a:cubicBezTo>
                  <a:pt x="18097" y="12962"/>
                  <a:pt x="18142" y="12918"/>
                  <a:pt x="18182" y="12898"/>
                </a:cubicBezTo>
                <a:cubicBezTo>
                  <a:pt x="18230" y="12874"/>
                  <a:pt x="18243" y="12848"/>
                  <a:pt x="18281" y="12799"/>
                </a:cubicBezTo>
                <a:cubicBezTo>
                  <a:pt x="18313" y="12758"/>
                  <a:pt x="18335" y="12716"/>
                  <a:pt x="18355" y="12675"/>
                </a:cubicBezTo>
                <a:cubicBezTo>
                  <a:pt x="18389" y="12607"/>
                  <a:pt x="18416" y="12503"/>
                  <a:pt x="18430" y="12427"/>
                </a:cubicBezTo>
                <a:cubicBezTo>
                  <a:pt x="18438" y="12386"/>
                  <a:pt x="18469" y="12321"/>
                  <a:pt x="18455" y="12278"/>
                </a:cubicBezTo>
                <a:cubicBezTo>
                  <a:pt x="18436" y="12216"/>
                  <a:pt x="18455" y="12291"/>
                  <a:pt x="18455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00680" y="5589720"/>
            <a:ext cx="115560" cy="71280"/>
          </a:xfrm>
          <a:custGeom>
            <a:avLst/>
            <a:gdLst/>
            <a:ahLst/>
            <a:rect l="l" t="t" r="r" b="b"/>
            <a:pathLst>
              <a:path w="324" h="199">
                <a:moveTo>
                  <a:pt x="11112" y="15577"/>
                </a:moveTo>
                <a:cubicBezTo>
                  <a:pt x="11204" y="15566"/>
                  <a:pt x="11294" y="15541"/>
                  <a:pt x="11385" y="15528"/>
                </a:cubicBezTo>
              </a:path>
              <a:path w="324" h="199">
                <a:moveTo>
                  <a:pt x="11162" y="15726"/>
                </a:moveTo>
                <a:cubicBezTo>
                  <a:pt x="11255" y="15685"/>
                  <a:pt x="11335" y="15649"/>
                  <a:pt x="11435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5000" y="572436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9451" y="15974"/>
                </a:moveTo>
                <a:cubicBezTo>
                  <a:pt x="9423" y="15836"/>
                  <a:pt x="9393" y="15952"/>
                  <a:pt x="9401" y="16024"/>
                </a:cubicBezTo>
                <a:cubicBezTo>
                  <a:pt x="9449" y="15994"/>
                  <a:pt x="9484" y="15965"/>
                  <a:pt x="9525" y="15925"/>
                </a:cubicBezTo>
                <a:cubicBezTo>
                  <a:pt x="9482" y="15907"/>
                  <a:pt x="9371" y="15943"/>
                  <a:pt x="9426" y="15974"/>
                </a:cubicBezTo>
                <a:cubicBezTo>
                  <a:pt x="9442" y="15974"/>
                  <a:pt x="9459" y="15974"/>
                  <a:pt x="9475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54280" y="5554800"/>
            <a:ext cx="276480" cy="214200"/>
          </a:xfrm>
          <a:custGeom>
            <a:avLst/>
            <a:gdLst/>
            <a:ahLst/>
            <a:rect l="l" t="t" r="r" b="b"/>
            <a:pathLst>
              <a:path w="770" h="596">
                <a:moveTo>
                  <a:pt x="9897" y="15553"/>
                </a:moveTo>
                <a:cubicBezTo>
                  <a:pt x="9897" y="15705"/>
                  <a:pt x="9880" y="15849"/>
                  <a:pt x="9872" y="15999"/>
                </a:cubicBezTo>
                <a:cubicBezTo>
                  <a:pt x="9872" y="16024"/>
                  <a:pt x="9872" y="16032"/>
                  <a:pt x="9872" y="15999"/>
                </a:cubicBezTo>
              </a:path>
              <a:path w="770" h="596">
                <a:moveTo>
                  <a:pt x="10120" y="15478"/>
                </a:moveTo>
                <a:cubicBezTo>
                  <a:pt x="10272" y="15478"/>
                  <a:pt x="10397" y="15448"/>
                  <a:pt x="10542" y="15429"/>
                </a:cubicBezTo>
                <a:cubicBezTo>
                  <a:pt x="10575" y="15429"/>
                  <a:pt x="10608" y="15429"/>
                  <a:pt x="10641" y="15429"/>
                </a:cubicBezTo>
                <a:cubicBezTo>
                  <a:pt x="10628" y="15623"/>
                  <a:pt x="10557" y="15786"/>
                  <a:pt x="10517" y="15974"/>
                </a:cubicBezTo>
                <a:cubicBezTo>
                  <a:pt x="10517" y="15999"/>
                  <a:pt x="10517" y="16007"/>
                  <a:pt x="10517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02080" y="5411880"/>
            <a:ext cx="546120" cy="23184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12278" y="15205"/>
                </a:moveTo>
                <a:cubicBezTo>
                  <a:pt x="12278" y="15105"/>
                  <a:pt x="12260" y="15353"/>
                  <a:pt x="12254" y="15453"/>
                </a:cubicBezTo>
                <a:cubicBezTo>
                  <a:pt x="12254" y="15571"/>
                  <a:pt x="12268" y="15593"/>
                  <a:pt x="12229" y="15652"/>
                </a:cubicBezTo>
              </a:path>
              <a:path w="1514" h="646">
                <a:moveTo>
                  <a:pt x="12477" y="15131"/>
                </a:moveTo>
                <a:cubicBezTo>
                  <a:pt x="12584" y="15131"/>
                  <a:pt x="12692" y="15131"/>
                  <a:pt x="12799" y="15131"/>
                </a:cubicBezTo>
                <a:cubicBezTo>
                  <a:pt x="12799" y="15295"/>
                  <a:pt x="12773" y="15421"/>
                  <a:pt x="12725" y="15577"/>
                </a:cubicBezTo>
                <a:cubicBezTo>
                  <a:pt x="12706" y="15635"/>
                  <a:pt x="12697" y="15642"/>
                  <a:pt x="12700" y="15677"/>
                </a:cubicBezTo>
              </a:path>
              <a:path w="1514" h="646">
                <a:moveTo>
                  <a:pt x="13196" y="15081"/>
                </a:moveTo>
                <a:cubicBezTo>
                  <a:pt x="13090" y="15180"/>
                  <a:pt x="13069" y="15189"/>
                  <a:pt x="13047" y="15329"/>
                </a:cubicBezTo>
                <a:cubicBezTo>
                  <a:pt x="13210" y="15316"/>
                  <a:pt x="13284" y="15305"/>
                  <a:pt x="13196" y="15131"/>
                </a:cubicBezTo>
                <a:cubicBezTo>
                  <a:pt x="13173" y="15108"/>
                  <a:pt x="13165" y="15104"/>
                  <a:pt x="13171" y="15081"/>
                </a:cubicBezTo>
                <a:cubicBezTo>
                  <a:pt x="13318" y="15014"/>
                  <a:pt x="13440" y="15018"/>
                  <a:pt x="13444" y="15230"/>
                </a:cubicBezTo>
                <a:cubicBezTo>
                  <a:pt x="13446" y="15348"/>
                  <a:pt x="13334" y="15488"/>
                  <a:pt x="13370" y="15577"/>
                </a:cubicBezTo>
              </a:path>
              <a:path w="1514" h="646">
                <a:moveTo>
                  <a:pt x="13618" y="15503"/>
                </a:moveTo>
                <a:cubicBezTo>
                  <a:pt x="13573" y="15592"/>
                  <a:pt x="13586" y="15670"/>
                  <a:pt x="13717" y="15553"/>
                </a:cubicBezTo>
                <a:cubicBezTo>
                  <a:pt x="13809" y="15472"/>
                  <a:pt x="13644" y="15503"/>
                  <a:pt x="13618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46640" y="5823000"/>
            <a:ext cx="393480" cy="133200"/>
          </a:xfrm>
          <a:custGeom>
            <a:avLst/>
            <a:gdLst/>
            <a:ahLst/>
            <a:rect l="l" t="t" r="r" b="b"/>
            <a:pathLst>
              <a:path w="1092" h="373">
                <a:moveTo>
                  <a:pt x="9575" y="16197"/>
                </a:moveTo>
                <a:cubicBezTo>
                  <a:pt x="9575" y="16137"/>
                  <a:pt x="9615" y="16304"/>
                  <a:pt x="9624" y="16321"/>
                </a:cubicBezTo>
                <a:cubicBezTo>
                  <a:pt x="9685" y="16435"/>
                  <a:pt x="9779" y="16448"/>
                  <a:pt x="9897" y="16396"/>
                </a:cubicBezTo>
                <a:cubicBezTo>
                  <a:pt x="10013" y="16345"/>
                  <a:pt x="10004" y="16313"/>
                  <a:pt x="10046" y="16222"/>
                </a:cubicBezTo>
                <a:cubicBezTo>
                  <a:pt x="10054" y="16214"/>
                  <a:pt x="10063" y="16205"/>
                  <a:pt x="10071" y="16197"/>
                </a:cubicBezTo>
                <a:cubicBezTo>
                  <a:pt x="10071" y="16286"/>
                  <a:pt x="10067" y="16338"/>
                  <a:pt x="10120" y="16421"/>
                </a:cubicBezTo>
                <a:cubicBezTo>
                  <a:pt x="10178" y="16511"/>
                  <a:pt x="10315" y="16563"/>
                  <a:pt x="10418" y="16545"/>
                </a:cubicBezTo>
                <a:cubicBezTo>
                  <a:pt x="10542" y="16523"/>
                  <a:pt x="10597" y="16431"/>
                  <a:pt x="10641" y="16321"/>
                </a:cubicBezTo>
                <a:cubicBezTo>
                  <a:pt x="10659" y="16276"/>
                  <a:pt x="10616" y="16264"/>
                  <a:pt x="10666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56200" y="6027840"/>
            <a:ext cx="303480" cy="63360"/>
          </a:xfrm>
          <a:custGeom>
            <a:avLst/>
            <a:gdLst/>
            <a:ahLst/>
            <a:rect l="l" t="t" r="r" b="b"/>
            <a:pathLst>
              <a:path w="844" h="175">
                <a:moveTo>
                  <a:pt x="16570" y="16892"/>
                </a:moveTo>
                <a:cubicBezTo>
                  <a:pt x="16542" y="16892"/>
                  <a:pt x="16536" y="16894"/>
                  <a:pt x="16570" y="16917"/>
                </a:cubicBezTo>
              </a:path>
              <a:path w="844" h="175">
                <a:moveTo>
                  <a:pt x="16570" y="16917"/>
                </a:moveTo>
                <a:lnTo>
                  <a:pt x="16570" y="16917"/>
                </a:lnTo>
              </a:path>
              <a:path w="844" h="175">
                <a:moveTo>
                  <a:pt x="17363" y="16743"/>
                </a:moveTo>
                <a:lnTo>
                  <a:pt x="17363" y="16743"/>
                </a:lnTo>
              </a:path>
              <a:path w="844" h="175">
                <a:moveTo>
                  <a:pt x="17388" y="16743"/>
                </a:moveTo>
                <a:lnTo>
                  <a:pt x="17388" y="16743"/>
                </a:lnTo>
              </a:path>
              <a:path w="844" h="175">
                <a:moveTo>
                  <a:pt x="17388" y="16743"/>
                </a:moveTo>
                <a:lnTo>
                  <a:pt x="17388" y="1674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13280" y="5749920"/>
            <a:ext cx="758880" cy="465120"/>
          </a:xfrm>
          <a:custGeom>
            <a:avLst/>
            <a:gdLst/>
            <a:ahLst/>
            <a:rect l="l" t="t" r="r" b="b"/>
            <a:pathLst>
              <a:path w="2109" h="1291">
                <a:moveTo>
                  <a:pt x="16173" y="16173"/>
                </a:moveTo>
                <a:cubicBezTo>
                  <a:pt x="16173" y="16129"/>
                  <a:pt x="16174" y="16133"/>
                  <a:pt x="16148" y="16098"/>
                </a:cubicBezTo>
                <a:cubicBezTo>
                  <a:pt x="16162" y="16221"/>
                  <a:pt x="16186" y="16346"/>
                  <a:pt x="16197" y="16470"/>
                </a:cubicBezTo>
                <a:cubicBezTo>
                  <a:pt x="16204" y="16545"/>
                  <a:pt x="16216" y="16577"/>
                  <a:pt x="16222" y="16644"/>
                </a:cubicBezTo>
                <a:cubicBezTo>
                  <a:pt x="16225" y="16685"/>
                  <a:pt x="16222" y="16727"/>
                  <a:pt x="16222" y="16768"/>
                </a:cubicBezTo>
              </a:path>
              <a:path w="2109" h="1291">
                <a:moveTo>
                  <a:pt x="16619" y="16545"/>
                </a:moveTo>
                <a:cubicBezTo>
                  <a:pt x="16592" y="16550"/>
                  <a:pt x="16439" y="16650"/>
                  <a:pt x="16495" y="16669"/>
                </a:cubicBezTo>
                <a:cubicBezTo>
                  <a:pt x="16604" y="16706"/>
                  <a:pt x="16590" y="16661"/>
                  <a:pt x="16619" y="16594"/>
                </a:cubicBezTo>
                <a:cubicBezTo>
                  <a:pt x="16619" y="16560"/>
                  <a:pt x="16610" y="16556"/>
                  <a:pt x="16570" y="16594"/>
                </a:cubicBezTo>
                <a:cubicBezTo>
                  <a:pt x="16548" y="16682"/>
                  <a:pt x="16619" y="16654"/>
                  <a:pt x="16619" y="16594"/>
                </a:cubicBezTo>
                <a:cubicBezTo>
                  <a:pt x="16594" y="16594"/>
                  <a:pt x="16586" y="16594"/>
                  <a:pt x="16594" y="16619"/>
                </a:cubicBezTo>
              </a:path>
              <a:path w="2109" h="1291">
                <a:moveTo>
                  <a:pt x="16917" y="16123"/>
                </a:moveTo>
                <a:cubicBezTo>
                  <a:pt x="16917" y="16035"/>
                  <a:pt x="16961" y="16033"/>
                  <a:pt x="17016" y="15999"/>
                </a:cubicBezTo>
                <a:cubicBezTo>
                  <a:pt x="17082" y="15959"/>
                  <a:pt x="17154" y="16030"/>
                  <a:pt x="17165" y="16098"/>
                </a:cubicBezTo>
                <a:cubicBezTo>
                  <a:pt x="17176" y="16164"/>
                  <a:pt x="17110" y="16274"/>
                  <a:pt x="17041" y="16297"/>
                </a:cubicBezTo>
                <a:cubicBezTo>
                  <a:pt x="16999" y="16297"/>
                  <a:pt x="16991" y="16297"/>
                  <a:pt x="16966" y="16297"/>
                </a:cubicBezTo>
                <a:cubicBezTo>
                  <a:pt x="17041" y="16297"/>
                  <a:pt x="17060" y="16260"/>
                  <a:pt x="17140" y="16297"/>
                </a:cubicBezTo>
                <a:cubicBezTo>
                  <a:pt x="17253" y="16349"/>
                  <a:pt x="17263" y="16466"/>
                  <a:pt x="17214" y="16570"/>
                </a:cubicBezTo>
                <a:cubicBezTo>
                  <a:pt x="17176" y="16652"/>
                  <a:pt x="17052" y="16712"/>
                  <a:pt x="16966" y="16669"/>
                </a:cubicBezTo>
                <a:cubicBezTo>
                  <a:pt x="16937" y="16654"/>
                  <a:pt x="16916" y="16614"/>
                  <a:pt x="16942" y="16594"/>
                </a:cubicBezTo>
                <a:cubicBezTo>
                  <a:pt x="16950" y="16594"/>
                  <a:pt x="16958" y="16594"/>
                  <a:pt x="16966" y="16594"/>
                </a:cubicBezTo>
              </a:path>
              <a:path w="2109" h="1291">
                <a:moveTo>
                  <a:pt x="16570" y="16942"/>
                </a:moveTo>
                <a:cubicBezTo>
                  <a:pt x="16570" y="16991"/>
                  <a:pt x="16581" y="17001"/>
                  <a:pt x="16594" y="17041"/>
                </a:cubicBezTo>
                <a:cubicBezTo>
                  <a:pt x="16608" y="17086"/>
                  <a:pt x="16617" y="17095"/>
                  <a:pt x="16644" y="17115"/>
                </a:cubicBezTo>
                <a:cubicBezTo>
                  <a:pt x="16672" y="17136"/>
                  <a:pt x="16736" y="17176"/>
                  <a:pt x="16743" y="17190"/>
                </a:cubicBezTo>
                <a:cubicBezTo>
                  <a:pt x="16758" y="17219"/>
                  <a:pt x="16830" y="17261"/>
                  <a:pt x="16842" y="17264"/>
                </a:cubicBezTo>
                <a:cubicBezTo>
                  <a:pt x="16922" y="17284"/>
                  <a:pt x="17024" y="17261"/>
                  <a:pt x="17090" y="17239"/>
                </a:cubicBezTo>
                <a:cubicBezTo>
                  <a:pt x="17143" y="17221"/>
                  <a:pt x="17169" y="17253"/>
                  <a:pt x="17214" y="17214"/>
                </a:cubicBezTo>
                <a:cubicBezTo>
                  <a:pt x="17244" y="17188"/>
                  <a:pt x="17278" y="17149"/>
                  <a:pt x="17289" y="17115"/>
                </a:cubicBezTo>
                <a:cubicBezTo>
                  <a:pt x="17295" y="17097"/>
                  <a:pt x="17331" y="17000"/>
                  <a:pt x="17338" y="16991"/>
                </a:cubicBezTo>
                <a:cubicBezTo>
                  <a:pt x="17340" y="16989"/>
                  <a:pt x="17361" y="16919"/>
                  <a:pt x="17363" y="16917"/>
                </a:cubicBezTo>
                <a:cubicBezTo>
                  <a:pt x="17393" y="16893"/>
                  <a:pt x="17388" y="16870"/>
                  <a:pt x="17388" y="16818"/>
                </a:cubicBezTo>
                <a:cubicBezTo>
                  <a:pt x="17388" y="16773"/>
                  <a:pt x="17401" y="16756"/>
                  <a:pt x="17363" y="16743"/>
                </a:cubicBezTo>
              </a:path>
              <a:path w="2109" h="1291">
                <a:moveTo>
                  <a:pt x="17388" y="16743"/>
                </a:moveTo>
                <a:cubicBezTo>
                  <a:pt x="17388" y="16768"/>
                  <a:pt x="17388" y="16776"/>
                  <a:pt x="17388" y="16793"/>
                </a:cubicBezTo>
              </a:path>
              <a:path w="2109" h="1291">
                <a:moveTo>
                  <a:pt x="17388" y="16818"/>
                </a:moveTo>
                <a:cubicBezTo>
                  <a:pt x="17359" y="16855"/>
                  <a:pt x="17363" y="16869"/>
                  <a:pt x="17363" y="16917"/>
                </a:cubicBezTo>
                <a:cubicBezTo>
                  <a:pt x="17363" y="16950"/>
                  <a:pt x="17362" y="16971"/>
                  <a:pt x="17388" y="16991"/>
                </a:cubicBezTo>
                <a:cubicBezTo>
                  <a:pt x="17400" y="17001"/>
                  <a:pt x="17453" y="17034"/>
                  <a:pt x="17462" y="17066"/>
                </a:cubicBezTo>
                <a:cubicBezTo>
                  <a:pt x="17470" y="17093"/>
                  <a:pt x="17486" y="17148"/>
                  <a:pt x="17512" y="17165"/>
                </a:cubicBezTo>
                <a:cubicBezTo>
                  <a:pt x="17554" y="17193"/>
                  <a:pt x="17601" y="17195"/>
                  <a:pt x="17636" y="17214"/>
                </a:cubicBezTo>
                <a:cubicBezTo>
                  <a:pt x="17704" y="17251"/>
                  <a:pt x="17722" y="17227"/>
                  <a:pt x="17785" y="17214"/>
                </a:cubicBezTo>
                <a:cubicBezTo>
                  <a:pt x="17843" y="17202"/>
                  <a:pt x="17885" y="17181"/>
                  <a:pt x="17934" y="17165"/>
                </a:cubicBezTo>
                <a:cubicBezTo>
                  <a:pt x="17977" y="17151"/>
                  <a:pt x="18012" y="17137"/>
                  <a:pt x="18033" y="17115"/>
                </a:cubicBezTo>
                <a:cubicBezTo>
                  <a:pt x="18081" y="17063"/>
                  <a:pt x="18089" y="17027"/>
                  <a:pt x="18107" y="16966"/>
                </a:cubicBezTo>
                <a:cubicBezTo>
                  <a:pt x="18132" y="16881"/>
                  <a:pt x="18102" y="16776"/>
                  <a:pt x="18132" y="16718"/>
                </a:cubicBezTo>
                <a:cubicBezTo>
                  <a:pt x="18150" y="16683"/>
                  <a:pt x="18124" y="16642"/>
                  <a:pt x="18107" y="16619"/>
                </a:cubicBezTo>
                <a:cubicBezTo>
                  <a:pt x="18087" y="16666"/>
                  <a:pt x="18086" y="16682"/>
                  <a:pt x="18058" y="16718"/>
                </a:cubicBezTo>
                <a:cubicBezTo>
                  <a:pt x="18158" y="16779"/>
                  <a:pt x="18179" y="16710"/>
                  <a:pt x="18231" y="16619"/>
                </a:cubicBezTo>
                <a:cubicBezTo>
                  <a:pt x="18239" y="16603"/>
                  <a:pt x="18248" y="16586"/>
                  <a:pt x="18256" y="16570"/>
                </a:cubicBezTo>
                <a:cubicBezTo>
                  <a:pt x="18221" y="16563"/>
                  <a:pt x="18147" y="16522"/>
                  <a:pt x="18107" y="16545"/>
                </a:cubicBezTo>
                <a:cubicBezTo>
                  <a:pt x="18056" y="16575"/>
                  <a:pt x="18043" y="16619"/>
                  <a:pt x="18033" y="16669"/>
                </a:cubicBezTo>
                <a:cubicBezTo>
                  <a:pt x="18114" y="16696"/>
                  <a:pt x="18154" y="16661"/>
                  <a:pt x="18182" y="16570"/>
                </a:cubicBezTo>
                <a:cubicBezTo>
                  <a:pt x="18206" y="16491"/>
                  <a:pt x="18117" y="16581"/>
                  <a:pt x="18107" y="16594"/>
                </a:cubicBezTo>
              </a:path>
              <a:path w="2109" h="1291">
                <a:moveTo>
                  <a:pt x="17512" y="16098"/>
                </a:moveTo>
                <a:cubicBezTo>
                  <a:pt x="17499" y="16149"/>
                  <a:pt x="17462" y="16163"/>
                  <a:pt x="17462" y="16222"/>
                </a:cubicBezTo>
                <a:cubicBezTo>
                  <a:pt x="17462" y="16237"/>
                  <a:pt x="17444" y="16331"/>
                  <a:pt x="17438" y="16346"/>
                </a:cubicBezTo>
                <a:cubicBezTo>
                  <a:pt x="17423" y="16382"/>
                  <a:pt x="17389" y="16448"/>
                  <a:pt x="17413" y="16495"/>
                </a:cubicBezTo>
                <a:cubicBezTo>
                  <a:pt x="17430" y="16528"/>
                  <a:pt x="17508" y="16534"/>
                  <a:pt x="17537" y="16520"/>
                </a:cubicBezTo>
                <a:cubicBezTo>
                  <a:pt x="17575" y="16501"/>
                  <a:pt x="17619" y="16442"/>
                  <a:pt x="17636" y="16421"/>
                </a:cubicBezTo>
                <a:cubicBezTo>
                  <a:pt x="17660" y="16391"/>
                  <a:pt x="17676" y="16339"/>
                  <a:pt x="17661" y="16297"/>
                </a:cubicBezTo>
                <a:cubicBezTo>
                  <a:pt x="17646" y="16255"/>
                  <a:pt x="17619" y="16213"/>
                  <a:pt x="17611" y="16197"/>
                </a:cubicBezTo>
                <a:cubicBezTo>
                  <a:pt x="17593" y="16162"/>
                  <a:pt x="17571" y="16151"/>
                  <a:pt x="17562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6720" y="5857920"/>
            <a:ext cx="12528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18901" y="16297"/>
                </a:moveTo>
                <a:cubicBezTo>
                  <a:pt x="19015" y="16274"/>
                  <a:pt x="19063" y="16278"/>
                  <a:pt x="19174" y="16297"/>
                </a:cubicBezTo>
              </a:path>
              <a:path w="348" h="224">
                <a:moveTo>
                  <a:pt x="18852" y="16470"/>
                </a:moveTo>
                <a:cubicBezTo>
                  <a:pt x="18961" y="16476"/>
                  <a:pt x="19065" y="16495"/>
                  <a:pt x="19174" y="16495"/>
                </a:cubicBezTo>
                <a:cubicBezTo>
                  <a:pt x="19182" y="16495"/>
                  <a:pt x="19191" y="16495"/>
                  <a:pt x="19199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1120" y="5786280"/>
            <a:ext cx="482760" cy="223920"/>
          </a:xfrm>
          <a:custGeom>
            <a:avLst/>
            <a:gdLst/>
            <a:ahLst/>
            <a:rect l="l" t="t" r="r" b="b"/>
            <a:pathLst>
              <a:path w="1341" h="622">
                <a:moveTo>
                  <a:pt x="19893" y="16173"/>
                </a:moveTo>
                <a:cubicBezTo>
                  <a:pt x="19973" y="16273"/>
                  <a:pt x="19943" y="16475"/>
                  <a:pt x="19943" y="16619"/>
                </a:cubicBezTo>
                <a:cubicBezTo>
                  <a:pt x="19943" y="16778"/>
                  <a:pt x="20004" y="16629"/>
                  <a:pt x="20067" y="16545"/>
                </a:cubicBezTo>
              </a:path>
              <a:path w="1341" h="622">
                <a:moveTo>
                  <a:pt x="20290" y="16148"/>
                </a:moveTo>
                <a:cubicBezTo>
                  <a:pt x="20389" y="16091"/>
                  <a:pt x="20439" y="16091"/>
                  <a:pt x="20538" y="16148"/>
                </a:cubicBezTo>
                <a:cubicBezTo>
                  <a:pt x="20525" y="16260"/>
                  <a:pt x="20499" y="16275"/>
                  <a:pt x="20414" y="16346"/>
                </a:cubicBezTo>
                <a:cubicBezTo>
                  <a:pt x="20495" y="16298"/>
                  <a:pt x="20597" y="16319"/>
                  <a:pt x="20638" y="16421"/>
                </a:cubicBezTo>
                <a:cubicBezTo>
                  <a:pt x="20685" y="16537"/>
                  <a:pt x="20535" y="16632"/>
                  <a:pt x="20439" y="16619"/>
                </a:cubicBezTo>
                <a:cubicBezTo>
                  <a:pt x="20391" y="16595"/>
                  <a:pt x="20374" y="16589"/>
                  <a:pt x="20389" y="16545"/>
                </a:cubicBezTo>
              </a:path>
              <a:path w="1341" h="622">
                <a:moveTo>
                  <a:pt x="21059" y="16098"/>
                </a:moveTo>
                <a:cubicBezTo>
                  <a:pt x="20934" y="16145"/>
                  <a:pt x="20919" y="16282"/>
                  <a:pt x="20935" y="16421"/>
                </a:cubicBezTo>
                <a:cubicBezTo>
                  <a:pt x="20943" y="16446"/>
                  <a:pt x="20952" y="16470"/>
                  <a:pt x="20960" y="16495"/>
                </a:cubicBezTo>
                <a:cubicBezTo>
                  <a:pt x="21142" y="16523"/>
                  <a:pt x="21228" y="16454"/>
                  <a:pt x="21233" y="16247"/>
                </a:cubicBezTo>
                <a:cubicBezTo>
                  <a:pt x="21236" y="16120"/>
                  <a:pt x="21150" y="16111"/>
                  <a:pt x="21059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59800" y="5724360"/>
            <a:ext cx="250560" cy="241560"/>
          </a:xfrm>
          <a:custGeom>
            <a:avLst/>
            <a:gdLst/>
            <a:ahLst/>
            <a:rect l="l" t="t" r="r" b="b"/>
            <a:pathLst>
              <a:path w="696" h="671">
                <a:moveTo>
                  <a:pt x="21704" y="15900"/>
                </a:moveTo>
                <a:cubicBezTo>
                  <a:pt x="21631" y="15915"/>
                  <a:pt x="21555" y="15992"/>
                  <a:pt x="21555" y="16073"/>
                </a:cubicBezTo>
                <a:cubicBezTo>
                  <a:pt x="21563" y="16073"/>
                  <a:pt x="21572" y="16073"/>
                  <a:pt x="21580" y="16073"/>
                </a:cubicBezTo>
                <a:cubicBezTo>
                  <a:pt x="21662" y="16085"/>
                  <a:pt x="21671" y="16048"/>
                  <a:pt x="21704" y="15949"/>
                </a:cubicBezTo>
                <a:cubicBezTo>
                  <a:pt x="21768" y="15962"/>
                  <a:pt x="21864" y="15992"/>
                  <a:pt x="21903" y="16049"/>
                </a:cubicBezTo>
                <a:cubicBezTo>
                  <a:pt x="22018" y="16220"/>
                  <a:pt x="21852" y="16373"/>
                  <a:pt x="21779" y="16520"/>
                </a:cubicBezTo>
                <a:cubicBezTo>
                  <a:pt x="21779" y="16545"/>
                  <a:pt x="21779" y="16553"/>
                  <a:pt x="21779" y="16570"/>
                </a:cubicBezTo>
              </a:path>
              <a:path w="696" h="671">
                <a:moveTo>
                  <a:pt x="22175" y="16421"/>
                </a:moveTo>
                <a:cubicBezTo>
                  <a:pt x="22141" y="16456"/>
                  <a:pt x="22128" y="16479"/>
                  <a:pt x="22126" y="16520"/>
                </a:cubicBezTo>
                <a:cubicBezTo>
                  <a:pt x="22172" y="16511"/>
                  <a:pt x="22349" y="16421"/>
                  <a:pt x="22175" y="16421"/>
                </a:cubicBezTo>
                <a:cubicBezTo>
                  <a:pt x="22150" y="16429"/>
                  <a:pt x="22126" y="16438"/>
                  <a:pt x="22101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8880" y="420516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232" y="11683"/>
                </a:moveTo>
                <a:cubicBezTo>
                  <a:pt x="2124" y="11850"/>
                  <a:pt x="2067" y="11975"/>
                  <a:pt x="2158" y="12154"/>
                </a:cubicBezTo>
                <a:cubicBezTo>
                  <a:pt x="2287" y="12093"/>
                  <a:pt x="2560" y="11915"/>
                  <a:pt x="2332" y="11757"/>
                </a:cubicBezTo>
                <a:cubicBezTo>
                  <a:pt x="2226" y="11737"/>
                  <a:pt x="2198" y="11715"/>
                  <a:pt x="2158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1800" y="419724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654" y="11658"/>
                </a:moveTo>
                <a:cubicBezTo>
                  <a:pt x="2515" y="11845"/>
                  <a:pt x="2461" y="11933"/>
                  <a:pt x="2580" y="12129"/>
                </a:cubicBezTo>
                <a:cubicBezTo>
                  <a:pt x="2670" y="12094"/>
                  <a:pt x="3119" y="11804"/>
                  <a:pt x="2778" y="11708"/>
                </a:cubicBezTo>
                <a:cubicBezTo>
                  <a:pt x="2636" y="11728"/>
                  <a:pt x="2588" y="11706"/>
                  <a:pt x="2580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120" y="4643280"/>
            <a:ext cx="820800" cy="71640"/>
          </a:xfrm>
          <a:custGeom>
            <a:avLst/>
            <a:gdLst/>
            <a:ahLst/>
            <a:rect l="l" t="t" r="r" b="b"/>
            <a:pathLst>
              <a:path w="2283" h="200">
                <a:moveTo>
                  <a:pt x="1290" y="13097"/>
                </a:moveTo>
                <a:cubicBezTo>
                  <a:pt x="1643" y="13097"/>
                  <a:pt x="2006" y="13031"/>
                  <a:pt x="2356" y="12998"/>
                </a:cubicBezTo>
                <a:cubicBezTo>
                  <a:pt x="2747" y="12961"/>
                  <a:pt x="3159" y="12971"/>
                  <a:pt x="3547" y="12923"/>
                </a:cubicBezTo>
                <a:cubicBezTo>
                  <a:pt x="3572" y="12923"/>
                  <a:pt x="3580" y="12923"/>
                  <a:pt x="3572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3640" y="4741920"/>
            <a:ext cx="169560" cy="18720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3423" y="13196"/>
                </a:moveTo>
                <a:cubicBezTo>
                  <a:pt x="3507" y="13168"/>
                  <a:pt x="3355" y="13168"/>
                  <a:pt x="3324" y="13196"/>
                </a:cubicBezTo>
                <a:cubicBezTo>
                  <a:pt x="3169" y="13332"/>
                  <a:pt x="3149" y="13496"/>
                  <a:pt x="3200" y="13667"/>
                </a:cubicBezTo>
                <a:cubicBezTo>
                  <a:pt x="3382" y="13677"/>
                  <a:pt x="3643" y="13670"/>
                  <a:pt x="3621" y="13419"/>
                </a:cubicBezTo>
                <a:cubicBezTo>
                  <a:pt x="3607" y="13261"/>
                  <a:pt x="3508" y="13223"/>
                  <a:pt x="3398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160" y="4786200"/>
            <a:ext cx="115920" cy="17964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2778" y="13320"/>
                </a:moveTo>
                <a:cubicBezTo>
                  <a:pt x="2727" y="13320"/>
                  <a:pt x="2642" y="13262"/>
                  <a:pt x="2604" y="13320"/>
                </a:cubicBezTo>
                <a:cubicBezTo>
                  <a:pt x="2502" y="13476"/>
                  <a:pt x="2546" y="13634"/>
                  <a:pt x="2580" y="13791"/>
                </a:cubicBezTo>
                <a:cubicBezTo>
                  <a:pt x="2804" y="13738"/>
                  <a:pt x="2866" y="13658"/>
                  <a:pt x="2828" y="13419"/>
                </a:cubicBezTo>
                <a:cubicBezTo>
                  <a:pt x="2809" y="13300"/>
                  <a:pt x="2790" y="13312"/>
                  <a:pt x="2704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960" y="4759200"/>
            <a:ext cx="23328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1885" y="13395"/>
                </a:moveTo>
                <a:cubicBezTo>
                  <a:pt x="1933" y="13309"/>
                  <a:pt x="1964" y="13216"/>
                  <a:pt x="2084" y="13221"/>
                </a:cubicBezTo>
                <a:cubicBezTo>
                  <a:pt x="2262" y="13229"/>
                  <a:pt x="2087" y="13572"/>
                  <a:pt x="2059" y="13618"/>
                </a:cubicBezTo>
                <a:cubicBezTo>
                  <a:pt x="1999" y="13714"/>
                  <a:pt x="1860" y="13881"/>
                  <a:pt x="1786" y="13940"/>
                </a:cubicBezTo>
                <a:cubicBezTo>
                  <a:pt x="1875" y="13823"/>
                  <a:pt x="1964" y="13707"/>
                  <a:pt x="2133" y="13791"/>
                </a:cubicBezTo>
                <a:cubicBezTo>
                  <a:pt x="2242" y="13845"/>
                  <a:pt x="2244" y="13928"/>
                  <a:pt x="2381" y="13791"/>
                </a:cubicBezTo>
                <a:cubicBezTo>
                  <a:pt x="2424" y="13728"/>
                  <a:pt x="2440" y="13716"/>
                  <a:pt x="2431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6160" y="4589640"/>
            <a:ext cx="519120" cy="98280"/>
          </a:xfrm>
          <a:custGeom>
            <a:avLst/>
            <a:gdLst/>
            <a:ahLst/>
            <a:rect l="l" t="t" r="r" b="b"/>
            <a:pathLst>
              <a:path w="1440" h="273">
                <a:moveTo>
                  <a:pt x="2158" y="12898"/>
                </a:moveTo>
                <a:cubicBezTo>
                  <a:pt x="2168" y="12900"/>
                  <a:pt x="2321" y="12953"/>
                  <a:pt x="2381" y="12973"/>
                </a:cubicBezTo>
                <a:cubicBezTo>
                  <a:pt x="2497" y="13012"/>
                  <a:pt x="2604" y="13039"/>
                  <a:pt x="2729" y="13022"/>
                </a:cubicBezTo>
                <a:cubicBezTo>
                  <a:pt x="2837" y="13008"/>
                  <a:pt x="2866" y="12971"/>
                  <a:pt x="2927" y="12898"/>
                </a:cubicBezTo>
                <a:cubicBezTo>
                  <a:pt x="2950" y="12876"/>
                  <a:pt x="2958" y="12871"/>
                  <a:pt x="2952" y="12849"/>
                </a:cubicBezTo>
                <a:cubicBezTo>
                  <a:pt x="3003" y="12907"/>
                  <a:pt x="3026" y="12920"/>
                  <a:pt x="3125" y="12923"/>
                </a:cubicBezTo>
                <a:cubicBezTo>
                  <a:pt x="3251" y="12927"/>
                  <a:pt x="3356" y="12922"/>
                  <a:pt x="3473" y="12874"/>
                </a:cubicBezTo>
                <a:cubicBezTo>
                  <a:pt x="3524" y="12853"/>
                  <a:pt x="3532" y="12817"/>
                  <a:pt x="3572" y="12774"/>
                </a:cubicBezTo>
                <a:cubicBezTo>
                  <a:pt x="3572" y="12750"/>
                  <a:pt x="3572" y="12742"/>
                  <a:pt x="3597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82800" y="5500800"/>
            <a:ext cx="44280" cy="71280"/>
          </a:xfrm>
          <a:custGeom>
            <a:avLst/>
            <a:gdLst/>
            <a:ahLst/>
            <a:rect l="l" t="t" r="r" b="b"/>
            <a:pathLst>
              <a:path w="125" h="199">
                <a:moveTo>
                  <a:pt x="2729" y="15329"/>
                </a:moveTo>
                <a:cubicBezTo>
                  <a:pt x="2729" y="15245"/>
                  <a:pt x="2717" y="15311"/>
                  <a:pt x="2729" y="15354"/>
                </a:cubicBezTo>
                <a:cubicBezTo>
                  <a:pt x="2743" y="15403"/>
                  <a:pt x="2840" y="15454"/>
                  <a:pt x="2853" y="15379"/>
                </a:cubicBezTo>
                <a:cubicBezTo>
                  <a:pt x="2853" y="15354"/>
                  <a:pt x="2853" y="15329"/>
                  <a:pt x="2853" y="15304"/>
                </a:cubicBezTo>
                <a:cubicBezTo>
                  <a:pt x="2817" y="15281"/>
                  <a:pt x="2776" y="15336"/>
                  <a:pt x="2803" y="15404"/>
                </a:cubicBezTo>
                <a:cubicBezTo>
                  <a:pt x="2811" y="15404"/>
                  <a:pt x="2820" y="15404"/>
                  <a:pt x="2828" y="15404"/>
                </a:cubicBezTo>
                <a:cubicBezTo>
                  <a:pt x="2836" y="15377"/>
                  <a:pt x="2854" y="15247"/>
                  <a:pt x="2778" y="15329"/>
                </a:cubicBezTo>
                <a:cubicBezTo>
                  <a:pt x="2701" y="15411"/>
                  <a:pt x="2716" y="15426"/>
                  <a:pt x="2778" y="15478"/>
                </a:cubicBezTo>
                <a:cubicBezTo>
                  <a:pt x="2821" y="15446"/>
                  <a:pt x="2829" y="15343"/>
                  <a:pt x="2803" y="15404"/>
                </a:cubicBezTo>
                <a:cubicBezTo>
                  <a:pt x="2787" y="15441"/>
                  <a:pt x="2806" y="15446"/>
                  <a:pt x="2828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9080" y="5724360"/>
            <a:ext cx="152640" cy="249480"/>
          </a:xfrm>
          <a:custGeom>
            <a:avLst/>
            <a:gdLst/>
            <a:ahLst/>
            <a:rect l="l" t="t" r="r" b="b"/>
            <a:pathLst>
              <a:path w="423" h="695">
                <a:moveTo>
                  <a:pt x="2977" y="15900"/>
                </a:moveTo>
                <a:cubicBezTo>
                  <a:pt x="2856" y="15917"/>
                  <a:pt x="2699" y="15968"/>
                  <a:pt x="2604" y="16049"/>
                </a:cubicBezTo>
                <a:cubicBezTo>
                  <a:pt x="2588" y="16074"/>
                  <a:pt x="2571" y="16098"/>
                  <a:pt x="2555" y="16123"/>
                </a:cubicBezTo>
                <a:cubicBezTo>
                  <a:pt x="2669" y="16174"/>
                  <a:pt x="3098" y="16266"/>
                  <a:pt x="2952" y="16470"/>
                </a:cubicBezTo>
                <a:cubicBezTo>
                  <a:pt x="2811" y="16565"/>
                  <a:pt x="2771" y="16597"/>
                  <a:pt x="2654" y="16594"/>
                </a:cubicBezTo>
                <a:cubicBezTo>
                  <a:pt x="2679" y="16406"/>
                  <a:pt x="2768" y="16252"/>
                  <a:pt x="2828" y="16073"/>
                </a:cubicBezTo>
                <a:cubicBezTo>
                  <a:pt x="2828" y="16065"/>
                  <a:pt x="2828" y="16057"/>
                  <a:pt x="2828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5724360"/>
            <a:ext cx="16992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3125" y="15900"/>
                </a:moveTo>
                <a:cubicBezTo>
                  <a:pt x="3256" y="15933"/>
                  <a:pt x="3576" y="16013"/>
                  <a:pt x="3522" y="16222"/>
                </a:cubicBezTo>
                <a:cubicBezTo>
                  <a:pt x="3473" y="16411"/>
                  <a:pt x="3245" y="16421"/>
                  <a:pt x="3101" y="16446"/>
                </a:cubicBezTo>
                <a:cubicBezTo>
                  <a:pt x="3130" y="16252"/>
                  <a:pt x="3238" y="16165"/>
                  <a:pt x="3448" y="16222"/>
                </a:cubicBezTo>
                <a:cubicBezTo>
                  <a:pt x="3565" y="16254"/>
                  <a:pt x="3502" y="16334"/>
                  <a:pt x="3572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634000"/>
            <a:ext cx="177840" cy="196920"/>
          </a:xfrm>
          <a:custGeom>
            <a:avLst/>
            <a:gdLst/>
            <a:ahLst/>
            <a:rect l="l" t="t" r="r" b="b"/>
            <a:pathLst>
              <a:path w="497" h="546">
                <a:moveTo>
                  <a:pt x="3696" y="15701"/>
                </a:moveTo>
                <a:cubicBezTo>
                  <a:pt x="3621" y="15795"/>
                  <a:pt x="3612" y="15831"/>
                  <a:pt x="3597" y="15949"/>
                </a:cubicBezTo>
                <a:cubicBezTo>
                  <a:pt x="3680" y="15971"/>
                  <a:pt x="3688" y="15811"/>
                  <a:pt x="3696" y="15726"/>
                </a:cubicBezTo>
                <a:cubicBezTo>
                  <a:pt x="3712" y="15558"/>
                  <a:pt x="4008" y="15658"/>
                  <a:pt x="4068" y="15751"/>
                </a:cubicBezTo>
                <a:cubicBezTo>
                  <a:pt x="4148" y="15876"/>
                  <a:pt x="4073" y="16117"/>
                  <a:pt x="3994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3720" y="4589640"/>
            <a:ext cx="250560" cy="125280"/>
          </a:xfrm>
          <a:custGeom>
            <a:avLst/>
            <a:gdLst/>
            <a:ahLst/>
            <a:rect l="l" t="t" r="r" b="b"/>
            <a:pathLst>
              <a:path w="695" h="348">
                <a:moveTo>
                  <a:pt x="9178" y="12874"/>
                </a:moveTo>
                <a:cubicBezTo>
                  <a:pt x="9178" y="12882"/>
                  <a:pt x="9178" y="12890"/>
                  <a:pt x="9178" y="12898"/>
                </a:cubicBezTo>
                <a:cubicBezTo>
                  <a:pt x="9216" y="12911"/>
                  <a:pt x="9203" y="12928"/>
                  <a:pt x="9203" y="12973"/>
                </a:cubicBezTo>
                <a:cubicBezTo>
                  <a:pt x="9225" y="12981"/>
                  <a:pt x="9250" y="13004"/>
                  <a:pt x="9277" y="13022"/>
                </a:cubicBezTo>
                <a:cubicBezTo>
                  <a:pt x="9312" y="13045"/>
                  <a:pt x="9357" y="13061"/>
                  <a:pt x="9401" y="13072"/>
                </a:cubicBezTo>
                <a:cubicBezTo>
                  <a:pt x="9440" y="13082"/>
                  <a:pt x="9486" y="13093"/>
                  <a:pt x="9525" y="13097"/>
                </a:cubicBezTo>
                <a:cubicBezTo>
                  <a:pt x="9605" y="13105"/>
                  <a:pt x="9682" y="13094"/>
                  <a:pt x="9748" y="13072"/>
                </a:cubicBezTo>
                <a:cubicBezTo>
                  <a:pt x="9773" y="13072"/>
                  <a:pt x="9781" y="13072"/>
                  <a:pt x="9798" y="13072"/>
                </a:cubicBezTo>
                <a:cubicBezTo>
                  <a:pt x="9810" y="13037"/>
                  <a:pt x="9842" y="13048"/>
                  <a:pt x="9847" y="12998"/>
                </a:cubicBezTo>
                <a:cubicBezTo>
                  <a:pt x="9847" y="12990"/>
                  <a:pt x="9847" y="12981"/>
                  <a:pt x="9847" y="12973"/>
                </a:cubicBezTo>
                <a:cubicBezTo>
                  <a:pt x="9885" y="12960"/>
                  <a:pt x="9872" y="12943"/>
                  <a:pt x="9872" y="12898"/>
                </a:cubicBezTo>
                <a:cubicBezTo>
                  <a:pt x="9872" y="12839"/>
                  <a:pt x="9877" y="12798"/>
                  <a:pt x="9847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3200" y="3537000"/>
            <a:ext cx="2992680" cy="106200"/>
          </a:xfrm>
          <a:custGeom>
            <a:avLst/>
            <a:gdLst/>
            <a:ahLst/>
            <a:rect l="l" t="t" r="r" b="b"/>
            <a:pathLst>
              <a:path w="8310" h="298">
                <a:moveTo>
                  <a:pt x="6871" y="9847"/>
                </a:moveTo>
                <a:cubicBezTo>
                  <a:pt x="6952" y="9841"/>
                  <a:pt x="7030" y="9811"/>
                  <a:pt x="7119" y="9823"/>
                </a:cubicBezTo>
                <a:cubicBezTo>
                  <a:pt x="7201" y="9834"/>
                  <a:pt x="7285" y="9858"/>
                  <a:pt x="7367" y="9872"/>
                </a:cubicBezTo>
                <a:cubicBezTo>
                  <a:pt x="7421" y="9881"/>
                  <a:pt x="7501" y="9910"/>
                  <a:pt x="7565" y="9922"/>
                </a:cubicBezTo>
                <a:cubicBezTo>
                  <a:pt x="7649" y="9938"/>
                  <a:pt x="7727" y="9935"/>
                  <a:pt x="7813" y="9947"/>
                </a:cubicBezTo>
                <a:cubicBezTo>
                  <a:pt x="7883" y="9957"/>
                  <a:pt x="7982" y="9984"/>
                  <a:pt x="8062" y="9996"/>
                </a:cubicBezTo>
                <a:cubicBezTo>
                  <a:pt x="8147" y="10009"/>
                  <a:pt x="8223" y="10016"/>
                  <a:pt x="8310" y="10021"/>
                </a:cubicBezTo>
                <a:cubicBezTo>
                  <a:pt x="8501" y="10032"/>
                  <a:pt x="8690" y="10037"/>
                  <a:pt x="8880" y="10046"/>
                </a:cubicBezTo>
                <a:cubicBezTo>
                  <a:pt x="9097" y="10056"/>
                  <a:pt x="9314" y="10031"/>
                  <a:pt x="9525" y="10021"/>
                </a:cubicBezTo>
                <a:cubicBezTo>
                  <a:pt x="9660" y="10015"/>
                  <a:pt x="9790" y="10029"/>
                  <a:pt x="9922" y="10046"/>
                </a:cubicBezTo>
                <a:cubicBezTo>
                  <a:pt x="10051" y="10062"/>
                  <a:pt x="10189" y="10089"/>
                  <a:pt x="10319" y="10096"/>
                </a:cubicBezTo>
                <a:cubicBezTo>
                  <a:pt x="10517" y="10106"/>
                  <a:pt x="10716" y="10112"/>
                  <a:pt x="10914" y="10120"/>
                </a:cubicBezTo>
                <a:cubicBezTo>
                  <a:pt x="11227" y="10132"/>
                  <a:pt x="11547" y="10122"/>
                  <a:pt x="11857" y="10096"/>
                </a:cubicBezTo>
                <a:cubicBezTo>
                  <a:pt x="11987" y="10085"/>
                  <a:pt x="12122" y="10082"/>
                  <a:pt x="12254" y="10071"/>
                </a:cubicBezTo>
                <a:cubicBezTo>
                  <a:pt x="12435" y="10056"/>
                  <a:pt x="12620" y="10043"/>
                  <a:pt x="12799" y="10021"/>
                </a:cubicBezTo>
                <a:cubicBezTo>
                  <a:pt x="12957" y="10002"/>
                  <a:pt x="13114" y="9989"/>
                  <a:pt x="13271" y="9971"/>
                </a:cubicBezTo>
                <a:cubicBezTo>
                  <a:pt x="13400" y="9956"/>
                  <a:pt x="13539" y="9929"/>
                  <a:pt x="13667" y="9922"/>
                </a:cubicBezTo>
                <a:cubicBezTo>
                  <a:pt x="13882" y="9911"/>
                  <a:pt x="14098" y="9901"/>
                  <a:pt x="14312" y="9897"/>
                </a:cubicBezTo>
                <a:cubicBezTo>
                  <a:pt x="14601" y="9892"/>
                  <a:pt x="14891" y="9897"/>
                  <a:pt x="15180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2193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ing from % to decimal means dividing by 100….shortcut….replace the % symbol with a decimal and move it 2 places to the le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 35%  = .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%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5%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44840" y="2786040"/>
            <a:ext cx="4259160" cy="473040"/>
          </a:xfrm>
          <a:custGeom>
            <a:avLst/>
            <a:gdLst/>
            <a:ahLst/>
            <a:rect l="l" t="t" r="r" b="b"/>
            <a:pathLst>
              <a:path w="11833" h="1316">
                <a:moveTo>
                  <a:pt x="7069" y="7739"/>
                </a:moveTo>
                <a:cubicBezTo>
                  <a:pt x="7069" y="7747"/>
                  <a:pt x="7069" y="7756"/>
                  <a:pt x="7069" y="7764"/>
                </a:cubicBezTo>
              </a:path>
              <a:path w="11833" h="1316">
                <a:moveTo>
                  <a:pt x="17661" y="9054"/>
                </a:moveTo>
                <a:lnTo>
                  <a:pt x="17661" y="9054"/>
                </a:lnTo>
              </a:path>
              <a:path w="11833" h="1316">
                <a:moveTo>
                  <a:pt x="18579" y="8483"/>
                </a:moveTo>
                <a:cubicBezTo>
                  <a:pt x="18736" y="8457"/>
                  <a:pt x="18793" y="8447"/>
                  <a:pt x="18901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2920" y="3490920"/>
            <a:ext cx="1728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3646" y="9699"/>
                </a:moveTo>
                <a:cubicBezTo>
                  <a:pt x="3671" y="9699"/>
                  <a:pt x="3679" y="9699"/>
                  <a:pt x="3696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62160" y="2598840"/>
            <a:ext cx="4591080" cy="696960"/>
          </a:xfrm>
          <a:custGeom>
            <a:avLst/>
            <a:gdLst/>
            <a:ahLst/>
            <a:rect l="l" t="t" r="r" b="b"/>
            <a:pathLst>
              <a:path w="12751" h="1936">
                <a:moveTo>
                  <a:pt x="8533" y="7789"/>
                </a:moveTo>
                <a:cubicBezTo>
                  <a:pt x="8540" y="7783"/>
                  <a:pt x="8478" y="7716"/>
                  <a:pt x="8558" y="7665"/>
                </a:cubicBezTo>
                <a:cubicBezTo>
                  <a:pt x="8740" y="7549"/>
                  <a:pt x="8972" y="7489"/>
                  <a:pt x="9178" y="7441"/>
                </a:cubicBezTo>
                <a:cubicBezTo>
                  <a:pt x="9513" y="7363"/>
                  <a:pt x="9884" y="7299"/>
                  <a:pt x="10220" y="7243"/>
                </a:cubicBezTo>
                <a:cubicBezTo>
                  <a:pt x="10383" y="7216"/>
                  <a:pt x="10509" y="7239"/>
                  <a:pt x="10666" y="7243"/>
                </a:cubicBezTo>
                <a:cubicBezTo>
                  <a:pt x="11056" y="7253"/>
                  <a:pt x="11443" y="7282"/>
                  <a:pt x="11832" y="7293"/>
                </a:cubicBezTo>
                <a:cubicBezTo>
                  <a:pt x="12322" y="7306"/>
                  <a:pt x="12808" y="7273"/>
                  <a:pt x="13295" y="7268"/>
                </a:cubicBezTo>
                <a:cubicBezTo>
                  <a:pt x="13516" y="7266"/>
                  <a:pt x="13721" y="7304"/>
                  <a:pt x="13940" y="7317"/>
                </a:cubicBezTo>
                <a:cubicBezTo>
                  <a:pt x="14359" y="7342"/>
                  <a:pt x="14783" y="7424"/>
                  <a:pt x="15205" y="7392"/>
                </a:cubicBezTo>
                <a:cubicBezTo>
                  <a:pt x="15488" y="7371"/>
                  <a:pt x="15765" y="7305"/>
                  <a:pt x="16049" y="7293"/>
                </a:cubicBezTo>
                <a:cubicBezTo>
                  <a:pt x="16322" y="7281"/>
                  <a:pt x="16596" y="7302"/>
                  <a:pt x="16867" y="7317"/>
                </a:cubicBezTo>
                <a:cubicBezTo>
                  <a:pt x="17091" y="7330"/>
                  <a:pt x="17312" y="7340"/>
                  <a:pt x="17537" y="7342"/>
                </a:cubicBezTo>
                <a:cubicBezTo>
                  <a:pt x="17960" y="7346"/>
                  <a:pt x="18384" y="7445"/>
                  <a:pt x="18802" y="7441"/>
                </a:cubicBezTo>
                <a:cubicBezTo>
                  <a:pt x="19025" y="7439"/>
                  <a:pt x="19250" y="7400"/>
                  <a:pt x="19472" y="7392"/>
                </a:cubicBezTo>
                <a:cubicBezTo>
                  <a:pt x="19664" y="7385"/>
                  <a:pt x="19851" y="7377"/>
                  <a:pt x="20042" y="7367"/>
                </a:cubicBezTo>
                <a:cubicBezTo>
                  <a:pt x="20100" y="7367"/>
                  <a:pt x="20108" y="7367"/>
                  <a:pt x="20141" y="7367"/>
                </a:cubicBezTo>
              </a:path>
              <a:path w="12751" h="1936">
                <a:moveTo>
                  <a:pt x="16247" y="8483"/>
                </a:moveTo>
                <a:cubicBezTo>
                  <a:pt x="16176" y="8447"/>
                  <a:pt x="16421" y="8376"/>
                  <a:pt x="16470" y="8359"/>
                </a:cubicBezTo>
                <a:cubicBezTo>
                  <a:pt x="16542" y="8538"/>
                  <a:pt x="16487" y="8624"/>
                  <a:pt x="16346" y="8756"/>
                </a:cubicBezTo>
                <a:cubicBezTo>
                  <a:pt x="16290" y="8808"/>
                  <a:pt x="16263" y="8830"/>
                  <a:pt x="16247" y="8781"/>
                </a:cubicBezTo>
                <a:cubicBezTo>
                  <a:pt x="16364" y="8763"/>
                  <a:pt x="16657" y="8698"/>
                  <a:pt x="16594" y="8930"/>
                </a:cubicBezTo>
                <a:cubicBezTo>
                  <a:pt x="16541" y="9125"/>
                  <a:pt x="16317" y="9180"/>
                  <a:pt x="16148" y="9128"/>
                </a:cubicBezTo>
                <a:cubicBezTo>
                  <a:pt x="16123" y="9103"/>
                  <a:pt x="16115" y="9095"/>
                  <a:pt x="16148" y="9079"/>
                </a:cubicBezTo>
              </a:path>
              <a:path w="12751" h="1936">
                <a:moveTo>
                  <a:pt x="17289" y="8334"/>
                </a:moveTo>
                <a:cubicBezTo>
                  <a:pt x="17180" y="8345"/>
                  <a:pt x="17078" y="8359"/>
                  <a:pt x="16966" y="8359"/>
                </a:cubicBezTo>
                <a:cubicBezTo>
                  <a:pt x="16880" y="8359"/>
                  <a:pt x="16894" y="8552"/>
                  <a:pt x="16892" y="8607"/>
                </a:cubicBezTo>
                <a:cubicBezTo>
                  <a:pt x="16892" y="8665"/>
                  <a:pt x="16892" y="8673"/>
                  <a:pt x="16892" y="8706"/>
                </a:cubicBezTo>
                <a:cubicBezTo>
                  <a:pt x="16959" y="8669"/>
                  <a:pt x="17012" y="8627"/>
                  <a:pt x="17090" y="8607"/>
                </a:cubicBezTo>
                <a:cubicBezTo>
                  <a:pt x="17227" y="8572"/>
                  <a:pt x="17426" y="8618"/>
                  <a:pt x="17388" y="8806"/>
                </a:cubicBezTo>
                <a:cubicBezTo>
                  <a:pt x="17355" y="8969"/>
                  <a:pt x="17177" y="9019"/>
                  <a:pt x="17041" y="9029"/>
                </a:cubicBezTo>
                <a:cubicBezTo>
                  <a:pt x="16991" y="9029"/>
                  <a:pt x="16975" y="9029"/>
                  <a:pt x="16942" y="9029"/>
                </a:cubicBezTo>
              </a:path>
              <a:path w="12751" h="1936">
                <a:moveTo>
                  <a:pt x="17562" y="9004"/>
                </a:moveTo>
                <a:cubicBezTo>
                  <a:pt x="17617" y="9004"/>
                  <a:pt x="17644" y="8987"/>
                  <a:pt x="17611" y="8954"/>
                </a:cubicBezTo>
                <a:cubicBezTo>
                  <a:pt x="17611" y="8969"/>
                  <a:pt x="17603" y="9081"/>
                  <a:pt x="17636" y="9004"/>
                </a:cubicBezTo>
                <a:cubicBezTo>
                  <a:pt x="17636" y="8979"/>
                  <a:pt x="17636" y="8971"/>
                  <a:pt x="17611" y="8979"/>
                </a:cubicBezTo>
                <a:cubicBezTo>
                  <a:pt x="17611" y="9046"/>
                  <a:pt x="17624" y="8996"/>
                  <a:pt x="17611" y="9029"/>
                </a:cubicBezTo>
                <a:cubicBezTo>
                  <a:pt x="17548" y="9188"/>
                  <a:pt x="17684" y="9004"/>
                  <a:pt x="17661" y="9004"/>
                </a:cubicBezTo>
                <a:cubicBezTo>
                  <a:pt x="17638" y="9027"/>
                  <a:pt x="17630" y="9031"/>
                  <a:pt x="17636" y="9054"/>
                </a:cubicBezTo>
              </a:path>
              <a:path w="12751" h="1936">
                <a:moveTo>
                  <a:pt x="15751" y="7789"/>
                </a:moveTo>
                <a:cubicBezTo>
                  <a:pt x="15612" y="7801"/>
                  <a:pt x="15601" y="7817"/>
                  <a:pt x="15528" y="7938"/>
                </a:cubicBezTo>
                <a:cubicBezTo>
                  <a:pt x="15600" y="7967"/>
                  <a:pt x="15855" y="7965"/>
                  <a:pt x="15825" y="8086"/>
                </a:cubicBezTo>
                <a:cubicBezTo>
                  <a:pt x="15776" y="8286"/>
                  <a:pt x="15575" y="8214"/>
                  <a:pt x="15478" y="8136"/>
                </a:cubicBezTo>
              </a:path>
              <a:path w="12751" h="1936">
                <a:moveTo>
                  <a:pt x="15652" y="7813"/>
                </a:moveTo>
                <a:cubicBezTo>
                  <a:pt x="15665" y="7963"/>
                  <a:pt x="15701" y="8109"/>
                  <a:pt x="15701" y="8260"/>
                </a:cubicBezTo>
              </a:path>
              <a:path w="12751" h="1936">
                <a:moveTo>
                  <a:pt x="17760" y="9054"/>
                </a:moveTo>
                <a:cubicBezTo>
                  <a:pt x="17724" y="9054"/>
                  <a:pt x="17719" y="9038"/>
                  <a:pt x="17686" y="9054"/>
                </a:cubicBezTo>
                <a:cubicBezTo>
                  <a:pt x="17622" y="9086"/>
                  <a:pt x="17729" y="9054"/>
                  <a:pt x="17636" y="9054"/>
                </a:cubicBezTo>
                <a:cubicBezTo>
                  <a:pt x="17628" y="9054"/>
                  <a:pt x="17619" y="9054"/>
                  <a:pt x="17611" y="9054"/>
                </a:cubicBezTo>
                <a:cubicBezTo>
                  <a:pt x="17635" y="9126"/>
                  <a:pt x="17647" y="9038"/>
                  <a:pt x="17636" y="9029"/>
                </a:cubicBezTo>
                <a:cubicBezTo>
                  <a:pt x="17601" y="9001"/>
                  <a:pt x="17590" y="9065"/>
                  <a:pt x="17587" y="9079"/>
                </a:cubicBezTo>
                <a:cubicBezTo>
                  <a:pt x="17639" y="9092"/>
                  <a:pt x="17762" y="9082"/>
                  <a:pt x="17711" y="8979"/>
                </a:cubicBezTo>
                <a:cubicBezTo>
                  <a:pt x="17680" y="8917"/>
                  <a:pt x="17633" y="9060"/>
                  <a:pt x="17661" y="9004"/>
                </a:cubicBezTo>
                <a:cubicBezTo>
                  <a:pt x="17684" y="8958"/>
                  <a:pt x="17641" y="8922"/>
                  <a:pt x="17611" y="9004"/>
                </a:cubicBezTo>
                <a:cubicBezTo>
                  <a:pt x="17591" y="9060"/>
                  <a:pt x="17632" y="8996"/>
                  <a:pt x="17636" y="8979"/>
                </a:cubicBezTo>
              </a:path>
              <a:path w="12751" h="1936">
                <a:moveTo>
                  <a:pt x="19893" y="8657"/>
                </a:moveTo>
                <a:cubicBezTo>
                  <a:pt x="19834" y="8678"/>
                  <a:pt x="19818" y="8762"/>
                  <a:pt x="19794" y="8830"/>
                </a:cubicBezTo>
                <a:cubicBezTo>
                  <a:pt x="19861" y="8864"/>
                  <a:pt x="20020" y="8816"/>
                  <a:pt x="19918" y="8731"/>
                </a:cubicBezTo>
                <a:cubicBezTo>
                  <a:pt x="19867" y="8731"/>
                  <a:pt x="19848" y="8732"/>
                  <a:pt x="19819" y="8756"/>
                </a:cubicBezTo>
              </a:path>
              <a:path w="12751" h="1936">
                <a:moveTo>
                  <a:pt x="20216" y="8310"/>
                </a:moveTo>
                <a:cubicBezTo>
                  <a:pt x="20302" y="8249"/>
                  <a:pt x="20411" y="8186"/>
                  <a:pt x="20489" y="8310"/>
                </a:cubicBezTo>
                <a:cubicBezTo>
                  <a:pt x="20564" y="8429"/>
                  <a:pt x="20416" y="8462"/>
                  <a:pt x="20340" y="8508"/>
                </a:cubicBezTo>
                <a:cubicBezTo>
                  <a:pt x="20279" y="8508"/>
                  <a:pt x="20556" y="8529"/>
                  <a:pt x="20563" y="8533"/>
                </a:cubicBezTo>
                <a:cubicBezTo>
                  <a:pt x="20580" y="8558"/>
                  <a:pt x="20596" y="8582"/>
                  <a:pt x="20613" y="8607"/>
                </a:cubicBezTo>
                <a:cubicBezTo>
                  <a:pt x="20486" y="8810"/>
                  <a:pt x="20444" y="8833"/>
                  <a:pt x="20216" y="8756"/>
                </a:cubicBezTo>
              </a:path>
              <a:path w="12751" h="1936">
                <a:moveTo>
                  <a:pt x="19273" y="8533"/>
                </a:moveTo>
                <a:cubicBezTo>
                  <a:pt x="19249" y="8749"/>
                  <a:pt x="19249" y="8784"/>
                  <a:pt x="19372" y="8954"/>
                </a:cubicBezTo>
                <a:cubicBezTo>
                  <a:pt x="19541" y="8876"/>
                  <a:pt x="19729" y="8750"/>
                  <a:pt x="19596" y="8533"/>
                </a:cubicBezTo>
                <a:cubicBezTo>
                  <a:pt x="19516" y="8402"/>
                  <a:pt x="19231" y="8498"/>
                  <a:pt x="19248" y="8657"/>
                </a:cubicBezTo>
                <a:cubicBezTo>
                  <a:pt x="19328" y="8763"/>
                  <a:pt x="19361" y="8796"/>
                  <a:pt x="19472" y="8756"/>
                </a:cubicBezTo>
              </a:path>
              <a:path w="12751" h="1936">
                <a:moveTo>
                  <a:pt x="21109" y="8086"/>
                </a:moveTo>
                <a:cubicBezTo>
                  <a:pt x="21015" y="8105"/>
                  <a:pt x="20935" y="8151"/>
                  <a:pt x="20836" y="8161"/>
                </a:cubicBezTo>
                <a:cubicBezTo>
                  <a:pt x="20788" y="8166"/>
                  <a:pt x="20834" y="8312"/>
                  <a:pt x="20836" y="8359"/>
                </a:cubicBezTo>
                <a:cubicBezTo>
                  <a:pt x="20836" y="8367"/>
                  <a:pt x="20836" y="8376"/>
                  <a:pt x="20836" y="8384"/>
                </a:cubicBezTo>
                <a:cubicBezTo>
                  <a:pt x="20946" y="8368"/>
                  <a:pt x="21129" y="8250"/>
                  <a:pt x="21233" y="8334"/>
                </a:cubicBezTo>
                <a:cubicBezTo>
                  <a:pt x="21489" y="8541"/>
                  <a:pt x="20851" y="8719"/>
                  <a:pt x="20811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41840" y="2990880"/>
            <a:ext cx="125280" cy="2160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10616" y="8310"/>
                </a:moveTo>
                <a:cubicBezTo>
                  <a:pt x="10539" y="8310"/>
                  <a:pt x="10477" y="8442"/>
                  <a:pt x="10443" y="8508"/>
                </a:cubicBezTo>
                <a:cubicBezTo>
                  <a:pt x="10391" y="8609"/>
                  <a:pt x="10352" y="8782"/>
                  <a:pt x="10443" y="8880"/>
                </a:cubicBezTo>
                <a:cubicBezTo>
                  <a:pt x="10538" y="8983"/>
                  <a:pt x="10661" y="8792"/>
                  <a:pt x="10691" y="8731"/>
                </a:cubicBezTo>
                <a:cubicBezTo>
                  <a:pt x="10765" y="8578"/>
                  <a:pt x="10779" y="8453"/>
                  <a:pt x="10616" y="8384"/>
                </a:cubicBezTo>
                <a:cubicBezTo>
                  <a:pt x="10552" y="8357"/>
                  <a:pt x="10520" y="8342"/>
                  <a:pt x="10492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7840" y="4037040"/>
            <a:ext cx="706320" cy="365040"/>
          </a:xfrm>
          <a:custGeom>
            <a:avLst/>
            <a:gdLst/>
            <a:ahLst/>
            <a:rect l="l" t="t" r="r" b="b"/>
            <a:pathLst>
              <a:path w="1961" h="1018">
                <a:moveTo>
                  <a:pt x="10815" y="12129"/>
                </a:moveTo>
                <a:cubicBezTo>
                  <a:pt x="10789" y="12053"/>
                  <a:pt x="10748" y="12174"/>
                  <a:pt x="10740" y="12204"/>
                </a:cubicBezTo>
                <a:cubicBezTo>
                  <a:pt x="10732" y="12234"/>
                  <a:pt x="10864" y="12231"/>
                  <a:pt x="10864" y="12105"/>
                </a:cubicBezTo>
                <a:cubicBezTo>
                  <a:pt x="10804" y="12081"/>
                  <a:pt x="10701" y="12197"/>
                  <a:pt x="10765" y="12204"/>
                </a:cubicBezTo>
                <a:cubicBezTo>
                  <a:pt x="10841" y="12212"/>
                  <a:pt x="10850" y="12128"/>
                  <a:pt x="10815" y="12105"/>
                </a:cubicBezTo>
              </a:path>
              <a:path w="1961" h="1018">
                <a:moveTo>
                  <a:pt x="10517" y="11509"/>
                </a:moveTo>
                <a:cubicBezTo>
                  <a:pt x="10474" y="11488"/>
                  <a:pt x="10462" y="11484"/>
                  <a:pt x="10443" y="11460"/>
                </a:cubicBezTo>
                <a:cubicBezTo>
                  <a:pt x="10326" y="11591"/>
                  <a:pt x="10271" y="11844"/>
                  <a:pt x="10244" y="12030"/>
                </a:cubicBezTo>
                <a:cubicBezTo>
                  <a:pt x="10244" y="12071"/>
                  <a:pt x="10244" y="12113"/>
                  <a:pt x="10244" y="12154"/>
                </a:cubicBezTo>
                <a:cubicBezTo>
                  <a:pt x="10452" y="12123"/>
                  <a:pt x="10553" y="11998"/>
                  <a:pt x="10592" y="11782"/>
                </a:cubicBezTo>
                <a:cubicBezTo>
                  <a:pt x="10614" y="11657"/>
                  <a:pt x="10294" y="11540"/>
                  <a:pt x="10418" y="11509"/>
                </a:cubicBezTo>
                <a:cubicBezTo>
                  <a:pt x="10435" y="11509"/>
                  <a:pt x="10451" y="11509"/>
                  <a:pt x="10468" y="11509"/>
                </a:cubicBezTo>
              </a:path>
              <a:path w="1961" h="1018">
                <a:moveTo>
                  <a:pt x="11385" y="11410"/>
                </a:moveTo>
                <a:cubicBezTo>
                  <a:pt x="11353" y="11309"/>
                  <a:pt x="11248" y="11509"/>
                  <a:pt x="11212" y="11609"/>
                </a:cubicBezTo>
                <a:cubicBezTo>
                  <a:pt x="11139" y="11810"/>
                  <a:pt x="11129" y="11901"/>
                  <a:pt x="11212" y="12055"/>
                </a:cubicBezTo>
                <a:cubicBezTo>
                  <a:pt x="11426" y="11983"/>
                  <a:pt x="11595" y="11801"/>
                  <a:pt x="11485" y="11534"/>
                </a:cubicBezTo>
                <a:cubicBezTo>
                  <a:pt x="11446" y="11439"/>
                  <a:pt x="11301" y="11475"/>
                  <a:pt x="11237" y="11485"/>
                </a:cubicBezTo>
              </a:path>
              <a:path w="1961" h="1018">
                <a:moveTo>
                  <a:pt x="12204" y="11212"/>
                </a:moveTo>
                <a:cubicBezTo>
                  <a:pt x="12002" y="11226"/>
                  <a:pt x="11805" y="11280"/>
                  <a:pt x="11708" y="11485"/>
                </a:cubicBezTo>
                <a:cubicBezTo>
                  <a:pt x="11639" y="11631"/>
                  <a:pt x="11993" y="11770"/>
                  <a:pt x="12080" y="11832"/>
                </a:cubicBezTo>
                <a:cubicBezTo>
                  <a:pt x="12080" y="11865"/>
                  <a:pt x="12080" y="11898"/>
                  <a:pt x="12080" y="11931"/>
                </a:cubicBezTo>
                <a:cubicBezTo>
                  <a:pt x="11904" y="11994"/>
                  <a:pt x="11789" y="12012"/>
                  <a:pt x="11857" y="11757"/>
                </a:cubicBezTo>
                <a:cubicBezTo>
                  <a:pt x="11864" y="11730"/>
                  <a:pt x="12068" y="11239"/>
                  <a:pt x="12005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5920" y="4510080"/>
            <a:ext cx="7920" cy="27000"/>
          </a:xfrm>
          <a:custGeom>
            <a:avLst/>
            <a:gdLst/>
            <a:ahLst/>
            <a:rect l="l" t="t" r="r" b="b"/>
            <a:pathLst>
              <a:path w="25" h="76">
                <a:moveTo>
                  <a:pt x="16594" y="12551"/>
                </a:moveTo>
                <a:lnTo>
                  <a:pt x="16594" y="12551"/>
                </a:lnTo>
              </a:path>
              <a:path w="25" h="76">
                <a:moveTo>
                  <a:pt x="16570" y="12526"/>
                </a:moveTo>
                <a:cubicBezTo>
                  <a:pt x="16570" y="12551"/>
                  <a:pt x="16570" y="12559"/>
                  <a:pt x="16594" y="12551"/>
                </a:cubicBezTo>
              </a:path>
              <a:path w="25" h="76">
                <a:moveTo>
                  <a:pt x="16594" y="12601"/>
                </a:moveTo>
                <a:lnTo>
                  <a:pt x="16594" y="1260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60840" y="5187960"/>
            <a:ext cx="812880" cy="322200"/>
          </a:xfrm>
          <a:custGeom>
            <a:avLst/>
            <a:gdLst/>
            <a:ahLst/>
            <a:rect l="l" t="t" r="r" b="b"/>
            <a:pathLst>
              <a:path w="2258" h="893">
                <a:moveTo>
                  <a:pt x="10468" y="14660"/>
                </a:moveTo>
                <a:cubicBezTo>
                  <a:pt x="10468" y="14671"/>
                  <a:pt x="10559" y="14544"/>
                  <a:pt x="10716" y="14536"/>
                </a:cubicBezTo>
                <a:cubicBezTo>
                  <a:pt x="10773" y="14850"/>
                  <a:pt x="10733" y="15146"/>
                  <a:pt x="10393" y="15304"/>
                </a:cubicBezTo>
                <a:cubicBezTo>
                  <a:pt x="10259" y="15304"/>
                  <a:pt x="10220" y="15314"/>
                  <a:pt x="10170" y="15230"/>
                </a:cubicBezTo>
                <a:cubicBezTo>
                  <a:pt x="10259" y="15031"/>
                  <a:pt x="10394" y="14934"/>
                  <a:pt x="10616" y="15081"/>
                </a:cubicBezTo>
                <a:cubicBezTo>
                  <a:pt x="10725" y="15153"/>
                  <a:pt x="10712" y="15211"/>
                  <a:pt x="10765" y="15304"/>
                </a:cubicBezTo>
              </a:path>
              <a:path w="2258" h="893">
                <a:moveTo>
                  <a:pt x="11063" y="15032"/>
                </a:moveTo>
                <a:cubicBezTo>
                  <a:pt x="11063" y="15090"/>
                  <a:pt x="11063" y="15098"/>
                  <a:pt x="11063" y="15131"/>
                </a:cubicBezTo>
                <a:cubicBezTo>
                  <a:pt x="11128" y="15109"/>
                  <a:pt x="11148" y="15025"/>
                  <a:pt x="11038" y="15081"/>
                </a:cubicBezTo>
                <a:cubicBezTo>
                  <a:pt x="11015" y="15104"/>
                  <a:pt x="11004" y="15112"/>
                  <a:pt x="11038" y="15106"/>
                </a:cubicBezTo>
              </a:path>
              <a:path w="2258" h="893">
                <a:moveTo>
                  <a:pt x="11460" y="14536"/>
                </a:moveTo>
                <a:cubicBezTo>
                  <a:pt x="11478" y="14463"/>
                  <a:pt x="11645" y="14420"/>
                  <a:pt x="11708" y="14461"/>
                </a:cubicBezTo>
                <a:cubicBezTo>
                  <a:pt x="11817" y="14531"/>
                  <a:pt x="11669" y="14649"/>
                  <a:pt x="11633" y="14684"/>
                </a:cubicBezTo>
                <a:cubicBezTo>
                  <a:pt x="11654" y="14747"/>
                  <a:pt x="11718" y="14670"/>
                  <a:pt x="11782" y="14734"/>
                </a:cubicBezTo>
                <a:cubicBezTo>
                  <a:pt x="11943" y="14895"/>
                  <a:pt x="11728" y="15048"/>
                  <a:pt x="11584" y="15081"/>
                </a:cubicBezTo>
                <a:cubicBezTo>
                  <a:pt x="11506" y="15081"/>
                  <a:pt x="11488" y="15096"/>
                  <a:pt x="11460" y="15056"/>
                </a:cubicBezTo>
              </a:path>
              <a:path w="2258" h="893">
                <a:moveTo>
                  <a:pt x="12179" y="14412"/>
                </a:moveTo>
                <a:cubicBezTo>
                  <a:pt x="11987" y="14441"/>
                  <a:pt x="11969" y="14399"/>
                  <a:pt x="11931" y="14585"/>
                </a:cubicBezTo>
                <a:cubicBezTo>
                  <a:pt x="11911" y="14684"/>
                  <a:pt x="11903" y="14700"/>
                  <a:pt x="11906" y="14759"/>
                </a:cubicBezTo>
                <a:cubicBezTo>
                  <a:pt x="11991" y="14725"/>
                  <a:pt x="12068" y="14635"/>
                  <a:pt x="12179" y="14635"/>
                </a:cubicBezTo>
                <a:cubicBezTo>
                  <a:pt x="12375" y="14635"/>
                  <a:pt x="12539" y="14797"/>
                  <a:pt x="12378" y="14982"/>
                </a:cubicBezTo>
                <a:cubicBezTo>
                  <a:pt x="12305" y="15066"/>
                  <a:pt x="12151" y="15051"/>
                  <a:pt x="12055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3040" y="542916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7562" y="15081"/>
                </a:moveTo>
                <a:cubicBezTo>
                  <a:pt x="17562" y="15089"/>
                  <a:pt x="17562" y="15098"/>
                  <a:pt x="17562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59720" y="955800"/>
            <a:ext cx="1295280" cy="268200"/>
          </a:xfrm>
          <a:custGeom>
            <a:avLst/>
            <a:gdLst/>
            <a:ahLst/>
            <a:rect l="l" t="t" r="r" b="b"/>
            <a:pathLst>
              <a:path w="3598" h="745">
                <a:moveTo>
                  <a:pt x="19174" y="2753"/>
                </a:moveTo>
                <a:cubicBezTo>
                  <a:pt x="18997" y="2737"/>
                  <a:pt x="18869" y="2906"/>
                  <a:pt x="18802" y="3076"/>
                </a:cubicBezTo>
                <a:cubicBezTo>
                  <a:pt x="18794" y="3126"/>
                  <a:pt x="18785" y="3175"/>
                  <a:pt x="18777" y="3225"/>
                </a:cubicBezTo>
                <a:cubicBezTo>
                  <a:pt x="18985" y="3359"/>
                  <a:pt x="19238" y="3321"/>
                  <a:pt x="19298" y="3001"/>
                </a:cubicBezTo>
                <a:cubicBezTo>
                  <a:pt x="19339" y="2784"/>
                  <a:pt x="19024" y="2756"/>
                  <a:pt x="19025" y="2853"/>
                </a:cubicBezTo>
                <a:cubicBezTo>
                  <a:pt x="19042" y="2853"/>
                  <a:pt x="19058" y="2853"/>
                  <a:pt x="19075" y="2853"/>
                </a:cubicBezTo>
              </a:path>
              <a:path w="3598" h="745">
                <a:moveTo>
                  <a:pt x="19596" y="2679"/>
                </a:moveTo>
                <a:cubicBezTo>
                  <a:pt x="19408" y="2706"/>
                  <a:pt x="19268" y="2799"/>
                  <a:pt x="19323" y="3026"/>
                </a:cubicBezTo>
                <a:cubicBezTo>
                  <a:pt x="19393" y="3314"/>
                  <a:pt x="19718" y="3187"/>
                  <a:pt x="19819" y="3001"/>
                </a:cubicBezTo>
                <a:cubicBezTo>
                  <a:pt x="19827" y="2952"/>
                  <a:pt x="19836" y="2902"/>
                  <a:pt x="19844" y="2853"/>
                </a:cubicBezTo>
                <a:cubicBezTo>
                  <a:pt x="19675" y="2695"/>
                  <a:pt x="19613" y="2690"/>
                  <a:pt x="19397" y="2778"/>
                </a:cubicBezTo>
              </a:path>
              <a:path w="3598" h="745">
                <a:moveTo>
                  <a:pt x="20042" y="3051"/>
                </a:moveTo>
                <a:cubicBezTo>
                  <a:pt x="20088" y="3128"/>
                  <a:pt x="20119" y="3024"/>
                  <a:pt x="20092" y="3051"/>
                </a:cubicBezTo>
                <a:cubicBezTo>
                  <a:pt x="20052" y="3120"/>
                  <a:pt x="20023" y="3112"/>
                  <a:pt x="20092" y="3125"/>
                </a:cubicBezTo>
              </a:path>
              <a:path w="3598" h="745">
                <a:moveTo>
                  <a:pt x="20910" y="2704"/>
                </a:moveTo>
                <a:cubicBezTo>
                  <a:pt x="20775" y="2766"/>
                  <a:pt x="20577" y="2785"/>
                  <a:pt x="20538" y="2977"/>
                </a:cubicBezTo>
                <a:cubicBezTo>
                  <a:pt x="20546" y="3018"/>
                  <a:pt x="20555" y="3060"/>
                  <a:pt x="20563" y="3101"/>
                </a:cubicBezTo>
                <a:cubicBezTo>
                  <a:pt x="20692" y="3121"/>
                  <a:pt x="21214" y="3115"/>
                  <a:pt x="21059" y="2803"/>
                </a:cubicBezTo>
                <a:cubicBezTo>
                  <a:pt x="20996" y="2676"/>
                  <a:pt x="20734" y="2830"/>
                  <a:pt x="20737" y="2753"/>
                </a:cubicBezTo>
              </a:path>
              <a:path w="3598" h="745">
                <a:moveTo>
                  <a:pt x="21282" y="2679"/>
                </a:moveTo>
                <a:cubicBezTo>
                  <a:pt x="21210" y="2802"/>
                  <a:pt x="21155" y="2894"/>
                  <a:pt x="21109" y="3026"/>
                </a:cubicBezTo>
                <a:cubicBezTo>
                  <a:pt x="21215" y="3038"/>
                  <a:pt x="21671" y="2990"/>
                  <a:pt x="21580" y="2778"/>
                </a:cubicBezTo>
                <a:cubicBezTo>
                  <a:pt x="21531" y="2665"/>
                  <a:pt x="21263" y="2739"/>
                  <a:pt x="21183" y="2753"/>
                </a:cubicBezTo>
              </a:path>
              <a:path w="3598" h="745">
                <a:moveTo>
                  <a:pt x="21927" y="2679"/>
                </a:moveTo>
                <a:cubicBezTo>
                  <a:pt x="21807" y="2800"/>
                  <a:pt x="21767" y="2839"/>
                  <a:pt x="21779" y="3001"/>
                </a:cubicBezTo>
                <a:cubicBezTo>
                  <a:pt x="21888" y="2984"/>
                  <a:pt x="22351" y="2914"/>
                  <a:pt x="22299" y="2704"/>
                </a:cubicBezTo>
                <a:cubicBezTo>
                  <a:pt x="22197" y="2635"/>
                  <a:pt x="22142" y="2632"/>
                  <a:pt x="22051" y="2729"/>
                </a:cubicBezTo>
              </a:path>
              <a:path w="3598" h="745">
                <a:moveTo>
                  <a:pt x="20538" y="3398"/>
                </a:moveTo>
                <a:cubicBezTo>
                  <a:pt x="20679" y="3387"/>
                  <a:pt x="20818" y="3365"/>
                  <a:pt x="20960" y="3349"/>
                </a:cubicBezTo>
                <a:cubicBezTo>
                  <a:pt x="21324" y="3308"/>
                  <a:pt x="21687" y="3266"/>
                  <a:pt x="22051" y="3225"/>
                </a:cubicBezTo>
                <a:cubicBezTo>
                  <a:pt x="22108" y="3219"/>
                  <a:pt x="22316" y="3163"/>
                  <a:pt x="22374" y="3175"/>
                </a:cubicBezTo>
                <a:cubicBezTo>
                  <a:pt x="22374" y="3183"/>
                  <a:pt x="22374" y="3192"/>
                  <a:pt x="22374" y="3200"/>
                </a:cubicBezTo>
              </a:path>
              <a:path w="3598" h="745">
                <a:moveTo>
                  <a:pt x="20216" y="3125"/>
                </a:moveTo>
                <a:cubicBezTo>
                  <a:pt x="20238" y="3038"/>
                  <a:pt x="20126" y="3082"/>
                  <a:pt x="20092" y="3150"/>
                </a:cubicBezTo>
                <a:cubicBezTo>
                  <a:pt x="20092" y="3175"/>
                  <a:pt x="20092" y="3183"/>
                  <a:pt x="20092" y="3200"/>
                </a:cubicBezTo>
                <a:cubicBezTo>
                  <a:pt x="20133" y="3200"/>
                  <a:pt x="20190" y="3184"/>
                  <a:pt x="20166" y="3125"/>
                </a:cubicBezTo>
                <a:cubicBezTo>
                  <a:pt x="20131" y="3039"/>
                  <a:pt x="20055" y="3143"/>
                  <a:pt x="20042" y="3175"/>
                </a:cubicBezTo>
                <a:cubicBezTo>
                  <a:pt x="20119" y="3192"/>
                  <a:pt x="20166" y="3177"/>
                  <a:pt x="20117" y="3101"/>
                </a:cubicBezTo>
                <a:cubicBezTo>
                  <a:pt x="20049" y="3101"/>
                  <a:pt x="20041" y="3171"/>
                  <a:pt x="20117" y="3150"/>
                </a:cubicBezTo>
                <a:cubicBezTo>
                  <a:pt x="20260" y="3110"/>
                  <a:pt x="20056" y="3043"/>
                  <a:pt x="20117" y="3150"/>
                </a:cubicBezTo>
                <a:cubicBezTo>
                  <a:pt x="20125" y="3150"/>
                  <a:pt x="20133" y="3150"/>
                  <a:pt x="20141" y="3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53160" y="2946240"/>
            <a:ext cx="150840" cy="9720"/>
          </a:xfrm>
          <a:custGeom>
            <a:avLst/>
            <a:gdLst/>
            <a:ahLst/>
            <a:rect l="l" t="t" r="r" b="b"/>
            <a:pathLst>
              <a:path w="423" h="25">
                <a:moveTo>
                  <a:pt x="18479" y="8210"/>
                </a:moveTo>
                <a:cubicBezTo>
                  <a:pt x="18624" y="8210"/>
                  <a:pt x="18761" y="8215"/>
                  <a:pt x="18901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6080" y="3268800"/>
            <a:ext cx="758880" cy="241200"/>
          </a:xfrm>
          <a:custGeom>
            <a:avLst/>
            <a:gdLst/>
            <a:ahLst/>
            <a:rect l="l" t="t" r="r" b="b"/>
            <a:pathLst>
              <a:path w="2109" h="670">
                <a:moveTo>
                  <a:pt x="17686" y="9128"/>
                </a:moveTo>
                <a:cubicBezTo>
                  <a:pt x="17709" y="9094"/>
                  <a:pt x="17717" y="9097"/>
                  <a:pt x="17735" y="9079"/>
                </a:cubicBezTo>
                <a:cubicBezTo>
                  <a:pt x="17735" y="9157"/>
                  <a:pt x="17759" y="9284"/>
                  <a:pt x="17711" y="9351"/>
                </a:cubicBezTo>
                <a:cubicBezTo>
                  <a:pt x="17671" y="9406"/>
                  <a:pt x="17597" y="9470"/>
                  <a:pt x="17537" y="9500"/>
                </a:cubicBezTo>
                <a:cubicBezTo>
                  <a:pt x="17482" y="9527"/>
                  <a:pt x="17395" y="9547"/>
                  <a:pt x="17338" y="9550"/>
                </a:cubicBezTo>
                <a:cubicBezTo>
                  <a:pt x="17276" y="9553"/>
                  <a:pt x="17234" y="9572"/>
                  <a:pt x="17165" y="9575"/>
                </a:cubicBezTo>
                <a:cubicBezTo>
                  <a:pt x="17121" y="9577"/>
                  <a:pt x="17098" y="9582"/>
                  <a:pt x="17066" y="9550"/>
                </a:cubicBezTo>
                <a:cubicBezTo>
                  <a:pt x="17030" y="9514"/>
                  <a:pt x="16989" y="9476"/>
                  <a:pt x="16966" y="9426"/>
                </a:cubicBezTo>
                <a:cubicBezTo>
                  <a:pt x="16946" y="9381"/>
                  <a:pt x="16940" y="9325"/>
                  <a:pt x="16917" y="9277"/>
                </a:cubicBezTo>
                <a:cubicBezTo>
                  <a:pt x="16894" y="9254"/>
                  <a:pt x="16886" y="9250"/>
                  <a:pt x="16892" y="9227"/>
                </a:cubicBezTo>
                <a:cubicBezTo>
                  <a:pt x="16868" y="9297"/>
                  <a:pt x="16849" y="9380"/>
                  <a:pt x="16818" y="9451"/>
                </a:cubicBezTo>
                <a:cubicBezTo>
                  <a:pt x="16755" y="9595"/>
                  <a:pt x="16663" y="9723"/>
                  <a:pt x="16495" y="9748"/>
                </a:cubicBezTo>
                <a:cubicBezTo>
                  <a:pt x="16360" y="9768"/>
                  <a:pt x="16178" y="9762"/>
                  <a:pt x="16049" y="9723"/>
                </a:cubicBezTo>
                <a:cubicBezTo>
                  <a:pt x="15943" y="9691"/>
                  <a:pt x="15886" y="9668"/>
                  <a:pt x="15825" y="9575"/>
                </a:cubicBezTo>
                <a:cubicBezTo>
                  <a:pt x="15780" y="9508"/>
                  <a:pt x="15739" y="9429"/>
                  <a:pt x="15726" y="9351"/>
                </a:cubicBezTo>
                <a:cubicBezTo>
                  <a:pt x="15716" y="9291"/>
                  <a:pt x="15673" y="9232"/>
                  <a:pt x="15701" y="9178"/>
                </a:cubicBezTo>
                <a:cubicBezTo>
                  <a:pt x="15712" y="9156"/>
                  <a:pt x="15712" y="9199"/>
                  <a:pt x="15726" y="9178"/>
                </a:cubicBezTo>
                <a:cubicBezTo>
                  <a:pt x="15641" y="9153"/>
                  <a:pt x="15650" y="9138"/>
                  <a:pt x="15627" y="9252"/>
                </a:cubicBezTo>
                <a:cubicBezTo>
                  <a:pt x="15605" y="9363"/>
                  <a:pt x="15756" y="9275"/>
                  <a:pt x="15776" y="9227"/>
                </a:cubicBezTo>
                <a:cubicBezTo>
                  <a:pt x="15821" y="9116"/>
                  <a:pt x="15701" y="9099"/>
                  <a:pt x="15652" y="9178"/>
                </a:cubicBezTo>
                <a:cubicBezTo>
                  <a:pt x="15565" y="9319"/>
                  <a:pt x="15693" y="9247"/>
                  <a:pt x="15751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75160" y="4098960"/>
            <a:ext cx="608040" cy="509400"/>
          </a:xfrm>
          <a:custGeom>
            <a:avLst/>
            <a:gdLst/>
            <a:ahLst/>
            <a:rect l="l" t="t" r="r" b="b"/>
            <a:pathLst>
              <a:path w="1688" h="1415">
                <a:moveTo>
                  <a:pt x="16321" y="11385"/>
                </a:moveTo>
                <a:cubicBezTo>
                  <a:pt x="16159" y="11413"/>
                  <a:pt x="15966" y="11516"/>
                  <a:pt x="15850" y="11633"/>
                </a:cubicBezTo>
                <a:cubicBezTo>
                  <a:pt x="15834" y="11666"/>
                  <a:pt x="15817" y="11700"/>
                  <a:pt x="15801" y="11733"/>
                </a:cubicBezTo>
                <a:cubicBezTo>
                  <a:pt x="15902" y="11841"/>
                  <a:pt x="16282" y="11939"/>
                  <a:pt x="16272" y="12129"/>
                </a:cubicBezTo>
                <a:cubicBezTo>
                  <a:pt x="16247" y="12162"/>
                  <a:pt x="16222" y="12196"/>
                  <a:pt x="16197" y="12229"/>
                </a:cubicBezTo>
                <a:cubicBezTo>
                  <a:pt x="16015" y="12201"/>
                  <a:pt x="15999" y="12068"/>
                  <a:pt x="16073" y="11881"/>
                </a:cubicBezTo>
                <a:cubicBezTo>
                  <a:pt x="16127" y="11744"/>
                  <a:pt x="16200" y="11627"/>
                  <a:pt x="16247" y="11485"/>
                </a:cubicBezTo>
              </a:path>
              <a:path w="1688" h="1415">
                <a:moveTo>
                  <a:pt x="16594" y="12229"/>
                </a:moveTo>
                <a:cubicBezTo>
                  <a:pt x="16648" y="12211"/>
                  <a:pt x="16608" y="12204"/>
                  <a:pt x="16570" y="12204"/>
                </a:cubicBezTo>
                <a:cubicBezTo>
                  <a:pt x="16537" y="12204"/>
                  <a:pt x="16528" y="12212"/>
                  <a:pt x="16545" y="12254"/>
                </a:cubicBezTo>
                <a:cubicBezTo>
                  <a:pt x="16553" y="12261"/>
                  <a:pt x="16645" y="12181"/>
                  <a:pt x="16619" y="12129"/>
                </a:cubicBezTo>
                <a:cubicBezTo>
                  <a:pt x="16611" y="12129"/>
                  <a:pt x="16602" y="12129"/>
                  <a:pt x="16594" y="12129"/>
                </a:cubicBezTo>
                <a:cubicBezTo>
                  <a:pt x="16534" y="12139"/>
                  <a:pt x="16522" y="12162"/>
                  <a:pt x="16495" y="12229"/>
                </a:cubicBezTo>
                <a:cubicBezTo>
                  <a:pt x="16530" y="12220"/>
                  <a:pt x="16613" y="12132"/>
                  <a:pt x="16545" y="12229"/>
                </a:cubicBezTo>
                <a:cubicBezTo>
                  <a:pt x="16537" y="12237"/>
                  <a:pt x="16528" y="12246"/>
                  <a:pt x="16520" y="12254"/>
                </a:cubicBezTo>
              </a:path>
              <a:path w="1688" h="1415">
                <a:moveTo>
                  <a:pt x="16594" y="12551"/>
                </a:moveTo>
                <a:cubicBezTo>
                  <a:pt x="16594" y="12576"/>
                  <a:pt x="16594" y="12584"/>
                  <a:pt x="16594" y="12601"/>
                </a:cubicBezTo>
              </a:path>
              <a:path w="1688" h="1415">
                <a:moveTo>
                  <a:pt x="16570" y="12626"/>
                </a:moveTo>
                <a:cubicBezTo>
                  <a:pt x="16551" y="12663"/>
                  <a:pt x="16515" y="12740"/>
                  <a:pt x="16495" y="12750"/>
                </a:cubicBezTo>
                <a:cubicBezTo>
                  <a:pt x="16450" y="12774"/>
                  <a:pt x="16393" y="12760"/>
                  <a:pt x="16346" y="12774"/>
                </a:cubicBezTo>
                <a:cubicBezTo>
                  <a:pt x="16270" y="12796"/>
                  <a:pt x="16226" y="12777"/>
                  <a:pt x="16148" y="12750"/>
                </a:cubicBezTo>
                <a:cubicBezTo>
                  <a:pt x="16104" y="12735"/>
                  <a:pt x="16062" y="12687"/>
                  <a:pt x="16024" y="12675"/>
                </a:cubicBezTo>
                <a:cubicBezTo>
                  <a:pt x="15961" y="12655"/>
                  <a:pt x="15981" y="12664"/>
                  <a:pt x="15925" y="12626"/>
                </a:cubicBezTo>
                <a:cubicBezTo>
                  <a:pt x="15895" y="12605"/>
                  <a:pt x="15881" y="12535"/>
                  <a:pt x="15875" y="12502"/>
                </a:cubicBezTo>
                <a:cubicBezTo>
                  <a:pt x="15870" y="12472"/>
                  <a:pt x="15848" y="12401"/>
                  <a:pt x="15850" y="12378"/>
                </a:cubicBezTo>
                <a:cubicBezTo>
                  <a:pt x="15854" y="12337"/>
                  <a:pt x="15881" y="12300"/>
                  <a:pt x="15850" y="12353"/>
                </a:cubicBezTo>
                <a:cubicBezTo>
                  <a:pt x="15828" y="12391"/>
                  <a:pt x="15811" y="12438"/>
                  <a:pt x="15776" y="12477"/>
                </a:cubicBezTo>
                <a:cubicBezTo>
                  <a:pt x="15728" y="12531"/>
                  <a:pt x="15643" y="12553"/>
                  <a:pt x="15577" y="12576"/>
                </a:cubicBezTo>
                <a:cubicBezTo>
                  <a:pt x="15536" y="12590"/>
                  <a:pt x="15495" y="12592"/>
                  <a:pt x="15453" y="12601"/>
                </a:cubicBezTo>
                <a:cubicBezTo>
                  <a:pt x="15410" y="12610"/>
                  <a:pt x="15359" y="12626"/>
                  <a:pt x="15304" y="12626"/>
                </a:cubicBezTo>
                <a:cubicBezTo>
                  <a:pt x="15224" y="12626"/>
                  <a:pt x="15220" y="12634"/>
                  <a:pt x="15180" y="12576"/>
                </a:cubicBezTo>
                <a:cubicBezTo>
                  <a:pt x="15161" y="12549"/>
                  <a:pt x="15169" y="12506"/>
                  <a:pt x="15156" y="12477"/>
                </a:cubicBezTo>
                <a:cubicBezTo>
                  <a:pt x="15128" y="12416"/>
                  <a:pt x="15093" y="12376"/>
                  <a:pt x="15081" y="12303"/>
                </a:cubicBezTo>
                <a:cubicBezTo>
                  <a:pt x="15071" y="12243"/>
                  <a:pt x="15069" y="12263"/>
                  <a:pt x="15032" y="12229"/>
                </a:cubicBezTo>
                <a:cubicBezTo>
                  <a:pt x="14993" y="12193"/>
                  <a:pt x="14965" y="12264"/>
                  <a:pt x="14957" y="12328"/>
                </a:cubicBezTo>
                <a:cubicBezTo>
                  <a:pt x="14965" y="12336"/>
                  <a:pt x="14974" y="12345"/>
                  <a:pt x="14982" y="12353"/>
                </a:cubicBezTo>
                <a:cubicBezTo>
                  <a:pt x="15036" y="12299"/>
                  <a:pt x="15060" y="12268"/>
                  <a:pt x="15081" y="12204"/>
                </a:cubicBezTo>
                <a:cubicBezTo>
                  <a:pt x="14973" y="12204"/>
                  <a:pt x="14964" y="12337"/>
                  <a:pt x="15032" y="12303"/>
                </a:cubicBezTo>
                <a:cubicBezTo>
                  <a:pt x="15098" y="12270"/>
                  <a:pt x="15086" y="12209"/>
                  <a:pt x="15106" y="12154"/>
                </a:cubicBezTo>
                <a:cubicBezTo>
                  <a:pt x="14975" y="12125"/>
                  <a:pt x="14958" y="12172"/>
                  <a:pt x="14932" y="12303"/>
                </a:cubicBezTo>
                <a:cubicBezTo>
                  <a:pt x="14997" y="12289"/>
                  <a:pt x="15139" y="12233"/>
                  <a:pt x="15081" y="12129"/>
                </a:cubicBezTo>
                <a:cubicBezTo>
                  <a:pt x="15034" y="12044"/>
                  <a:pt x="14969" y="12210"/>
                  <a:pt x="14957" y="12229"/>
                </a:cubicBezTo>
                <a:cubicBezTo>
                  <a:pt x="14957" y="12254"/>
                  <a:pt x="14957" y="12262"/>
                  <a:pt x="14982" y="12254"/>
                </a:cubicBezTo>
                <a:cubicBezTo>
                  <a:pt x="15046" y="12200"/>
                  <a:pt x="15017" y="12230"/>
                  <a:pt x="15032" y="12154"/>
                </a:cubicBezTo>
                <a:cubicBezTo>
                  <a:pt x="14992" y="12165"/>
                  <a:pt x="14878" y="12244"/>
                  <a:pt x="14957" y="12278"/>
                </a:cubicBezTo>
                <a:cubicBezTo>
                  <a:pt x="14993" y="12293"/>
                  <a:pt x="15076" y="12219"/>
                  <a:pt x="15056" y="12179"/>
                </a:cubicBezTo>
                <a:cubicBezTo>
                  <a:pt x="15015" y="12179"/>
                  <a:pt x="14999" y="12171"/>
                  <a:pt x="15007" y="12204"/>
                </a:cubicBezTo>
              </a:path>
              <a:path w="1688" h="1415">
                <a:moveTo>
                  <a:pt x="15379" y="11584"/>
                </a:moveTo>
                <a:cubicBezTo>
                  <a:pt x="15392" y="11675"/>
                  <a:pt x="15309" y="11774"/>
                  <a:pt x="15280" y="11881"/>
                </a:cubicBezTo>
                <a:cubicBezTo>
                  <a:pt x="15280" y="11889"/>
                  <a:pt x="15280" y="11898"/>
                  <a:pt x="15280" y="11906"/>
                </a:cubicBezTo>
                <a:cubicBezTo>
                  <a:pt x="15397" y="11893"/>
                  <a:pt x="15458" y="11846"/>
                  <a:pt x="15453" y="11708"/>
                </a:cubicBezTo>
                <a:cubicBezTo>
                  <a:pt x="15451" y="11657"/>
                  <a:pt x="15390" y="11642"/>
                  <a:pt x="15354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2080" y="5072040"/>
            <a:ext cx="795240" cy="492120"/>
          </a:xfrm>
          <a:custGeom>
            <a:avLst/>
            <a:gdLst/>
            <a:ahLst/>
            <a:rect l="l" t="t" r="r" b="b"/>
            <a:pathLst>
              <a:path w="2209" h="1365">
                <a:moveTo>
                  <a:pt x="15652" y="14362"/>
                </a:moveTo>
                <a:cubicBezTo>
                  <a:pt x="15609" y="14491"/>
                  <a:pt x="15727" y="14321"/>
                  <a:pt x="15801" y="14312"/>
                </a:cubicBezTo>
                <a:cubicBezTo>
                  <a:pt x="15842" y="14320"/>
                  <a:pt x="15884" y="14329"/>
                  <a:pt x="15925" y="14337"/>
                </a:cubicBezTo>
                <a:cubicBezTo>
                  <a:pt x="15969" y="14638"/>
                  <a:pt x="15910" y="14918"/>
                  <a:pt x="15528" y="14957"/>
                </a:cubicBezTo>
                <a:cubicBezTo>
                  <a:pt x="15477" y="14907"/>
                  <a:pt x="15460" y="14889"/>
                  <a:pt x="15478" y="14833"/>
                </a:cubicBezTo>
                <a:cubicBezTo>
                  <a:pt x="15680" y="14699"/>
                  <a:pt x="15765" y="14743"/>
                  <a:pt x="15974" y="14858"/>
                </a:cubicBezTo>
                <a:cubicBezTo>
                  <a:pt x="16015" y="14878"/>
                  <a:pt x="16031" y="14897"/>
                  <a:pt x="16024" y="14858"/>
                </a:cubicBezTo>
              </a:path>
              <a:path w="2209" h="1365">
                <a:moveTo>
                  <a:pt x="16371" y="14213"/>
                </a:moveTo>
                <a:cubicBezTo>
                  <a:pt x="16471" y="14188"/>
                  <a:pt x="16517" y="14093"/>
                  <a:pt x="16644" y="14163"/>
                </a:cubicBezTo>
                <a:cubicBezTo>
                  <a:pt x="16854" y="14279"/>
                  <a:pt x="16552" y="14485"/>
                  <a:pt x="16470" y="14536"/>
                </a:cubicBezTo>
                <a:cubicBezTo>
                  <a:pt x="16447" y="14461"/>
                  <a:pt x="16598" y="14382"/>
                  <a:pt x="16694" y="14486"/>
                </a:cubicBezTo>
                <a:cubicBezTo>
                  <a:pt x="16888" y="14695"/>
                  <a:pt x="16620" y="14858"/>
                  <a:pt x="16446" y="14883"/>
                </a:cubicBezTo>
                <a:cubicBezTo>
                  <a:pt x="16344" y="14883"/>
                  <a:pt x="16313" y="14904"/>
                  <a:pt x="16297" y="14833"/>
                </a:cubicBezTo>
              </a:path>
              <a:path w="2209" h="1365">
                <a:moveTo>
                  <a:pt x="17413" y="14089"/>
                </a:moveTo>
                <a:cubicBezTo>
                  <a:pt x="17311" y="14097"/>
                  <a:pt x="17203" y="14117"/>
                  <a:pt x="17115" y="14139"/>
                </a:cubicBezTo>
                <a:cubicBezTo>
                  <a:pt x="17065" y="14152"/>
                  <a:pt x="17052" y="14304"/>
                  <a:pt x="17041" y="14362"/>
                </a:cubicBezTo>
                <a:cubicBezTo>
                  <a:pt x="17041" y="14387"/>
                  <a:pt x="17041" y="14395"/>
                  <a:pt x="17041" y="14412"/>
                </a:cubicBezTo>
                <a:cubicBezTo>
                  <a:pt x="17137" y="14412"/>
                  <a:pt x="17179" y="14337"/>
                  <a:pt x="17289" y="14337"/>
                </a:cubicBezTo>
                <a:cubicBezTo>
                  <a:pt x="17542" y="14337"/>
                  <a:pt x="17492" y="14631"/>
                  <a:pt x="17388" y="14759"/>
                </a:cubicBezTo>
                <a:cubicBezTo>
                  <a:pt x="17272" y="14900"/>
                  <a:pt x="17150" y="14858"/>
                  <a:pt x="16991" y="14858"/>
                </a:cubicBezTo>
              </a:path>
              <a:path w="2209" h="1365">
                <a:moveTo>
                  <a:pt x="17587" y="14808"/>
                </a:moveTo>
                <a:cubicBezTo>
                  <a:pt x="17552" y="14762"/>
                  <a:pt x="17559" y="14747"/>
                  <a:pt x="17537" y="14833"/>
                </a:cubicBezTo>
                <a:cubicBezTo>
                  <a:pt x="17527" y="14872"/>
                  <a:pt x="17581" y="14834"/>
                  <a:pt x="17611" y="14808"/>
                </a:cubicBezTo>
                <a:cubicBezTo>
                  <a:pt x="17619" y="14800"/>
                  <a:pt x="17628" y="14792"/>
                  <a:pt x="17636" y="14784"/>
                </a:cubicBezTo>
                <a:cubicBezTo>
                  <a:pt x="17602" y="14801"/>
                  <a:pt x="17534" y="14911"/>
                  <a:pt x="17636" y="14883"/>
                </a:cubicBezTo>
                <a:cubicBezTo>
                  <a:pt x="17706" y="14864"/>
                  <a:pt x="17698" y="14724"/>
                  <a:pt x="17611" y="14784"/>
                </a:cubicBezTo>
                <a:cubicBezTo>
                  <a:pt x="17611" y="14808"/>
                  <a:pt x="17611" y="14817"/>
                  <a:pt x="17611" y="14833"/>
                </a:cubicBezTo>
              </a:path>
              <a:path w="2209" h="1365">
                <a:moveTo>
                  <a:pt x="17587" y="15106"/>
                </a:moveTo>
                <a:cubicBezTo>
                  <a:pt x="17551" y="15165"/>
                  <a:pt x="17555" y="15206"/>
                  <a:pt x="17487" y="15255"/>
                </a:cubicBezTo>
                <a:cubicBezTo>
                  <a:pt x="17423" y="15301"/>
                  <a:pt x="17360" y="15343"/>
                  <a:pt x="17289" y="15379"/>
                </a:cubicBezTo>
                <a:cubicBezTo>
                  <a:pt x="17241" y="15403"/>
                  <a:pt x="17144" y="15425"/>
                  <a:pt x="17090" y="15404"/>
                </a:cubicBezTo>
                <a:cubicBezTo>
                  <a:pt x="17051" y="15389"/>
                  <a:pt x="17013" y="15372"/>
                  <a:pt x="16991" y="15354"/>
                </a:cubicBezTo>
                <a:cubicBezTo>
                  <a:pt x="16953" y="15323"/>
                  <a:pt x="16879" y="15205"/>
                  <a:pt x="16867" y="15156"/>
                </a:cubicBezTo>
                <a:cubicBezTo>
                  <a:pt x="16856" y="15112"/>
                  <a:pt x="16867" y="15053"/>
                  <a:pt x="16867" y="15007"/>
                </a:cubicBezTo>
                <a:cubicBezTo>
                  <a:pt x="16854" y="15071"/>
                  <a:pt x="16828" y="15150"/>
                  <a:pt x="16818" y="15205"/>
                </a:cubicBezTo>
                <a:cubicBezTo>
                  <a:pt x="16800" y="15303"/>
                  <a:pt x="16823" y="15263"/>
                  <a:pt x="16743" y="15329"/>
                </a:cubicBezTo>
                <a:cubicBezTo>
                  <a:pt x="16669" y="15391"/>
                  <a:pt x="16629" y="15393"/>
                  <a:pt x="16545" y="15429"/>
                </a:cubicBezTo>
                <a:cubicBezTo>
                  <a:pt x="16501" y="15448"/>
                  <a:pt x="16447" y="15467"/>
                  <a:pt x="16396" y="15453"/>
                </a:cubicBezTo>
                <a:cubicBezTo>
                  <a:pt x="16320" y="15433"/>
                  <a:pt x="16288" y="15422"/>
                  <a:pt x="16247" y="15354"/>
                </a:cubicBezTo>
                <a:cubicBezTo>
                  <a:pt x="16233" y="15331"/>
                  <a:pt x="16194" y="15232"/>
                  <a:pt x="16197" y="15205"/>
                </a:cubicBezTo>
                <a:cubicBezTo>
                  <a:pt x="16203" y="15155"/>
                  <a:pt x="16219" y="15112"/>
                  <a:pt x="16222" y="15056"/>
                </a:cubicBezTo>
                <a:cubicBezTo>
                  <a:pt x="16223" y="15034"/>
                  <a:pt x="16211" y="14962"/>
                  <a:pt x="16197" y="14957"/>
                </a:cubicBezTo>
                <a:cubicBezTo>
                  <a:pt x="16191" y="14955"/>
                  <a:pt x="16152" y="15027"/>
                  <a:pt x="16148" y="15032"/>
                </a:cubicBezTo>
                <a:cubicBezTo>
                  <a:pt x="16208" y="15015"/>
                  <a:pt x="16198" y="15025"/>
                  <a:pt x="16222" y="14957"/>
                </a:cubicBezTo>
                <a:cubicBezTo>
                  <a:pt x="16222" y="14949"/>
                  <a:pt x="16222" y="14940"/>
                  <a:pt x="16222" y="14932"/>
                </a:cubicBezTo>
                <a:cubicBezTo>
                  <a:pt x="16151" y="14953"/>
                  <a:pt x="16160" y="14958"/>
                  <a:pt x="16123" y="15032"/>
                </a:cubicBezTo>
                <a:cubicBezTo>
                  <a:pt x="16204" y="15112"/>
                  <a:pt x="16314" y="15075"/>
                  <a:pt x="16297" y="14932"/>
                </a:cubicBezTo>
                <a:cubicBezTo>
                  <a:pt x="16284" y="14824"/>
                  <a:pt x="16144" y="14906"/>
                  <a:pt x="16148" y="15007"/>
                </a:cubicBezTo>
                <a:cubicBezTo>
                  <a:pt x="16156" y="15032"/>
                  <a:pt x="16165" y="15056"/>
                  <a:pt x="16173" y="15081"/>
                </a:cubicBezTo>
                <a:cubicBezTo>
                  <a:pt x="16181" y="15081"/>
                  <a:pt x="16189" y="15081"/>
                  <a:pt x="16197" y="15081"/>
                </a:cubicBezTo>
                <a:cubicBezTo>
                  <a:pt x="16221" y="15050"/>
                  <a:pt x="16342" y="14828"/>
                  <a:pt x="16173" y="14883"/>
                </a:cubicBezTo>
                <a:cubicBezTo>
                  <a:pt x="16081" y="14913"/>
                  <a:pt x="16157" y="15012"/>
                  <a:pt x="16173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14800" y="634032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9079" y="17611"/>
                </a:moveTo>
                <a:cubicBezTo>
                  <a:pt x="9031" y="17618"/>
                  <a:pt x="8992" y="17635"/>
                  <a:pt x="8954" y="17661"/>
                </a:cubicBezTo>
                <a:cubicBezTo>
                  <a:pt x="8920" y="17684"/>
                  <a:pt x="8930" y="17789"/>
                  <a:pt x="8930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Homework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Finish the Fraction/Decimal/Percents Workshe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1:02:49Z</dcterms:created>
  <dc:creator>Brian McGrath</dc:creator>
  <dc:description/>
  <dc:language>en-US</dc:language>
  <cp:lastModifiedBy>deanne e mcgrath</cp:lastModifiedBy>
  <dcterms:modified xsi:type="dcterms:W3CDTF">2011-10-07T19:21:35Z</dcterms:modified>
  <cp:revision>5</cp:revision>
  <dc:subject/>
  <dc:title>PowerPoint Presentation</dc:title>
</cp:coreProperties>
</file>